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49B-1F75-41FB-A110-BB04B38B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7C6-B907-4E64-AAE1-71031D03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856-D704-49F0-BB55-128A8505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A2E-69FA-4CD1-9FCB-A094928E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DDA1-F88B-43B1-BA0D-2A45B132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595F-BD71-4F18-A12B-35F42F81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E04F-E746-4959-AF4B-DADC1D43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56E1-D15B-4819-842B-5F9C1D19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BCC1-5541-4F88-97AF-E0677D72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01FF-0A11-48F9-AE7C-B08CD0C1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59DE-8C17-4024-86A4-4080BF0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EC5-5A47-4735-8368-4D396F1D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D335-FAB5-42DC-9AB7-21BFB46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51EF-D0F0-429D-BAC6-5B2EC0A8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66F6-75C5-4151-92C0-EA667CD8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1115-7956-4CB1-8794-587AE798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700B-9AC7-4AB5-A41F-9F1B21AE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DF5-3AC4-4053-AA36-91D1B13A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CB8-0D65-4AF0-831C-60AB6BE5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687-715A-4D55-8486-D21A9D9F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329-3929-4C6B-A81D-A3E7A3B3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82A-39AD-4E28-B30D-CD2EAE7C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290-E0E3-48D7-B2D2-85E7F725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57B-46EC-431A-8DAE-F3DB64B3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E76B-71FB-4AFC-A8DD-D4518200F8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24D4-1A18-4848-A181-0C77084218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377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Главный город Дании — 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Копенгаге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 — был основан примерно в 12 веке, а статус столицы получил в 15 столетии. Это самый крупный порт королевства, а также культурный и экономический центр. Расположен Копенгаген на острове Зеландия, на берегу пролива Эресунн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 стране высоко развит воздушный, автомобильный и железнодорожный транспорт. Берега разделенной Дании соединяют паромы и мосты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273480" cy="480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3886200" y="3048120"/>
            <a:ext cx="4952880" cy="3605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228600" y="106668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ресуннский мост – комбинированный автомобильно-железнодорожный мост, соединяющий Данию и Шве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886200" y="2209680"/>
            <a:ext cx="487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ост Большой Бельт – висячий мост в Дании, третий в мире по длине пролета, соединяет острова Фюн и Зеланд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514600"/>
            <a:ext cx="76197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СПАСИБО ЗА ВНИМ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торой по величине и количеству жителей город Дании — Орхус, известный тем, что в его предместьях находится летняя резиденция датской королевы. Расположен Орхус на восточном побережье Ютландии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Оденс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, третий по величине город Дании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Оденсе был основан викингами в 988 г., о чем напоминает название, данное ему в честь кельтского бога Одина.</a:t>
            </a: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6" name="Picture 6" descr="2009-2 (8)"/>
          <p:cNvPicPr/>
          <p:nvPr/>
        </p:nvPicPr>
        <p:blipFill>
          <a:blip r:embed="rId1"/>
          <a:stretch/>
        </p:blipFill>
        <p:spPr>
          <a:xfrm>
            <a:off x="4572000" y="3352680"/>
            <a:ext cx="4419720" cy="294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34340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5374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денсе знают все, кто любит творчество Ганса Христиана Андерсена. Здесь он родился два столетия назад и прожил большую часть жизни. Об этом на каждом шагу напоминают скульптуры героев сказок Андерсена. 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70559309_Snimok"/>
          <p:cNvPicPr/>
          <p:nvPr/>
        </p:nvPicPr>
        <p:blipFill>
          <a:blip r:embed="rId1"/>
          <a:stretch/>
        </p:blipFill>
        <p:spPr>
          <a:xfrm>
            <a:off x="228600" y="1992240"/>
            <a:ext cx="4800600" cy="432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русалочка"/>
          <p:cNvPicPr/>
          <p:nvPr/>
        </p:nvPicPr>
        <p:blipFill>
          <a:blip r:embed="rId2"/>
          <a:stretch/>
        </p:blipFill>
        <p:spPr>
          <a:xfrm>
            <a:off x="5257800" y="1828800"/>
            <a:ext cx="3740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9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Датская автономия 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Гренландия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 — одно из самых интересных мест на земле. Большая часть острова покрыта вечными льдами, а там, где проглядывает земля, живут люди. На огромной территории острова проживает всего 55 тысяч человек, поскольку эта часть суши практически не предназначена для жизни, но прекрасно подходит для полярных животных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4038840" cy="391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47246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Хорошо развиты традиционные отрасли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• пищевая промышленность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• рыболовство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• судостроение 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6" descr="Shipyard at Fredericia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Первый в мире Леголенд. Открыт в 1968 г. на полуострове Ютландия, в городе Биллунд. Леголенд – это тематические парки развлечений, построенные почти что целиком из конструкторов </a:t>
            </a: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LEGO</a:t>
            </a: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0592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каген – это самая северная точка Дании, здесь встречаются Балтийское и Северное моря, два встречных течения этих морей не могут слиться воедино, т.к. у них разная плотность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5" descr="Скаген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613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ahoma"/>
              </a:rPr>
              <a:t>Луйтла-Дуймун – самый маленький из 18 Фарерских островов, расположенных между Шотландией и Исландией. Площадь острова –  0,8 кв.км, наивысшая точка - гора Раван высотой 414 метров. Остров необитаем, за исключением тех нередких случаев, когда его опоясывают облака или оседают сверху, в виде шапки.</a:t>
            </a: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5" descr="471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2-11-04T19:11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