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122-7610-4256-843E-3F04206D8E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481-2A0A-4643-879E-354AF80A8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615-C0F1-4A1B-81B3-A2E8CA8F2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E38-6216-4BF3-A0FC-7DAC06E7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9C3-3CAA-46E1-8F62-3A1E9BA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FD5-D8C3-4AB9-B35C-76CDB567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CD2-D517-43FF-99EF-6E5A4E9C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44F1-F5D6-4D1F-8EC0-2A44D631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76E-CE86-4F5F-B548-31FD870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3220-CEA5-427E-ABB9-5BA1B13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708E-0677-455A-BE54-A9E7CF58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F0C7-4DE9-4BC7-884F-77AFC2C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C42-8DFD-423B-A802-140AC50E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588-D8C6-41F4-A5CB-3EBB485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9A6-632A-41AE-A5E9-E277739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597-16EF-4C11-AB9C-3A72DC2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EF7-19AF-4282-8C54-AC83B137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04B-6875-45F4-8404-83A4C525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C9F9-4889-4C61-8C1C-81F9F950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938-445A-4B9A-970B-CD6B3388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516E-1ACA-4E87-B717-548BB07A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2108-A192-42B3-97B6-B9A68B62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400F-D4F8-43E9-984F-17221FC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1709-348F-4F7F-A5CC-DF5475A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5F29-2BE7-44E8-8BCB-A0CB697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65E-2C28-47AA-AF48-77A15840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49F6-B30B-43AD-8B1B-56E29B40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649B-677F-461F-8719-0126264C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F6DA-04F0-4B1A-BA33-3E8A2EB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C0CD-FD2F-48EB-918F-2F11AE6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581B-27BA-4C73-BC6E-99C3E9A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F619-1228-4774-A047-EB001DD8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1BB9-67F0-4876-B4CE-B4921D8B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8DB9-743E-4002-BC56-A928604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F94A-A0CD-4857-9765-2CA44EB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8694-9C8D-46C5-959D-32BA324A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578-8052-4539-B190-44126D6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7270-D786-485F-A344-019806A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3952-0B42-4148-8659-DD9E22B8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28F1-022C-4793-927F-E2B2F91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8C73-77B9-457C-A716-29A9699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C1D0-44A4-42C7-9324-3A1D884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68CC-8D87-4223-A0DF-5991612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D633-E912-49BB-A865-E8FA7AAF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8A32-C02F-43D9-B0B7-10C749B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2518-9E8C-4E12-8E9F-C8856F78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B21F-F855-4021-B800-9E679DF9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6C9-822D-482C-B8F0-B94DAED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E548E-5A44-4C6A-8EB1-A18468C4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512C-29FD-4EB9-94D5-967E798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F5C7-CC0F-4ECD-8BB6-F4A1809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72330-50F7-4CF6-B326-4516E8F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D263-C560-408B-BBAD-59210396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12CC-43CC-4C6E-9C58-F9C9F09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6401-7FBA-4534-A72D-A1C930E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6230-F6B5-4344-8A42-8799D85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D583-C930-41BC-8131-5CFBF712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CFB3-20D7-493B-A307-2EAFB62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85F-D2E5-4B47-BE97-D4CC61B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D122-2B99-4F7E-A3BA-8C655A34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9B0-8499-49B0-886D-2AF802DA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93D-A9B7-4063-8CE2-2DCDCA8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5B4-08E5-40A7-BE07-F206154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CD1-BB58-45BB-9ECB-17B1C6E2AA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DB28-DAC3-4773-9ED7-19CAD758CA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28F-DF0D-4425-BD45-FE492C5444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0E4-4D49-4086-9811-F14D74AD82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996-FE83-494C-9195-7D333E1815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Verdana"/>
              </a:rPr>
              <a:t>Семинар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Роль учителя в создании оптимальной организации учебного пространства на уро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691920"/>
            <a:ext cx="81835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Учитель не должен спрашивать учеников – поняли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его или нет, а должен читать это по их лицам и понимать: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2708280"/>
            <a:ext cx="8183520" cy="316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на уроке создана установка быть внимательны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использованы внешние особенности наглядного материала для привлечения внимания учащихся (яркость, новизна, структурирование и пр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организована смена видов деятельности на урок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учитываются возрастные особенности внимания школьни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организована активность учащихся на уро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•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организована деятельность детей, у которых наблюдаются стойкие недостатки вним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1125360"/>
            <a:ext cx="8183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Личностные критерии успешности учителя</a:t>
            </a:r>
            <a:br>
              <a:rPr sz="32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2420640"/>
            <a:ext cx="8183520" cy="287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Эмоциональнос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ыразительность реч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ворческое начало лич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Чувство юмо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Настойчивость, дисциплинированнос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Цель: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наиболее значимых критериев успешности педагогической деятельности для конкретного педагогического коллектива 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14972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снове анализа психолого-методической литературы рассмотреть труд учителя как трехмерное взаимосвязанное пространств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ь факторы, влияющие на успешность работы учител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общить учителей к самоанализу и самодиагност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30280"/>
            <a:ext cx="8183520" cy="491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читель – это человек, который учится всю жизнь, только в этом случае он обретает право учи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Лизинский В. М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Verdana"/>
              </a:rPr>
              <a:t>Результатами работы любого учителя являются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Verdana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ния, умения и навы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питан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оровье и тесно с ним связанное    психическое состояние наших уча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Условно все критерии можно разделить на три групп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8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едагогические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сихологические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ичност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83664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00b050"/>
                </a:solidFill>
                <a:latin typeface="Verdana"/>
              </a:rPr>
              <a:t>Педагогические критерии</a:t>
            </a: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ровень обученности наших учеников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ровень сформированности общеучебных умений и навыков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стояние исследовательской работы и работы по самообразованию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ние педагогов и повышение квалификаци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пособность к самоанализу, рефлекси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новационная деятельность.</a:t>
            </a:r>
            <a:r>
              <a:rPr b="1" lang="ru-RU" sz="26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907560"/>
            <a:ext cx="81835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стояще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– писал в свое время Добролюбов, – это такое образование, которое заставляет определить свое отношение ко всему окружающему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шинский писал, что «недостаточно понять слова, недостаточно понять даже мысли и чувства, в них заключенные;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ужно, чтобы эти мысли и эти чувства стали внутренне определяющими личнос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Психологические критерии успешности учител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2421000"/>
            <a:ext cx="8183520" cy="316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натель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оотношения в системе       «учитель – ученик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т индивидуальных особенностей учени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ес, мот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8:25:44Z</dcterms:created>
  <dc:creator>ЗавУЧ</dc:creator>
  <dc:description/>
  <dc:language>en-US</dc:language>
  <cp:lastModifiedBy>ЗавУЧ</cp:lastModifiedBy>
  <dcterms:modified xsi:type="dcterms:W3CDTF">2010-10-14T10:18:12Z</dcterms:modified>
  <cp:revision>2</cp:revision>
  <dc:subject/>
  <dc:title>Деловая игра</dc:title>
</cp:coreProperties>
</file>