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553-6AB7-47DE-A56E-F82DF54A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7F1-41DD-4F82-A5AF-211E703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BDE-202E-43A0-AC36-15B9E9A3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355-6737-444B-8233-7091FB4C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7B5F-70FC-4F1F-8471-E6BB00E2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5933-5C53-40D4-9E5E-E2C6982E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688-04ED-4936-8CED-523F7B7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CDA-1090-4844-BFBC-6807A356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76B2-4450-4577-922D-B309F33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FC0-FA5A-40E6-B8C5-289CA7A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FBE0-763D-424B-96CA-FE5F855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2A7-E92E-440D-B94F-52B6B6F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93D3-3BF8-4C98-BCFF-6BD511D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847-6E7C-4048-A758-FFE1DB5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1EE4-9391-49CF-ADE3-F5C1EB5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BA8E-C89B-43F8-AA7C-006AF727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1041-2B01-4968-9E9A-5BF98AE1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6E5-E5FA-49B0-8CE6-41BA19C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531-C007-4046-AEE1-5866075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689-1D8A-4A52-BE96-FCE8F36F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23E-FDB9-4322-95D2-9911E10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7D1-FE24-48C3-B541-F93BF27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D70-9709-419C-8F39-46C214C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8DE-F0A9-4526-A15F-C394573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6F94-D297-4737-8349-85CFF818CA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20D5-787E-4C90-833A-028E585809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Рованием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– город, расположившийся прямо на Полярном круге – заслуженно считается одним из лучших центров зимнего спорта в Финляндии. Самая интересная достопримечательность региона - «Санта Парк» – тематический рождественский развлекательный центр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1622520"/>
            <a:ext cx="82296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Рованием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– родина Санта Клауса. Город с населением 35 000 жителей – столица Лапландии.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672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овинция Аланд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относясь к территории Финляндии, имеет, однако, свое собственное внутреннее самоуправление, свой флаг и свою культуру. Население архипелага составляет примерно 25 тысяч человек, расселившееся на 6400 автономных островах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1477800"/>
            <a:ext cx="80773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Турку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известен как финский город Рождества. Каждый год в течении нескольких недель городом правит Санта, он также отвечает за все празднества и события, отмечаемые в этот период. Ежегодно здесь провозглашается Декларация Рождественского Мира.</a:t>
            </a: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лавной достопримечательностью города является средневековый замок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зеро Сайма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(Saimaa) общей площадью 4 460 к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самое крупное озеро на территории Финляндии и четвертое по величине озеро в Европе. Глубина озера до 82 м.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уми-Мир – несомненно, одна из самых привлекательных семейных достопримечательностей в Финляндии. Этот тематический парк развлечений основан на сюжетах популярных детских книг Туве Янссен, и располагается на красивом острове Кайло, соединённым с основной землёй помостом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арк Дикой природы 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ану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Главная идея и цель Парка Дикой природы – предоставить гостям, возможность наблюдать скандинавских и арктических животных в их самой естественной окружающей среде в течение всего года.</a:t>
            </a:r>
            <a:r>
              <a:rPr b="1" lang="ru-RU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428840"/>
            <a:ext cx="815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лярное сияние в Финляндии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мышленность и сельское хозяйство  Финляндии</a:t>
            </a:r>
            <a:br>
              <a:rPr sz="28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есобумажная промышленность по уровню технической оснащенности занимает одно из ведущих мест в мире. Финляндия производит 5% мирового выпуска продуктов из древесины, на ее долю приходится 15% мировой торговли бумаго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еталлообрабатывающая промышленность Финляндии производит суда, в том числе для арктического судоходства, машины и оборудование, промышленную автоматику, железнодорожный подвижной состав, автомобил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Сельское хозяйство Финляндии вместе с пищевой промышленностью представляют единую цепь переработки сельскохозяйственной продукции и производства продуктов питания. В основном молочно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Другие отрасли сельского хозяйства представлены тепличным производством, звероводством, рыбоводством и рыболовством.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нляндия (финское название Суоми) — самая северная страна Европ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севера на юг она протянулась н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6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км, с востока на запад - н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км.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441972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нляндия расположена на севере Европы, значительная часть её территории находится за Северным полярным кругом (25 %)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раничит на востоке с Россией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северо-западе — со Швецие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севере — с Норвегией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юге и западе берега страны омывают воды Балтийского моря и его заливов — Финского и Ботнического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лица — Хельсинки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4240" y="20520"/>
            <a:ext cx="437976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88620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ледникового периода горы здесь были выше, чем современные Альпы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ники срезали горы, оставив после себя гранитные глыбы и сотни тысяч водоемов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408480"/>
            <a:ext cx="5334120" cy="3449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86400" y="3733920"/>
            <a:ext cx="3657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ерритории Финляндии насчитывается 187 888 озер и 179 584 острова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ой покрыто 10% площади, 69% территории занимают леса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 увлажненных склонах и по речным долинам растет ель, в сухих местах — сосна. На юго-западе — липа, дуб, клен, вяз, яс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лимат умеренный. Несмотря на северное положение, Финляндия испытывает отепляющее воздействие Атлантики. В течение года в стране преобладают западные ветры с частыми циклонами. Средние температуры всех сезонов гораздо выше, чем в более восточных районах на тех же широтах. Зимы холодные. Осадки на протяжении всего года.</a:t>
            </a: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071800"/>
            <a:ext cx="8458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инляндии для 93% населения родной язык — финский, для 6,5 % — шведский. Финны составляют компактное большинство населения почти на всей территории страны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598760"/>
            <a:ext cx="70102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5222880" cy="4756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imes New Roman"/>
              </a:rPr>
              <a:t>Денежная единица Финляндии — евро. 1 евро = 100 центов. В обороте находятся банкноты достоинством в 5, 10, 20, 50, 100, 200, 500 евро, монеты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505320" cy="1862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3505320" cy="1792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876920"/>
            <a:ext cx="35053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Хельсинк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уникальный представитель городов Северной Европы, столица Финляндской Республики, современный город с более чем полумиллионным населением, расположенный на берегу Балтийского моря. Будучи самым оживленным портом страны, он расположился не только на материке, но и на многочисленных прибрежных островах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38680" y="838080"/>
            <a:ext cx="32767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Кем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– известен в первую очередь самым большим снежным замком в мире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Достопримечательности Финляндии (6 фото)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152280"/>
            <a:ext cx="5257800" cy="3700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3959280"/>
            <a:ext cx="5486400" cy="2898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572000"/>
            <a:ext cx="3429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есь находится  единственный в мире туристический ледоко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1-04T19:15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