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919D-BC4D-4529-B74D-CB28BBB1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61CB-B190-43AB-887E-7A9638C1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F597-0342-45EC-AF21-462086A7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BEDC-7002-4192-91C5-632D89CA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B012-8BDD-423B-8CD2-1F6210EB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D58C-F8AA-4E01-A23F-858E44E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7E38-71F7-4DF0-8DF9-976450D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A8A-4F78-420F-AD6C-18D2E1CA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EA7D-1D57-4DC9-A2FB-D14EF1D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1B28-6543-4EB1-A5A2-762EFE4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880-9CCA-404E-8D43-9A19822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4B00-8AF7-42B6-A788-00D9819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CB1-25E0-4D3A-94E9-D6CBBAE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41BA-7D4E-4D51-BD65-B28F0B2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9F7-F666-4008-B6B8-96A065F7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B2D-795C-40AB-BDFF-D34F7BFD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128-D0FA-4CF0-8135-B7417A81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19F5-1915-49CB-A737-86B1655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BEC6-FC2E-4C53-9129-326AEDDD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C313-F1A5-4D21-A2A4-5244CEF7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2E09-F25D-4CD4-8D7E-EFA38EAD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161D-0FC9-4E73-850C-6257B20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E8D3-94A3-4115-8865-5BD8E08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151E-0FBD-4B67-814F-C9C66772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55F-8769-4067-8DEF-FB1DE5C09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B189-AE3A-44F6-9457-569C8D5641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имская кухн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520" y="38088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гредиенты для "Салат "Каникулы в Риме""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Cалат рукколл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мидор — 2 ш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емга слабосоленая — 150 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имон — 1 ш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пельсин — 1 ш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ыр твёрдый — 100 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ехи кедровые — 100 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орчица — 1 ст. 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снок— 3 зуб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елень — 1 пуч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сло оливково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ксус вин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ц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алат ромэ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алат айсбер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кинская капус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17" descr="1324288629_283788_33"/>
          <p:cNvPicPr/>
          <p:nvPr/>
        </p:nvPicPr>
        <p:blipFill>
          <a:blip r:embed="rId1"/>
          <a:stretch/>
        </p:blipFill>
        <p:spPr>
          <a:xfrm>
            <a:off x="685800" y="350532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515436"/>
          <p:cNvPicPr/>
          <p:nvPr/>
        </p:nvPicPr>
        <p:blipFill>
          <a:blip r:embed="rId2"/>
          <a:stretch/>
        </p:blipFill>
        <p:spPr>
          <a:xfrm>
            <a:off x="762120" y="380880"/>
            <a:ext cx="4190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нецианская кухн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Письма из Венеци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цеп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льшие куски телятины (отбивные) 5 ш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рмезан 300г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рчица Дижонская 100г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зилик красный 0.5 пуч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ц черный, смесь итальянских трав, соль и соевый соус по вкус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ус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ук репчатый 1 ш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идоры 5 ш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ц болгарский 1.5 ш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ста томатная 2 ч.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ука 2 ст.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сло сливочное 100г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ц черный, смесь итальянских трав, соль и соевый соус по вкус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33" descr="1"/>
          <p:cNvPicPr/>
          <p:nvPr/>
        </p:nvPicPr>
        <p:blipFill>
          <a:blip r:embed="rId1"/>
          <a:stretch/>
        </p:blipFill>
        <p:spPr>
          <a:xfrm>
            <a:off x="4800600" y="11430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4" descr="italy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e5ff"/>
                </a:solidFill>
                <a:latin typeface="Dotum"/>
              </a:rPr>
              <a:t>Туринская кухн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гредиенты для "Кофе по-турински "Bicerin""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локо — 250 м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околад темный (или горький; поломанный на небольшие кусочки) — 90 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фе (крепкий, свежесваренный (эспрессо)) — 200 м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ивки (33%-35%; взбиты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околад (стружка; по желанию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33" descr="bicerin"/>
          <p:cNvPicPr/>
          <p:nvPr/>
        </p:nvPicPr>
        <p:blipFill>
          <a:blip r:embed="rId1"/>
          <a:stretch/>
        </p:blipFill>
        <p:spPr>
          <a:xfrm>
            <a:off x="4343400" y="685800"/>
            <a:ext cx="4800600" cy="31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1324288629_283788_33 (1)"/>
          <p:cNvPicPr/>
          <p:nvPr/>
        </p:nvPicPr>
        <p:blipFill>
          <a:blip r:embed="rId2"/>
          <a:stretch/>
        </p:blipFill>
        <p:spPr>
          <a:xfrm>
            <a:off x="4419720" y="3733920"/>
            <a:ext cx="4724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ланская кух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нгредиенты для "Шницель куриный по-милански"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Филе куриное — 800 г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ук репчатый — 1 ш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мидор (томаты в собственном соку, 400 г) — 1 б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ино белое — 100 г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Яйцо — 2 ш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локо — 80 м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ыр твердый (Пармезан) — 100 г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хари панировочны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азилик (свежий или сушеный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сло растительное (для жарки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оль (по вкусу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ец черный (по вкусу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пагетти (или любые другие макаронные изделия, на гарнир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14" descr="389472"/>
          <p:cNvPicPr/>
          <p:nvPr/>
        </p:nvPicPr>
        <p:blipFill>
          <a:blip r:embed="rId1"/>
          <a:stretch/>
        </p:blipFill>
        <p:spPr>
          <a:xfrm>
            <a:off x="4114800" y="762120"/>
            <a:ext cx="5029200" cy="302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1324288629_283788_33"/>
          <p:cNvPicPr/>
          <p:nvPr/>
        </p:nvPicPr>
        <p:blipFill>
          <a:blip r:embed="rId2"/>
          <a:stretch/>
        </p:blipFill>
        <p:spPr>
          <a:xfrm>
            <a:off x="4191120" y="38098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ухня Неапо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нгредиенты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аклажаны - 2 шт. крупных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омидоры - 3 шт.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ыр твердый, острый - 150 гр.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Яйца - 4 шт.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айонез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еснок - 2-3 зубочк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пособ приготовления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аклажаны проткнуть вилкой в нескольких местах и запечь в духовке. Обдать холодной водой, снять кожуру, нарезать кубиками и посолить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омидоры надрезать крестиком, поместить в кипяток на 30 сек. и снять кожицу. Нарезать кубиками, посолить и выложить на дуршлак, чтобы стекла жидкость (периодически трясти)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Яйца нарезать кубиками, сыр - на крупной терке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майонез выдавить чеснок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кладываем слоями, каждый слой смазываем майонезом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 Баклажан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Сыр (половина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Помидор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 Яйц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5. Сы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salat-neapol_2"/>
          <p:cNvPicPr/>
          <p:nvPr/>
        </p:nvPicPr>
        <p:blipFill>
          <a:blip r:embed="rId1"/>
          <a:stretch/>
        </p:blipFill>
        <p:spPr>
          <a:xfrm>
            <a:off x="647640" y="1600200"/>
            <a:ext cx="365616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taly"/>
          <p:cNvPicPr/>
          <p:nvPr/>
        </p:nvPicPr>
        <p:blipFill>
          <a:blip r:embed="rId2"/>
          <a:stretch/>
        </p:blipFill>
        <p:spPr>
          <a:xfrm>
            <a:off x="685800" y="3938760"/>
            <a:ext cx="3581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ухня Палерм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гредиенты для "Салат "Палермо""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рица (Куриная грудка, жареная) — 400 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мидоры — 400 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нанас (консервированный, небольшая банка) — 1 ба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сло (лучше оливковое) — 2 ст. 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ксус (бальзамический,или натуральный яблочный) — 1 ч. 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ц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11" descr="160811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04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324288629_283788_33 (1)"/>
          <p:cNvPicPr/>
          <p:nvPr/>
        </p:nvPicPr>
        <p:blipFill>
          <a:blip r:embed="rId2"/>
          <a:stretch/>
        </p:blipFill>
        <p:spPr>
          <a:xfrm>
            <a:off x="4191120" y="335268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58:04Z</dcterms:created>
  <dc:creator>Artem</dc:creator>
  <dc:description/>
  <dc:language>en-US</dc:language>
  <cp:lastModifiedBy>Artem</cp:lastModifiedBy>
  <dcterms:modified xsi:type="dcterms:W3CDTF">2012-06-13T14:14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