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3F1-728A-4F33-AE2C-0E53E5F3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4C8-72DB-4292-A382-1FB23CFE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5E4-D14B-4AE0-AFAB-78282E47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8BA-4B5E-49A9-AC50-1C8640DD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6DD3-D685-43DA-8217-22522F55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3D71-2D4F-4B6E-A97F-0CA519E8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B25F-F344-470A-B334-9E01563F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26B3-C196-431E-AD3E-BDBAF2BF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5B5E-A2C2-494B-901F-35942843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3A9C-A0BC-45BC-A336-35993943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26B8-5EE7-4BAD-98E1-DED2E2BB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000-5900-41D5-A9ED-552E0F29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EB68-1F2B-4935-9E09-5B7EECFB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06EF-4692-4CA4-966A-4BB2B19D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66CE-BC90-463F-9439-4BC7DE01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0D2A-EDE4-45FC-8574-394C790D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F73D-F6AF-4853-9E62-668AB3B8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F9B-532F-41B3-8EA8-D24A072B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DDF-E35E-4197-8451-CE89B26A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53C-ACEF-4F7A-9FB7-262EEEA7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886-51F7-4563-BD74-25F416C0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B66-D644-400C-BA93-46894FDB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3C2-832F-4115-A4A9-E7434F4F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EE1-DB98-4A88-8626-88F1ED32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75EE-F908-490C-AA4F-4A1FBF108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CDD9-5089-4DDF-9CA6-136BA9AB0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Britannic Bold"/>
              </a:rPr>
              <a:t>Итоговый тест по окружающему миру</a:t>
            </a:r>
            <a:br>
              <a:rPr sz="5400"/>
            </a:br>
            <a:r>
              <a:rPr b="0" lang="en-US" sz="5400" spc="-1" strike="noStrike">
                <a:solidFill>
                  <a:srgbClr val="006600"/>
                </a:solidFill>
                <a:latin typeface="Britannic Bold"/>
              </a:rPr>
              <a:t>2 класс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47640" y="249228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Программ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Начальная школа 21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9120" y="3860640"/>
            <a:ext cx="40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Verdana"/>
              </a:rPr>
              <a:t>Учитель: Форсова Е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9. О каком растение идёт речь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небольшое травянистое растение высотой 10-25 см. Название оно получило благодаря своим листьям, нижняя поверхность которых тёплая, бархатистая, и ее сопоставляют с матерью, а верхняя холодная, гладкая. Зацветает растение ранней весной, ещё до появления листь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0. Укажите, что необходимо для жизни растений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800748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ясо, фрукты, овощ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ыба, овощи, мяс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, воздух, вод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сло, кисель, дожд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1. Что это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2421000"/>
            <a:ext cx="80074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шистая снежная бахрома на веточках деревьев, провод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12. Укажите группу, в которой перечислены животные, впадающие на зиму в спячку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800748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лка, лисица, овца, белый медвед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рсук, выдра, волк, тюлен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репаха, жираф, лев, заяц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ёж, бурый медведь, божья коровка, лягуш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13. Укажите группу, в которой перечислены только </a:t>
            </a:r>
            <a:r>
              <a:rPr b="1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млекопитающие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.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636640"/>
            <a:ext cx="80074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шка, курица, жираф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бочка, стрекоза, мурав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репаха, крокодил, осьмино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импанзе, собака, лошад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4. Закончи предложени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вотные, у которых шесть ног, называются 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вотные, тело которых покрыто перьями, называются 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вотные, тело которых покрыто шерстью, называются 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дные животные, тело которых покрыто чешуёй, называются 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5. Укажите о каком животном идёт речь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рагов у этого зверя достаточно много, а вот прятаться от них зверёк не умеет. Выручают его нос и чуткие уши, от врагов спасают быстрые ноги и неприметная шубка. Глаза у зверя «косые» - видят не только вперед и в стороны, но и даже немного назад смотрят. Понапрасну этот зверек головой не крутит, потому что уши у него могут поворачиваться в разные стороны. Осенью зверёк линяет: из серого в снежно-белого превращает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6.  Что случается с пчелой после того, как она укусит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28464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7.  Назовите природный водоём со стоячей водо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8. Найдите </a:t>
            </a:r>
            <a:r>
              <a:rPr b="1" lang="en-US" sz="3600" spc="-1" strike="noStrike" u="sng">
                <a:solidFill>
                  <a:srgbClr val="ffffb7"/>
                </a:solidFill>
                <a:uFillTx/>
                <a:latin typeface="Arial Black"/>
              </a:rPr>
              <a:t>ядовитый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гриб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2421000"/>
            <a:ext cx="800748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сич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хом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слён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9. Укажите </a:t>
            </a:r>
            <a:r>
              <a:rPr b="1" lang="en-US" sz="3600" spc="-1" strike="noStrike" u="sng">
                <a:solidFill>
                  <a:srgbClr val="ffffb7"/>
                </a:solidFill>
                <a:uFillTx/>
                <a:latin typeface="Arial Black"/>
              </a:rPr>
              <a:t>естественный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водоё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800748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на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у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дохранилищ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. Как называются изменения, происходящие в природе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748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вления погод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вления природ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езонные явления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уточные я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20. Как ты должен поступить, увидев в лесу незнакомое растение с ягодами? 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8007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пробовать на вкус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рвать и принести дом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трогать раст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21. Что </a:t>
            </a:r>
            <a:r>
              <a:rPr b="1" lang="en-US" sz="3600" spc="-1" strike="noStrike" u="sng">
                <a:solidFill>
                  <a:srgbClr val="ffffb7"/>
                </a:solidFill>
                <a:uFillTx/>
                <a:latin typeface="Arial Black"/>
              </a:rPr>
              <a:t>нельзя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делать на балконе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0074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шать бельё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ходить на балк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ешиваться с балко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22. Укажите предмет, которым могут пользоваться все члены семьи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636640"/>
            <a:ext cx="80074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отенц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чёс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убная щёт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ампун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2. Укажите предметы, которые относятся к неживой природе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748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левиз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рандаш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зду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екл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т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3. Укажите, что относится к живой природе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748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ыб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ла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тиц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еком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доё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м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4. Как называется твёрдое состояние воды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2491920"/>
            <a:ext cx="800748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не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ё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5. Как называются растения, у которых мягкие сочные стебли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2708280"/>
            <a:ext cx="800748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старни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е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6. Укажите растение, которое относится к кустарника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тения, у которых от корня отходит один толстый стебель – ство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тения, у которых стебли мягкие и соч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тения, у которых один стебель твердый и одревесневш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тения, у которых несколько довольно тонких стеблей-ствол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7. Укажите группу, в которой перечислены только </a:t>
            </a:r>
            <a:r>
              <a:rPr b="1" lang="en-US" sz="3600" spc="-1" strike="noStrike" u="sng">
                <a:solidFill>
                  <a:srgbClr val="ffffb7"/>
                </a:solidFill>
                <a:uFillTx/>
                <a:latin typeface="Arial Black"/>
              </a:rPr>
              <a:t>деревья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80074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еробой, ромашка, клё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русника, черника, голуб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ябина, яблоня, сос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жжевельник, смородина, пи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8. Укажите растение, которое является кустарнико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800748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рен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блон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локольчи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мид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1:28:14Z</dcterms:created>
  <dc:creator>Пользователь</dc:creator>
  <dc:description/>
  <dc:language>en-US</dc:language>
  <cp:lastModifiedBy>Пользователь</cp:lastModifiedBy>
  <dcterms:modified xsi:type="dcterms:W3CDTF">2012-11-04T12:47:17Z</dcterms:modified>
  <cp:revision>2</cp:revision>
  <dc:subject/>
  <dc:title>Итоговый тест по окружающему миру 2 класс</dc:title>
</cp:coreProperties>
</file>