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457-AA7B-4D57-BCEA-5EBEB48A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331-957E-4F8F-AE4A-EE03F050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C85-FA6F-4EF3-96AB-7EFD471C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29A-00D8-4914-905A-A488E840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763-F5BD-4C0E-8E5F-663E2D6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BDE-CA3E-4033-9118-7E3B081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A00-D5C3-418B-A192-63980A61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077-2DA5-4CC2-8B60-5B332149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65E-2F6F-450B-89D6-5B3011A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8A2-3EF1-41BA-ABCC-05103F33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DE2-D3C8-4D3E-97E5-5FCD0C75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3F6-40FE-4DF9-83CF-E504FDB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3938-583A-4B40-B016-C1607A17DC0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3CF-E8C6-49F5-A6B1-82DB54161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sportrait.narod.ru/gal7/1_1_s32-1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rusportrait.narod.ru/gal7/1_1_s32-2.htm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sportrait.narod.ru/gal7/1_1_s32-3.htm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rusportrait.narod.ru/gal7/1_1_s32-4.htm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sportrait.narod.ru/gal7/1_1_s32-5.htm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usportrait.narod.ru/gal7/1_1_s32-6.htm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rusportrait.narod.ru/gal7/1_1_s32-7.htm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rusportrait.narod.ru/gal7/1_1_s32-8.htm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sportrait.narod.ru/gal7/1_1_s32-9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rusportrait.narod.ru/gal7/1_1_s32-10.htm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rusportrait.narod.ru/gal7/1_1_s32-11.htm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74200" y="642960"/>
            <a:ext cx="3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236120" y="5000760"/>
            <a:ext cx="447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Томаш Окса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Изобразительное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-182520" y="1517760"/>
            <a:ext cx="9759960" cy="32796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1143000" y="285840"/>
            <a:ext cx="65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ОУ «Основ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щеобразовательная школ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с.Высокиничи Жуко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F877-3BAE-4767-9483-66A9A48E5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eb43373f7a11a15a"/>
          <p:cNvPicPr/>
          <p:nvPr/>
        </p:nvPicPr>
        <p:blipFill>
          <a:blip r:embed="rId1"/>
          <a:stretch/>
        </p:blipFill>
        <p:spPr>
          <a:xfrm>
            <a:off x="928800" y="785880"/>
            <a:ext cx="3429000" cy="4929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645440" y="4724280"/>
            <a:ext cx="41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ортрет худож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И.И.Шиш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4C1-49B6-40AE-B8A8-45FC6271B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98b9c4a630ed945b84"/>
          <p:cNvPicPr/>
          <p:nvPr/>
        </p:nvPicPr>
        <p:blipFill>
          <a:blip r:embed="rId1"/>
          <a:stretch/>
        </p:blipFill>
        <p:spPr>
          <a:xfrm>
            <a:off x="4000680" y="500040"/>
            <a:ext cx="500040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013400" y="550080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унн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41D-35E3-4310-B228-80BB6F5C2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14680" y="3362400"/>
          <a:ext cx="5715000" cy="133200"/>
        </p:xfrm>
        <a:graphic>
          <a:graphicData uri="http://schemas.openxmlformats.org/drawingml/2006/table">
            <a:tbl>
              <a:tblPr/>
              <a:tblGrid>
                <a:gridCol w="1428480"/>
                <a:gridCol w="1428840"/>
                <a:gridCol w="1428840"/>
                <a:gridCol w="1428840"/>
              </a:tblGrid>
              <a:tr h="133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4" descr="http://rusportrait.narod.ru/gal7/small/s_1_1_s32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071720"/>
            <a:ext cx="207180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http://rusportrait.narod.ru/gal7/small/s_1_1_s32-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28920" y="3500280"/>
            <a:ext cx="2214360" cy="2928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rusportrait.narod.ru/gal7/small/s_1_1_s32-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7840" y="1000080"/>
            <a:ext cx="207144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http://rusportrait.narod.ru/gal7/small/s_1_1_s32-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15080" y="3643200"/>
            <a:ext cx="1928880" cy="2714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4452480" y="442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rusportrait.narod.ru/titles/zag32.jpg"/>
          <p:cNvPicPr/>
          <p:nvPr/>
        </p:nvPicPr>
        <p:blipFill>
          <a:blip r:embed="rId9"/>
          <a:stretch/>
        </p:blipFill>
        <p:spPr>
          <a:xfrm>
            <a:off x="2357280" y="214200"/>
            <a:ext cx="488664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4481640" y="821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1B57-1D62-4D34-9950-D136514B8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14680" y="3362400"/>
          <a:ext cx="5715000" cy="133200"/>
        </p:xfrm>
        <a:graphic>
          <a:graphicData uri="http://schemas.openxmlformats.org/drawingml/2006/table">
            <a:tbl>
              <a:tblPr/>
              <a:tblGrid>
                <a:gridCol w="1428480"/>
                <a:gridCol w="1428840"/>
                <a:gridCol w="1428840"/>
                <a:gridCol w="1428840"/>
              </a:tblGrid>
              <a:tr h="133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4" descr="http://rusportrait.narod.ru/gal7/small/s_1_1_s32-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429000"/>
            <a:ext cx="2286000" cy="32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http://rusportrait.narod.ru/gal7/small/s_1_1_s32-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71840" y="214200"/>
            <a:ext cx="2286000" cy="311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usportrait.narod.ru/gal7/small/s_1_1_s32-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00880" y="214200"/>
            <a:ext cx="2000160" cy="307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http://rusportrait.narod.ru/gal7/small/s_1_1_s32-8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86240" y="3500280"/>
            <a:ext cx="2214720" cy="314352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684-4F85-4C63-9495-CC7959355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14680" y="3362400"/>
          <a:ext cx="5715000" cy="133200"/>
        </p:xfrm>
        <a:graphic>
          <a:graphicData uri="http://schemas.openxmlformats.org/drawingml/2006/table">
            <a:tbl>
              <a:tblPr/>
              <a:tblGrid>
                <a:gridCol w="1428480"/>
                <a:gridCol w="1428840"/>
                <a:gridCol w="1428840"/>
                <a:gridCol w="1428840"/>
              </a:tblGrid>
              <a:tr h="133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4" descr="http://rusportrait.narod.ru/gal7/small/s_1_1_s32-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3143160"/>
            <a:ext cx="250056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ttp://rusportrait.narod.ru/gal7/small/s_1_1_s32-1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86040" y="214200"/>
            <a:ext cx="221472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rusportrait.narod.ru/gal7/small/s_1_1_s32-1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760" y="3214800"/>
            <a:ext cx="242892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http://rusportrait.narod.ru/gal7/small/s_1_1_s32-12.jpg"/>
          <p:cNvPicPr/>
          <p:nvPr/>
        </p:nvPicPr>
        <p:blipFill>
          <a:blip r:embed="rId7"/>
          <a:stretch/>
        </p:blipFill>
        <p:spPr>
          <a:xfrm>
            <a:off x="6715080" y="357120"/>
            <a:ext cx="2000160" cy="32148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EB9-C6C7-48BB-86AA-B749CA47E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14680" y="3362400"/>
          <a:ext cx="5715000" cy="133200"/>
        </p:xfrm>
        <a:graphic>
          <a:graphicData uri="http://schemas.openxmlformats.org/drawingml/2006/table">
            <a:tbl>
              <a:tblPr/>
              <a:tblGrid>
                <a:gridCol w="1428480"/>
                <a:gridCol w="1428840"/>
                <a:gridCol w="1428840"/>
                <a:gridCol w="1428840"/>
              </a:tblGrid>
              <a:tr h="133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4" descr="http://rusportrait.narod.ru/gal7/small/s_1_1_s32-13.jpg"/>
          <p:cNvPicPr/>
          <p:nvPr/>
        </p:nvPicPr>
        <p:blipFill>
          <a:blip r:embed="rId1"/>
          <a:stretch/>
        </p:blipFill>
        <p:spPr>
          <a:xfrm>
            <a:off x="214200" y="3357720"/>
            <a:ext cx="252900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http://rusportrait.narod.ru/gal7/small/s_1_1_s32-14.jpg"/>
          <p:cNvPicPr/>
          <p:nvPr/>
        </p:nvPicPr>
        <p:blipFill>
          <a:blip r:embed="rId2"/>
          <a:stretch/>
        </p:blipFill>
        <p:spPr>
          <a:xfrm>
            <a:off x="2771640" y="260280"/>
            <a:ext cx="2443320" cy="32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rusportrait.narod.ru/gal7/small/s_1_1_s32-15.jpg"/>
          <p:cNvPicPr/>
          <p:nvPr/>
        </p:nvPicPr>
        <p:blipFill>
          <a:blip r:embed="rId3"/>
          <a:stretch/>
        </p:blipFill>
        <p:spPr>
          <a:xfrm>
            <a:off x="4572000" y="3571920"/>
            <a:ext cx="2428920" cy="3071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http://rusportrait.narod.ru/gal7/small/s_1_1_s32-16.jpg"/>
          <p:cNvPicPr/>
          <p:nvPr/>
        </p:nvPicPr>
        <p:blipFill>
          <a:blip r:embed="rId4"/>
          <a:stretch/>
        </p:blipFill>
        <p:spPr>
          <a:xfrm>
            <a:off x="6156360" y="214200"/>
            <a:ext cx="2273400" cy="3370320"/>
          </a:xfrm>
          <a:prstGeom prst="rect">
            <a:avLst/>
          </a:prstGeom>
          <a:ln w="0">
            <a:noFill/>
          </a:ln>
        </p:spPr>
      </p:pic>
      <p:sp>
        <p:nvSpPr>
          <p:cNvPr id="10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E5D5-8C55-4A4B-B020-B411262D7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793bcc4fa98b37823"/>
          <p:cNvPicPr/>
          <p:nvPr/>
        </p:nvPicPr>
        <p:blipFill>
          <a:blip r:embed="rId1"/>
          <a:stretch/>
        </p:blipFill>
        <p:spPr>
          <a:xfrm>
            <a:off x="428760" y="1714680"/>
            <a:ext cx="3500280" cy="4143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4143240" y="185724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Крамской Иван Николаевич.  Портретист, исторический живописец, рисовальщик. Родился в городе Острогожске Воронежской губернии в семье мелкого чиновника. С детства увлекался искусством и литературой. По окончании уездного училища (1850) служил писцом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6840" y="214200"/>
            <a:ext cx="7138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рамской Иван Николаевич.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837г.-188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2C6C-B238-4B6A-89E4-FEA3E0D8E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Немного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.Н.Крамской должен  был продолжить семейную традицию  и стать писателем. Прежде чем стать художником, он работал ретушером  в фотографических мастерских, исправлял снимки. Крамской входил в Товарищество передвижных выставок –объединение  художников,  которые показывали свои полотна, посвященные  жизни России, по всей импер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рамской ( портретист, автор картин на евангельские сюжеты) сыграл важную роль в искусстве 1870-х год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E69-5DA1-4473-84CD-499B82680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97a58e979957a3366"/>
          <p:cNvPicPr/>
          <p:nvPr/>
        </p:nvPicPr>
        <p:blipFill>
          <a:blip r:embed="rId1"/>
          <a:stretch/>
        </p:blipFill>
        <p:spPr>
          <a:xfrm>
            <a:off x="1643040" y="357120"/>
            <a:ext cx="6143760" cy="4643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147400" y="5373720"/>
            <a:ext cx="52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Христос в пустыне. (1872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8C0-57BD-47E7-B812-6072C3693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артина «Христос в пустын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йзаж в картине «Христос в пустыне» поделен на две части линией горизонта: земля, каменистая, пустынная и небо, которое символизирует мир и надежду. Величественная фигура Христа  находится в центре полотна, как бы на границе этих миров. Изможденный тяжелым сорокадневным постом, преодолевшим искушение дьявола, Христос готов принести себя  в жертву ради искупления грехов человечества. Изображение Христа на полотне далеко  от традиционных канонов. Эта картина – глубокое авторское переосмысление   темы Христа и христианства в живопис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879E-168B-4E24-BDC4-0DD723865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22a1560a742fea1286"/>
          <p:cNvPicPr/>
          <p:nvPr/>
        </p:nvPicPr>
        <p:blipFill>
          <a:blip r:embed="rId1"/>
          <a:stretch/>
        </p:blipFill>
        <p:spPr>
          <a:xfrm>
            <a:off x="2286000" y="214200"/>
            <a:ext cx="4500720" cy="6429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3233880" y="5786280"/>
            <a:ext cx="37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ртрет Александра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02560" y="4500720"/>
            <a:ext cx="2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9C5-D863-495C-BB4D-F86D945B3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909c90c22018a73edb"/>
          <p:cNvPicPr/>
          <p:nvPr/>
        </p:nvPicPr>
        <p:blipFill>
          <a:blip r:embed="rId1"/>
          <a:stretch/>
        </p:blipFill>
        <p:spPr>
          <a:xfrm>
            <a:off x="714240" y="285840"/>
            <a:ext cx="4286520" cy="6215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4860360" y="592920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5086080" y="5214960"/>
            <a:ext cx="325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мперат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арии Федор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909A-6501-4DC4-870D-2D57170DE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57760" y="3214800"/>
            <a:ext cx="52862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ртрет Третьяков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a539bcf12c2a7b13c3"/>
          <p:cNvPicPr/>
          <p:nvPr/>
        </p:nvPicPr>
        <p:blipFill>
          <a:blip r:embed="rId1"/>
          <a:stretch/>
        </p:blipFill>
        <p:spPr>
          <a:xfrm>
            <a:off x="642960" y="500040"/>
            <a:ext cx="3786120" cy="535788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8BF-FDF8-41B8-B601-B36D9DCCC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36021d3276681cdd6"/>
          <p:cNvPicPr/>
          <p:nvPr/>
        </p:nvPicPr>
        <p:blipFill>
          <a:blip r:embed="rId1"/>
          <a:stretch/>
        </p:blipFill>
        <p:spPr>
          <a:xfrm>
            <a:off x="1285920" y="428760"/>
            <a:ext cx="6429240" cy="4929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814840" y="5572080"/>
            <a:ext cx="57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ортрет неизвестной.(1883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9E5-D1C1-4B77-9C34-F66094786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8:07:53Z</dcterms:modified>
  <cp:revision>44</cp:revision>
  <dc:subject/>
  <dc:title>Слайд 1</dc:title>
</cp:coreProperties>
</file>