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10D4B1-C642-4A26-A032-FBA4A427F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43000" y="4079160"/>
            <a:ext cx="77724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A1DF1C-CD41-4B1F-884B-EA018EE34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4300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2568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045DFA-796A-4DC6-9820-9A242BFDA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771000" y="179028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98640" y="179028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43000" y="407916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771000" y="407916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98640" y="407916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FD4DFF-BB99-47F8-A243-754CCB5A0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78E05E-A687-4D24-83E4-DA18C3C46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AD6F8E-539D-40A9-AA18-B0AB0FAFB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37066D-04B4-4EB7-87D8-B12829E9A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95EAAB-BCB2-4C92-94B1-3303CCCF8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A53DED-4386-4E11-B558-68B4671FA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590040" y="266400"/>
            <a:ext cx="83250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F0C26D-AF39-4E5F-A67C-D70CF9B1C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4300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CF6775-8299-44BF-B81A-0BB22CCF4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7B4C36-9A0B-4934-8EE4-9868A923F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2568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AD2D92-2440-42B9-A06D-043E1B368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43000" y="4079160"/>
            <a:ext cx="77724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9211D9-5DE8-4959-9E8D-35F01B484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143000" y="4079160"/>
            <a:ext cx="77724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DD1CAA-9525-49DC-930D-436F0ED45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4300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2568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A0294C-1660-441F-8E39-10F0925CC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771000" y="179028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398640" y="179028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143000" y="407916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771000" y="407916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398640" y="407916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47D502-E249-4411-B094-55FD4F2B3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EC4C3A-C2AD-4334-A139-D3B5052F8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AC81BF-BBFD-4700-84A1-FF8DE962A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933B6E-603F-438E-95AD-77EA4C064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90040" y="266400"/>
            <a:ext cx="83250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63CB02-803A-4D6C-B9DC-FECD2A754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4300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B85945-4B77-45D8-898E-5655A8120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2568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60EA1C-16C9-4514-BC26-6C2C7CC72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43000" y="4079160"/>
            <a:ext cx="77724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CF472C-52F8-4390-BC0D-215B8E122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44680" cy="6858000"/>
          </a:xfrm>
          <a:prstGeom prst="rect">
            <a:avLst/>
          </a:prstGeom>
          <a:gradFill rotWithShape="0">
            <a:gsLst>
              <a:gs pos="0">
                <a:srgbClr val="008080"/>
              </a:gs>
              <a:gs pos="100000">
                <a:srgbClr val="3366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620640" y="1447920"/>
            <a:ext cx="8523360" cy="75960"/>
            <a:chOff x="620640" y="1447920"/>
            <a:chExt cx="8523360" cy="75960"/>
          </a:xfrm>
        </p:grpSpPr>
        <p:sp>
          <p:nvSpPr>
            <p:cNvPr id="2" name=""/>
            <p:cNvSpPr/>
            <p:nvPr/>
          </p:nvSpPr>
          <p:spPr>
            <a:xfrm>
              <a:off x="620640" y="1523880"/>
              <a:ext cx="8523360" cy="0"/>
            </a:xfrm>
            <a:prstGeom prst="line">
              <a:avLst/>
            </a:prstGeom>
            <a:ln cap="sq" w="25560">
              <a:solidFill>
                <a:srgbClr val="99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620640" y="1447920"/>
              <a:ext cx="8523360" cy="0"/>
            </a:xfrm>
            <a:prstGeom prst="line">
              <a:avLst/>
            </a:prstGeom>
            <a:ln cap="sq" w="76320">
              <a:solidFill>
                <a:srgbClr val="99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2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9C4A7-9B16-44D1-A757-A7D26578F81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dt" idx="3"/>
          </p:nvPr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9142560" cy="6858000"/>
            <a:chOff x="0" y="0"/>
            <a:chExt cx="9142560" cy="6858000"/>
          </a:xfrm>
        </p:grpSpPr>
        <p:sp>
          <p:nvSpPr>
            <p:cNvPr id="46" name=""/>
            <p:cNvSpPr/>
            <p:nvPr/>
          </p:nvSpPr>
          <p:spPr>
            <a:xfrm>
              <a:off x="0" y="0"/>
              <a:ext cx="1444680" cy="685800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3366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7" name=""/>
            <p:cNvGrpSpPr/>
            <p:nvPr/>
          </p:nvGrpSpPr>
          <p:grpSpPr>
            <a:xfrm>
              <a:off x="604800" y="3619440"/>
              <a:ext cx="8523360" cy="76320"/>
              <a:chOff x="604800" y="3619440"/>
              <a:chExt cx="8523360" cy="76320"/>
            </a:xfrm>
          </p:grpSpPr>
          <p:sp>
            <p:nvSpPr>
              <p:cNvPr id="48" name=""/>
              <p:cNvSpPr/>
              <p:nvPr/>
            </p:nvSpPr>
            <p:spPr>
              <a:xfrm>
                <a:off x="604800" y="3695760"/>
                <a:ext cx="8523360" cy="0"/>
              </a:xfrm>
              <a:prstGeom prst="line">
                <a:avLst/>
              </a:prstGeom>
              <a:ln cap="sq" w="25560">
                <a:solidFill>
                  <a:srgbClr val="99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604800" y="3619440"/>
                <a:ext cx="8523360" cy="0"/>
              </a:xfrm>
              <a:prstGeom prst="line">
                <a:avLst/>
              </a:prstGeom>
              <a:ln cap="sq" w="76320">
                <a:solidFill>
                  <a:srgbClr val="99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0" name=""/>
            <p:cNvSpPr/>
            <p:nvPr/>
          </p:nvSpPr>
          <p:spPr>
            <a:xfrm>
              <a:off x="609480" y="1523880"/>
              <a:ext cx="8533080" cy="60984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3366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ftr" idx="4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Num" idx="5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B003B-11BD-4EE0-967F-BC496E51098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dt" idx="6"/>
          </p:nvPr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4784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896040" algn="ctr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343880" algn="ctr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792080" algn="ctr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792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792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0;&#1088;&#1077;&#1072;&#1090;&#1080;&#1074;&#1085;&#1086;&#1089;&#1090;&#1100;" TargetMode="External"/><Relationship Id="rId2" Type="http://schemas.openxmlformats.org/officeDocument/2006/relationships/hyperlink" Target="http://ru.wikipedia.org/wiki/&#1050;&#1088;&#1077;&#1072;&#1090;&#1080;&#1074;&#1085;&#1086;&#1089;&#1090;&#1100;" TargetMode="External"/><Relationship Id="rId3" Type="http://schemas.openxmlformats.org/officeDocument/2006/relationships/hyperlink" Target="http://ru.wikipedia.org/wiki/&#1050;&#1088;&#1077;&#1072;&#1090;&#1080;&#1074;&#1085;&#1086;&#1089;&#1090;&#1100;" TargetMode="External"/><Relationship Id="rId4" Type="http://schemas.openxmlformats.org/officeDocument/2006/relationships/hyperlink" Target="http://ru.wikipedia.org/wiki/&#1050;&#1088;&#1077;&#1072;&#1090;&#1080;&#1074;&#1085;&#1086;&#1089;&#1090;&#1100;" TargetMode="External"/><Relationship Id="rId5" Type="http://schemas.openxmlformats.org/officeDocument/2006/relationships/hyperlink" Target="http://ru.wikipedia.org/wiki/&#1050;&#1088;&#1077;&#1072;&#1090;&#1080;&#1074;&#1085;&#1086;&#1089;&#1090;&#1100;" TargetMode="External"/><Relationship Id="rId6" Type="http://schemas.openxmlformats.org/officeDocument/2006/relationships/hyperlink" Target="http://ru.wikipedia.org/wiki/&#1050;&#1088;&#1077;&#1072;&#1090;&#1080;&#1074;&#1085;&#1086;&#1089;&#1090;&#1100;" TargetMode="External"/><Relationship Id="rId7" Type="http://schemas.openxmlformats.org/officeDocument/2006/relationships/hyperlink" Target="http://ru.wikipedia.org/wiki/&#1050;&#1088;&#1077;&#1072;&#1090;&#1080;&#1074;&#1085;&#1086;&#1089;&#1090;&#1100;" TargetMode="External"/><Relationship Id="rId8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1692360" y="5876640"/>
            <a:ext cx="6400800" cy="770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одготовила: Руссу О. 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1042920" y="1773360"/>
            <a:ext cx="698508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Креативное мышлени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309680" y="1699920"/>
            <a:ext cx="7834320" cy="489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Креати́вность</a:t>
            </a:r>
            <a:r>
              <a:rPr b="0" lang="ru-RU" sz="2400" spc="-1" strike="noStrike">
                <a:solidFill>
                  <a:srgbClr val="ff3399"/>
                </a:solidFill>
                <a:latin typeface="Arial"/>
              </a:rPr>
              <a:t> 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— (созидательный, творческий) —творческие способности индивида, характеризующиеся готовностью к принятию и созданию принципиально новых идей, отклоняющихся от традиционных или принятых схем мышления и входящие в структуру одарённости в качестве независимого фактора, а также способность решать проблемы, возникающие внутри статичных систем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огласно американскому психологу Абрахаму Маслоу — это творческая направленность, врождённо свойственная всем, но теряемая большинством под воздействием сложившейся системы воспитания, образования и социальной практик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18920" y="266760"/>
            <a:ext cx="7296120" cy="93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Garamond"/>
              </a:rPr>
              <a:t>Основные критерии  </a:t>
            </a: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628280"/>
            <a:ext cx="7772400" cy="504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Беглость мысли - количество идей, возникающих за некоторую единицу времени, легкость генерирования идей.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ибкость мысли - способность переключаться с одной идеи на другую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ригинальность - способность производить идеи, отличающиеся от общепринятых стереотипов, способность отвечать на раздражители нестандартно (не путать оригинальность мышления с оригинальничанием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Любознательность - чувствительность к проблемам, к окружающим ситуациям, восприимчивость — чувствительность к необычным деталям, противоречиям и неопределенности, готовность быстро переключаться с одной идеи на другую.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пособность к разработке гипотезы - смелой идеи, которая потом нуждается в обстоятельной эмпирической проверк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Удовлетворенность - итог проявления креативности, - логическая независимость реакций от стимулов, способность решать проблемы, способность к анализу и синтезу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76360" y="266400"/>
            <a:ext cx="743904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Garamond"/>
              </a:rPr>
              <a:t>Советы по развитию творческого мышления</a:t>
            </a:r>
            <a:endParaRPr b="0" lang="en-US" sz="32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790640"/>
            <a:ext cx="7772400" cy="506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ознательно прилагайте усилия к тому, чтобы проявлять оригинальность и выдвигать новые иде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Не беспокойтесь о том, что о вас могут подумать люд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тарайтесь мыслить широко, при этом, не обращая внимания на запреты, накладываемые культурными традициям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Если вы ошиблись при первой попытке, рассмотрите другие варианты и попробуйте найти новые пут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Будьте всегда открыты для дискуссии и проверяйте свои предположен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Ищите объяснения странных и непонятных веще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реодолевайте функциональную фиксированность и ищите необычные способы применения обычных веще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Откажитесь от привычных методов деятельности и попробуйте поискать новые подход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Чтобы выдать “на-гора” как можно больше идей, используйте метод мозгового штурм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ри оценке идей старайтесь быть объективным. Представьте, что они принадлежат не вам, а другому человек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66"/>
                </a:solidFill>
                <a:latin typeface="Garamond"/>
              </a:rPr>
              <a:t>Развитие креативного мышления на уроках русского языка</a:t>
            </a:r>
            <a:endParaRPr b="0" lang="en-US" sz="28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гровые педагогические технологии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нтерактивные методы и приём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естандартные урок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роектная деятельнос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Занимательность материала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спользование ИК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66"/>
                </a:solidFill>
                <a:latin typeface="Garamond"/>
              </a:rPr>
              <a:t>Развитие креативного мышления на уроках математики</a:t>
            </a:r>
            <a:endParaRPr b="0" lang="en-US" sz="32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проблемные ситуаци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решение задач, в которых от учащимся требуется  анализ и синтез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Формирование приема сравне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Использование аналогии, классификаци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Решение задач - головоломок, ребусов, занимательных задач, задач на смекалк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роектная деятельнос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Garamond"/>
              </a:rPr>
              <a:t>При проведении занятий необходимо учитывать следующие принципы</a:t>
            </a:r>
            <a:r>
              <a:rPr b="0" lang="en-US" sz="3200" spc="-1" strike="noStrike">
                <a:solidFill>
                  <a:srgbClr val="ffcc66"/>
                </a:solidFill>
                <a:latin typeface="Garamond"/>
              </a:rPr>
              <a:t>: </a:t>
            </a:r>
            <a:endParaRPr b="0" lang="en-US" sz="32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ринцип открытости заданий, который означает, что большинство упражнений предлагают не один, а несколько вариантов решений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Обогащение познавательного пространства самыми разнообразными предметами и стимулами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редоставление детям возможности активно задавать вопросы, познавательной активности в целом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омощь детям в выражении их идей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Уважительное отношение к идеям участников обсуждения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Создание безопасной психологической атмосферы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Избегание неодобрительной оценки творческих идей ребёнка, проявление сочувствия к неудачам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Использование личного примера, ведущего творческого подхода к решению проблем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Возможность самостоятельного поиска решений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Garamond"/>
              </a:rPr>
              <a:t>Источники:</a:t>
            </a: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999933"/>
                </a:solidFill>
                <a:uFillTx/>
                <a:latin typeface="Arial"/>
                <a:hlinkClick r:id="rId1"/>
              </a:rPr>
              <a:t>http</a:t>
            </a:r>
            <a:r>
              <a:rPr b="0" lang="ru-RU" sz="2400" spc="-1" strike="noStrike" u="sng">
                <a:solidFill>
                  <a:srgbClr val="999933"/>
                </a:solidFill>
                <a:uFillTx/>
                <a:latin typeface="Arial"/>
                <a:hlinkClick r:id="rId2"/>
              </a:rPr>
              <a:t>://</a:t>
            </a:r>
            <a:r>
              <a:rPr b="0" lang="ru-RU" sz="2400" spc="-1" strike="noStrike" u="sng">
                <a:solidFill>
                  <a:srgbClr val="999933"/>
                </a:solidFill>
                <a:uFillTx/>
                <a:latin typeface="Arial"/>
                <a:hlinkClick r:id="rId3"/>
              </a:rPr>
              <a:t>ru.wikipedia.org</a:t>
            </a:r>
            <a:r>
              <a:rPr b="0" lang="ru-RU" sz="2400" spc="-1" strike="noStrike" u="sng">
                <a:solidFill>
                  <a:srgbClr val="999933"/>
                </a:solidFill>
                <a:uFillTx/>
                <a:latin typeface="Arial"/>
                <a:hlinkClick r:id="rId4"/>
              </a:rPr>
              <a:t>/</a:t>
            </a:r>
            <a:r>
              <a:rPr b="0" lang="ru-RU" sz="2400" spc="-1" strike="noStrike" u="sng">
                <a:solidFill>
                  <a:srgbClr val="999933"/>
                </a:solidFill>
                <a:uFillTx/>
                <a:latin typeface="Arial"/>
                <a:hlinkClick r:id="rId5"/>
              </a:rPr>
              <a:t>wiki</a:t>
            </a:r>
            <a:r>
              <a:rPr b="0" lang="ru-RU" sz="2400" spc="-1" strike="noStrike" u="sng">
                <a:solidFill>
                  <a:srgbClr val="999933"/>
                </a:solidFill>
                <a:uFillTx/>
                <a:latin typeface="Arial"/>
                <a:hlinkClick r:id="rId6"/>
              </a:rPr>
              <a:t>/%</a:t>
            </a:r>
            <a:r>
              <a:rPr b="0" lang="ru-RU" sz="2400" spc="-1" strike="noStrike" u="sng">
                <a:solidFill>
                  <a:srgbClr val="999933"/>
                </a:solidFill>
                <a:uFillTx/>
                <a:latin typeface="Arial"/>
                <a:hlinkClick r:id="rId7"/>
              </a:rPr>
              <a:t>D0%9A%D1%80%D0%B5%D0%B0%D1%82%D0%B8%D0%B2%D0%BD%D0%BE%D1%81%D1%82%D1%8C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http://www.it-med.ru/library/k/creativ.ht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http://festival.1september.ru/articles/621441/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http://rudocs.exdat.com/docs/index-297680.html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http://rudocs.exdat.com/docs/index-517298.html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http://nsportal.ru/shkola/materialy-metodicheskikh-obedinenii/library/kreativnoe-myshlenie-na-urokakh-matematiki-lektsi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04T03:49:28Z</dcterms:created>
  <dc:creator>Светлана</dc:creator>
  <dc:description/>
  <dc:language>en-US</dc:language>
  <cp:lastModifiedBy>Светлана</cp:lastModifiedBy>
  <dcterms:modified xsi:type="dcterms:W3CDTF">2012-11-04T04:13:37Z</dcterms:modified>
  <cp:revision>2</cp:revision>
  <dc:subject/>
  <dc:title>Слайд 1</dc:title>
</cp:coreProperties>
</file>