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1BB-6D6E-47CE-82D1-B03687B1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6EC-54DB-43AE-A512-7E28CD26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029-630A-4C11-BA39-3862184B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802-7E0C-4E1C-8BEA-FF665723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A90-8F9F-479F-9998-BBABDC09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154-EAF4-4D19-9462-514181CF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2FB-952B-4917-A8E5-3934524C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7E0-2953-4F16-B179-CEB6A6E0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675-D293-40F0-B40F-F1318CD9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6C2-CB61-493C-B958-F4BC4D0F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A7A-95AE-40CB-BA9E-0CB282E5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A99-D8D7-47B0-909B-60B9370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25B3-40E6-4F28-9E36-6DE3B0E22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228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КОУ «Боголюбов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Личностно ориентированный подход к учащимся на уроках литературы в инновационной среде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43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 Соколова С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2286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ы, обеспечивающие личностно ориентированную направленность урока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3352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тод активизации субъектного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концепция И.С.Якиманск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361960" y="9144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1148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тод интроспективного анали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1752480"/>
            <a:ext cx="281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тод личностно ориентированной театрал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42670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тод творческого самоутвержд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9144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914400"/>
            <a:ext cx="160020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914400"/>
            <a:ext cx="11430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04920"/>
            <a:ext cx="8610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щие рекомендации для учителя по проектированию личностно ориентированного урока и овладению им самоан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 проектировании урока, необходимо определить его место в теме и в общем курсе, а также следует задать себе вопрос при самоанализе: насколько ясным стало непонятное для учащихся место посл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ужно соотнести поставленные перед уроком цели для учащихся и учителя с тем. что было достигнуто на уроке, и определить причины успеха и неу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определить уровень сформированности знаний и ум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едует ответить на вопрос, что привнес данный урок для развития внимания, памяти, ума. умения слушать, высказывать свои мысли и отстаивать свою точку зрения, для формирования интереса к данному предм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подумать, насколько оптимально был выстроен урок Соответствовал ли он уровню учебной подготовки и развития учащихся, специфике класса, интересам и темпераменту педаго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28600"/>
            <a:ext cx="82296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ет оценить степень активности учащихся на уроке. Как стимулировалась работа, если ребята не хотели отвечать на вопросы учите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анализировать: каким был темп урока? Каким образом была организована смена видов деятельности учащихся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ет ответить на вопрос, каким образом в ходе урока была организована опора на имеющиеся знания, жизненный опыт учащихся и понять, насколько актуальным для них был учебный материал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ужно подумать, каким образом давать детям домашнее задание, как предоставить учащимся возможность выбора задания, продумать технологию его прове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охарактеризовать психологическую атмосферу урока, характер общения и взаимо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ценить настроение учителя после урока. Что в нем изменилось? В чем причина этих изменений? Что можно поставить себе в плюсы, а что в минус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28600"/>
            <a:ext cx="83818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ухин Д.А. основы личностно ориентированной педагогики М:Издательство «Институт практической психологии» Воронеж:НПО «Модэк»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иманская И.С. Личностно ориентированное обучение в современной школе М:Сентябрь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еев Н.А. Личностно ориентированное обучение: вопросы теории и практики. Тюмень, издательство ТГУ,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иков В.В. Личностно ориентированный подход в образовании Волгоград:Перемена,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191120" y="15228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Ничему тому, что важно знать, научить нельзя – все, что может сделать учитель,- это указать до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.Орлинг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108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соответствии с Концепцией Федеральной целевой программы развития образования на 2011-2015 годы на первый план выступает обеспечение доступности качественного образования, соответствующего требованиям инновационного социально ориентированного развития Российской Федерации, и ведущим стратегическим направлением этого образования становится личностно ориентированный подход к учащим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42670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25780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значением личностно ориентированного подхода к образованию является содействие становлению человека, развитию его индивидуальности, творческого нач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28600"/>
            <a:ext cx="81532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к помочь ученику в развитии личностных качеств, заложенных в н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кие качества считать собственно личностны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тива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принятие решений и обоснование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конструирование и удержание определенного образа «Я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мыслотворчеств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определение системы жизненных смыслов вплоть до самого важного – смысла жиз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иентация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троение личностной картины мира – индивидуального мировоззр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еспечение автономности и устойчивости внутреннего мир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обеспечение творческого характера любой личностно значимой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мореализац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стремление к признанию своего образа «Я» окружающи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еспечение уровня духов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жизнедеятельности в соответствии с личностными притяз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04920"/>
            <a:ext cx="82296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организации учебного процесса важно понимать, что учебная задача решается на личностном уровне, когда переживается как личностная проблема. Это мобилизует и развивает структуры интелл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еживание как способ существования личностного опыта предполагает и присущие именно ем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бъективные формы учебного взаимо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щение - ди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43434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гровое 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3276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45720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мысло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438280" y="25909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352680" y="26668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5909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286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ак построить различные типы взаимоотношений между учителем у учеником в рамках личностно ориентированного подх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447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ичностно ориентированная система обучения предполаг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9051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8600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нание ученика основным     субъектом процесса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276720"/>
            <a:ext cx="5257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нание основной целью развитие индивидуальных способностей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4267080"/>
            <a:ext cx="38862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средств, обеспечивающих реализацию поставленной цели посредством выявления и структурирования субъективного опыта ученика, целенаправленного развития его личности в процессе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1828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52280"/>
            <a:ext cx="8610840" cy="60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арактеристики и функции педагога в личностно ориентированном обу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ановка на ученика как на субъект образовательного процесса, как на личность, индивидуа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ение быть эмоциональным и откликаться на эмоции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итивное, уважительное отношение к самостоятельности мнений, суждений и выводов уче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ора на субъективный личностный опыт уче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 мотивационной сферы учащихся. повышение степени самостоятельности на уро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равленность педагогической деятельности на развитие личности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логическая позиция в общении с учащими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равленность на осознание мотивов собственных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интересованная реакция учителя на предложения, пожелания и замечания учеников по поводу организации 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ощрение творческой активности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52280"/>
            <a:ext cx="8763120" cy="65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чностно ориентированную направленность урока обеспечивают психолого-педагогические характер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е и стимулирование субъективной позиции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ние условий для проявления и развития индивидуальности, самобытности и уникальности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формирование учебной деятельности школьников (а не на передачу учебной информ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ние и учет психофизиологических особенностей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внутренних мотивов учения, стимулирование и становление собственного (личностного) смысла 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я развивающего пространства. ориентация на развитие познавательных (интеллектуальных)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е  эмоционально-ценностного  отношения   к   миру,   познанию, окружающим, се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я равноправного партнерского общения в ходе учебного взаимо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ние атмосферы взаимной заинтересованности в работе друг др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еспечение обратной связи в педагогическом процес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228600"/>
            <a:ext cx="8839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 чем состоит суть личностно ориентированных ситуаций на уроках гуманитарных предмет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нимание индивидуальных смыслов и обмен ими в рамках учебного взаимо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о приобретает фор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ражения отношения к изучаем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ктуализации эстетических пережи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сознания собственных пережи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1066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2819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4267080"/>
            <a:ext cx="9903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52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Что требуется от учите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609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752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ведение учащихся в состояние диа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8600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сти совместную ориентировку в личностно значимой предметн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вить проблемы, интересующие субъекты диа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мотреть проблемы в контексте значимых для учащихся жизненных це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овать тому, чтобы школьники могли использовать свои знания по предмету в качестве средства общения и научились обоснованно выражать цепочку своих суждений, приводить аргументацию для доказательства своего м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4:51:07Z</dcterms:created>
  <dc:creator>Comp</dc:creator>
  <dc:description/>
  <dc:language>en-US</dc:language>
  <cp:lastModifiedBy>Comp</cp:lastModifiedBy>
  <dcterms:modified xsi:type="dcterms:W3CDTF">2012-10-31T16:29:1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