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E5BA-E518-4569-A048-1E40F49A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E6BA-99F6-45CA-81D8-4746DED4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A020-8B9C-477A-BA9F-7E1F97263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C48D-8ADF-4D2F-B925-A96C192D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E6F2-ED36-4C40-8164-B73769E2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A58F-13C6-4BAD-9484-0692AAF1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3AB3-C06B-4AC9-A8DC-49B2669A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5B1A-20BA-4788-8AAF-95EF1FAA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7C9D-16C9-41DA-9695-EDD8AD5A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1B8B-487E-4C50-9C2A-A821C2A5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D953-A263-41B0-A958-24D5263E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8977-6C2E-45B4-B1E4-9C6B06F5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32EE-0B23-4786-A5D6-5A7AFD68D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12600" y="-60480"/>
            <a:ext cx="9313920" cy="157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:\Documents and Settings\Aida\Рабочий стол\ПРО создание презнетаций шаблонов... и всё!\Картинки к 1 сентября\lqoeyiomhoedxyztswryo.png"/>
          <p:cNvPicPr/>
          <p:nvPr/>
        </p:nvPicPr>
        <p:blipFill>
          <a:blip r:embed="rId3"/>
          <a:stretch/>
        </p:blipFill>
        <p:spPr>
          <a:xfrm flipH="1" rot="1484400">
            <a:off x="463320" y="216000"/>
            <a:ext cx="610920" cy="601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6" name=""/>
          <p:cNvSpPr/>
          <p:nvPr/>
        </p:nvSpPr>
        <p:spPr>
          <a:xfrm>
            <a:off x="1692360" y="35244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атематический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 rot="10800000">
            <a:off x="1401480" y="1628280"/>
            <a:ext cx="696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3300"/>
                </a:solidFill>
                <a:latin typeface="Arial"/>
              </a:rPr>
              <a:t>         </a:t>
            </a:r>
            <a:r>
              <a:rPr b="1" i="1" lang="en-US" sz="6000" spc="-1" strike="noStrike">
                <a:solidFill>
                  <a:srgbClr val="003300"/>
                </a:solidFill>
                <a:latin typeface="Arial"/>
              </a:rPr>
              <a:t>Прямоугольник,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3300"/>
                </a:solidFill>
                <a:latin typeface="Arial"/>
              </a:rPr>
              <a:t>ромб, квадра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64000" y="505296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00"/>
                </a:solidFill>
                <a:latin typeface="Arial"/>
              </a:rPr>
              <a:t>Геометрия, 8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340000" y="260280"/>
            <a:ext cx="53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Верные от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3280" y="1197000"/>
            <a:ext cx="0" cy="566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39840" y="981000"/>
            <a:ext cx="21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35640" y="10526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3120" y="1773360"/>
            <a:ext cx="4197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1. 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2. 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3. 6 д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4. Н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5. 5 с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6. Н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7. 90</a:t>
            </a:r>
            <a:r>
              <a:rPr b="1" lang="en-US" sz="3200" spc="-1" strike="noStrike">
                <a:solidFill>
                  <a:srgbClr val="333300"/>
                </a:solidFill>
                <a:latin typeface="Times New Roman"/>
                <a:ea typeface="Arial"/>
              </a:rPr>
              <a:t>°</a:t>
            </a:r>
            <a:r>
              <a:rPr b="1" lang="ru-RU" sz="3200" spc="-1" strike="noStrike">
                <a:solidFill>
                  <a:srgbClr val="333300"/>
                </a:solidFill>
                <a:latin typeface="Times New Roman"/>
                <a:ea typeface="Arial"/>
              </a:rPr>
              <a:t>,75</a:t>
            </a:r>
            <a:r>
              <a:rPr b="1" lang="en-US" sz="3200" spc="-1" strike="noStrike">
                <a:solidFill>
                  <a:srgbClr val="333300"/>
                </a:solidFill>
                <a:latin typeface="Times New Roman"/>
                <a:ea typeface="Arial"/>
              </a:rPr>
              <a:t>°</a:t>
            </a:r>
            <a:r>
              <a:rPr b="1" lang="ru-RU" sz="3200" spc="-1" strike="noStrike">
                <a:solidFill>
                  <a:srgbClr val="333300"/>
                </a:solidFill>
                <a:latin typeface="Times New Roman"/>
                <a:ea typeface="Arial"/>
              </a:rPr>
              <a:t>,15</a:t>
            </a:r>
            <a:r>
              <a:rPr b="1" lang="en-US" sz="3200" spc="-1" strike="noStrike">
                <a:solidFill>
                  <a:srgbClr val="333300"/>
                </a:solidFill>
                <a:latin typeface="Times New Roman"/>
                <a:ea typeface="Arial"/>
              </a:rPr>
              <a:t>°</a:t>
            </a:r>
            <a:r>
              <a:rPr b="1" lang="ru-RU" sz="3200" spc="-1" strike="noStrike">
                <a:solidFill>
                  <a:srgbClr val="3333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  <a:ea typeface="Arial"/>
              </a:rPr>
              <a:t>8. Квадр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1628640"/>
            <a:ext cx="4176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1. Н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2. Н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3. Н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4. 7,5 с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5. 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6. 7 с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7. 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8. 45</a:t>
            </a:r>
            <a:r>
              <a:rPr b="1" lang="en-US" sz="3200" spc="-1" strike="noStrike">
                <a:solidFill>
                  <a:srgbClr val="333300"/>
                </a:solidFill>
                <a:latin typeface="Times New Roman"/>
                <a:ea typeface="Arial"/>
              </a:rPr>
              <a:t>°</a:t>
            </a:r>
            <a:r>
              <a:rPr b="1" lang="ru-RU" sz="3200" spc="-1" strike="noStrike">
                <a:solidFill>
                  <a:srgbClr val="333300"/>
                </a:solidFill>
                <a:latin typeface="Times New Roman"/>
                <a:ea typeface="Arial"/>
              </a:rPr>
              <a:t>,45</a:t>
            </a:r>
            <a:r>
              <a:rPr b="1" lang="en-US" sz="3200" spc="-1" strike="noStrike">
                <a:solidFill>
                  <a:srgbClr val="333300"/>
                </a:solidFill>
                <a:latin typeface="Times New Roman"/>
                <a:ea typeface="Arial"/>
              </a:rPr>
              <a:t>°</a:t>
            </a:r>
            <a:r>
              <a:rPr b="1" lang="ru-RU" sz="3200" spc="-1" strike="noStrike">
                <a:solidFill>
                  <a:srgbClr val="333300"/>
                </a:solidFill>
                <a:latin typeface="Times New Roman"/>
                <a:ea typeface="Arial"/>
              </a:rPr>
              <a:t>,90</a:t>
            </a:r>
            <a:r>
              <a:rPr b="1" lang="en-US" sz="3200" spc="-1" strike="noStrike">
                <a:solidFill>
                  <a:srgbClr val="333300"/>
                </a:solidFill>
                <a:latin typeface="Times New Roman"/>
                <a:ea typeface="Arial"/>
              </a:rPr>
              <a:t>°</a:t>
            </a:r>
            <a:r>
              <a:rPr b="1" lang="ru-RU" sz="3200" spc="-1" strike="noStrike">
                <a:solidFill>
                  <a:srgbClr val="333300"/>
                </a:solidFill>
                <a:latin typeface="Times New Roman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132000" y="476280"/>
            <a:ext cx="251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00"/>
                </a:solidFill>
                <a:latin typeface="Arial"/>
              </a:rPr>
              <a:t>Оцен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1835280"/>
            <a:ext cx="7775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5»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- 8 верных ответов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«4»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- 7 верных ответов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«3»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- 6 верных ответов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«2» 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- 5 верных ответов и мене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24360" y="3333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907920"/>
            <a:ext cx="0" cy="595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76360" y="92880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51640" y="907920"/>
            <a:ext cx="23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1989000"/>
            <a:ext cx="4248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Является ли прямоугольником параллелограмм, у которого есть прямой угол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16360" y="1989000"/>
            <a:ext cx="4248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бязательно ли является прямоугольником четырехугольник, у которого есть прямой угол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067280" y="47628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43280" y="1197000"/>
            <a:ext cx="0" cy="566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43080" y="1236600"/>
            <a:ext cx="20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35640" y="12160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2008080"/>
            <a:ext cx="4537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ерно ли, что каждый прямоугольник является параллелограммо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88000" y="1989000"/>
            <a:ext cx="4356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ерно ли, что каждый параллелограмм является прямоугольнико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067280" y="18900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43280" y="1197000"/>
            <a:ext cx="0" cy="566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39840" y="981000"/>
            <a:ext cx="21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35640" y="981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1700280"/>
            <a:ext cx="432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иагонали прямоугольника АЕМК пересекаются в точке О. Отрезок АО=3дм. Найдите длину диагонали 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43280" y="1700280"/>
            <a:ext cx="4500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иагонали параллелограмма равны 3 дм и 5 дм. Является ли этот параллелограмм прямоугольником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067280" y="47628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3280" y="1197000"/>
            <a:ext cx="0" cy="566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43080" y="1236600"/>
            <a:ext cx="20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35640" y="12160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1916280"/>
            <a:ext cx="432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иагонали четырехугольника равны. Обязательно ли этот четырехугольник -прямоугольни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88000" y="1989000"/>
            <a:ext cx="41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умма длин диагоналей прямоугольника равна 15 см. Найдите длину каждой диагона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067280" y="47628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3280" y="1197000"/>
            <a:ext cx="0" cy="566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43080" y="1236600"/>
            <a:ext cx="20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35640" y="12160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3120" y="2008080"/>
            <a:ext cx="419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ериметр ромба равен 20 см. Найдите длины его сторо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1989000"/>
            <a:ext cx="442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ерно ли, что каждый ромб является параллелограмм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067280" y="47628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197000"/>
            <a:ext cx="0" cy="566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43080" y="1236600"/>
            <a:ext cx="20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12160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3120" y="2008080"/>
            <a:ext cx="419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ерно ли, что каждый параллелограмм является ромб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1989000"/>
            <a:ext cx="41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ериметр ромба равен 28 см. Найдите его сторо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067280" y="26028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3280" y="1197000"/>
            <a:ext cx="0" cy="566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39840" y="907920"/>
            <a:ext cx="21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35640" y="90792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3120" y="1413000"/>
            <a:ext cx="419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иагонали ромба делят его на четыре треугольника. Найдите углы каждого треугольника, если один из углов ромба равен 3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88000" y="1989000"/>
            <a:ext cx="41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омб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В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имеет прямой угол. Является ли этот ромб квадрат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067280" y="33336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43280" y="1197000"/>
            <a:ext cx="0" cy="566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39840" y="981000"/>
            <a:ext cx="21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35640" y="981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3120" y="1773360"/>
            <a:ext cx="4197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ве соседние стороны параллелограмма равны и образуют прямой угол. Как называется такой параллелограм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88000" y="1989000"/>
            <a:ext cx="41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иагонали квадрата делят его на четыре треугольника. Найдите углы каждого треугольн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4:33:10Z</dcterms:created>
  <dc:creator>Windows XP SP3</dc:creator>
  <dc:description/>
  <dc:language>en-US</dc:language>
  <cp:lastModifiedBy>Windows XP SP3</cp:lastModifiedBy>
  <dcterms:modified xsi:type="dcterms:W3CDTF">2012-11-04T19:47:33Z</dcterms:modified>
  <cp:revision>26</cp:revision>
  <dc:subject/>
  <dc:title>Слайд 1</dc:title>
</cp:coreProperties>
</file>