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30A-D731-43A1-8041-2F2B38B9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FBC-5F10-4E0C-83BF-DD62E01A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34E-BD78-4669-A32D-357BC02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A38-38F7-42B3-A01F-788AF2AA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E062-2D16-4AB5-B2B4-10A63E5A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4718-B01B-44DA-AA07-207B0561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7818-7074-4482-A956-FBC0E16C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1817-147A-4FA4-A374-02A2CC37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266C-B8B5-4A9E-8ADB-EE4D7925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9E50-16C6-43E2-A037-10FED70A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98F-73A9-441D-AEF2-E3A42950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F06-2EFE-40EC-BB75-31223F43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2A3D-7C44-4475-84BA-9F574EAD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07B2-88A2-43DD-8731-5652823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341D-69B4-4E53-89CE-3D6A2382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D1AA-4FCF-4C24-8AB7-2D7FAF72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6744-9305-4A6A-AADF-63B3ACE5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CF248-6415-42F6-A61E-EBA4165D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5D2BA-306D-4D9F-9B00-38586E5F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09944-31E4-43F4-BA75-55D3929A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0927A-6674-4F08-ADD8-086A7DF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BA739-1E25-4E5A-8BED-FA4E3BDE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F3C-85C6-49F0-8E14-59017C95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9E7CF-2CC8-41AB-B30F-FDF609ED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177DE-BFB0-4E39-9601-1E20654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1C954-14B2-46DE-B91F-B5F254A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BE611-29A3-43E3-ADF6-B26BAD5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BF763-B7FE-46F2-A8A2-EEF43AF2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FE493-CEA4-4885-B930-A21B5038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845D7-E76E-40EE-8206-999F9A9E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7419-3A40-492D-B75D-CD61FB8A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4AC4-30FF-4D3B-95F9-06755124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3EE7-F802-43E8-A435-0404941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A9B-7418-43B9-9CDA-DB5D3728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5FBC-3375-4CBC-B1F5-6C5912BF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8E76-56DD-4645-A66D-06F3487B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EEDC-74AD-4DC4-A042-452CD4FC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AF08-BFE0-42D6-BA1F-FF22BD7C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DEFC-F9FF-4E73-A0E1-464B9427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5FFD-F5C2-4FE8-9E91-32A06303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5B5D-CCA3-44A0-8BAD-9BCA6CF2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73A7-E397-493D-901D-AB498B23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BB63-C963-4484-8767-88598797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9AC-2844-4504-9363-604B1E9B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AE3-FC2E-4604-B6E3-65071E1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26B-272C-494A-BBDC-2899816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3C0-8A9C-4203-905E-DFB0E88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D4B-5E40-4356-801D-1483AEE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121B-F483-4601-9535-71DB015BC8B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35BF-125C-4900-ACDF-6D493B72511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7CC2-5497-4CD7-A392-3DC00CB59FE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D04-F2F1-4518-9DF6-A21D4467511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0920" y="642960"/>
            <a:ext cx="7846920" cy="30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rebuchet MS"/>
              </a:rPr>
              <a:t>Решение задач на нахождение формулы углеводорода по продуктам горения</a:t>
            </a: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Рисунок 3" descr="probirka.gif"/>
          <p:cNvPicPr/>
          <p:nvPr/>
        </p:nvPicPr>
        <p:blipFill>
          <a:blip r:embed="rId1"/>
          <a:stretch/>
        </p:blipFill>
        <p:spPr>
          <a:xfrm>
            <a:off x="571680" y="3921120"/>
            <a:ext cx="15714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 действие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,72 л    х 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→  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2,4 л   12 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 = 6,72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12 / 22,4  = 3,6 (г) 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 (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ts val="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,2 г        у 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 → 2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8 г         2 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= 7,2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2 / 18  = 0,8 (г) 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 (H)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4" descr="91dc96f02a74"/>
          <p:cNvPicPr/>
          <p:nvPr/>
        </p:nvPicPr>
        <p:blipFill>
          <a:blip r:embed="rId1"/>
          <a:stretch/>
        </p:blipFill>
        <p:spPr>
          <a:xfrm>
            <a:off x="7164360" y="3645000"/>
            <a:ext cx="1492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4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ем соотношение атомов С и Н в веществе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xHy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 (C)     m (H)      3,6        0,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——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 ——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——  :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——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 (C)    Ar (H)     12          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3      :   0,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       :     8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3H8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стейшая формула вещес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3H8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 = 12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3 + 8 = 44 г/мол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3H8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тинная форму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т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3H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4" descr="graduation09_fullsize_story1"/>
          <p:cNvPicPr/>
          <p:nvPr/>
        </p:nvPicPr>
        <p:blipFill>
          <a:blip r:embed="rId1"/>
          <a:stretch/>
        </p:blipFill>
        <p:spPr>
          <a:xfrm>
            <a:off x="5724360" y="443700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984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молекулярную формулу углеводорода, имеющего плотность по водороду, равную 22, если при сгорании 4,4 г его в кислороде, образуется 6,72 л С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7,2 г Н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в-ва)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2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 (CxHy)=4,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г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(CO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=6,72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(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) = 7,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г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xHy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Рисунок 3" descr="29739603_1217329215_chemistry.gif"/>
          <p:cNvPicPr/>
          <p:nvPr/>
        </p:nvPicPr>
        <p:blipFill>
          <a:blip r:embed="rId1"/>
          <a:stretch/>
        </p:blipFill>
        <p:spPr>
          <a:xfrm>
            <a:off x="928800" y="4286160"/>
            <a:ext cx="25714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rebuchet MS"/>
              </a:rPr>
              <a:t>Задачу такого типа можно решить различными способами.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особ решения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ем молярную массу вещества по формул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(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ва)=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×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(в-ва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22 × 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г/моль = 44 г/мо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5" descr="Risunok1tttt"/>
          <p:cNvPicPr/>
          <p:nvPr/>
        </p:nvPicPr>
        <p:blipFill>
          <a:blip r:embed="rId1"/>
          <a:stretch/>
        </p:blipFill>
        <p:spPr>
          <a:xfrm>
            <a:off x="6659640" y="4869000"/>
            <a:ext cx="20383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ходим количество вещества углеводорода по формул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Georgia"/>
              </a:rPr>
              <a:t>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Georgia"/>
              </a:rPr>
              <a:t>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xHy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= 4,4 г : 44 г/моль = 0,1 мо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4" descr="40541"/>
          <p:cNvPicPr/>
          <p:nvPr/>
        </p:nvPicPr>
        <p:blipFill>
          <a:blip r:embed="rId1"/>
          <a:stretch/>
        </p:blipFill>
        <p:spPr>
          <a:xfrm>
            <a:off x="7308720" y="4797360"/>
            <a:ext cx="15829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Georgia"/>
              </a:rPr>
              <a:t>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Н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)= 7,2 г : 18 г/моль = 0,4 мо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4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Georgia"/>
              </a:rPr>
              <a:t>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=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/V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Georgia"/>
              </a:rPr>
              <a:t>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=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6,72 л : 22,4 л/моль = 0,3 мо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4" descr="a4c69ff5a03d"/>
          <p:cNvPicPr/>
          <p:nvPr/>
        </p:nvPicPr>
        <p:blipFill>
          <a:blip r:embed="rId1"/>
          <a:stretch/>
        </p:blipFill>
        <p:spPr>
          <a:xfrm>
            <a:off x="7236000" y="907920"/>
            <a:ext cx="10476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68360" y="992160"/>
            <a:ext cx="822960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5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xHy + 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→ 3C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 4 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1          :           0,3    :     0,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            :            3      :       4  - коэффициенты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истинная форму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т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5" descr="Mol3"/>
          <p:cNvPicPr/>
          <p:nvPr/>
        </p:nvPicPr>
        <p:blipFill>
          <a:blip r:embed="rId1"/>
          <a:stretch/>
        </p:blipFill>
        <p:spPr>
          <a:xfrm>
            <a:off x="6227640" y="4365720"/>
            <a:ext cx="25369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особ решения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ем молярную массу вещества по формул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(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ва)=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×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в-ва) =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× 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= 22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2 г/моль = 44 г/мо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5" descr="chem9a"/>
          <p:cNvPicPr/>
          <p:nvPr/>
        </p:nvPicPr>
        <p:blipFill>
          <a:blip r:embed="rId1"/>
          <a:stretch/>
        </p:blipFill>
        <p:spPr>
          <a:xfrm>
            <a:off x="5724360" y="4365720"/>
            <a:ext cx="25146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 действи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авим уравнение реакци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                                             6,72 л               7,2 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xHy + (x+0,25y)O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→ x CO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y/2 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4 г/моль                                    22,4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18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y/2 = 9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,4            6,72                4,4              7,2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___     =   ____            ____    =   ___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4           22,4 х               44               9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0,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0,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0,1 = __ ,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0,1 =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___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0,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 =   —  = 3 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y = 8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0,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тинная форму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т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4" descr="index4"/>
          <p:cNvPicPr/>
          <p:nvPr/>
        </p:nvPicPr>
        <p:blipFill>
          <a:blip r:embed="rId1"/>
          <a:stretch/>
        </p:blipFill>
        <p:spPr>
          <a:xfrm>
            <a:off x="7524720" y="765000"/>
            <a:ext cx="130320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I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особ решения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 действи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ем молярную массу вещества по формул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(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ва)=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× 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(в-ва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22 × 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г/моль = 44 г/мо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5" descr="386_NpAdvHover"/>
          <p:cNvPicPr/>
          <p:nvPr/>
        </p:nvPicPr>
        <p:blipFill>
          <a:blip r:embed="rId1"/>
          <a:stretch/>
        </p:blipFill>
        <p:spPr>
          <a:xfrm>
            <a:off x="5796000" y="4745160"/>
            <a:ext cx="2663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24:00Z</dcterms:created>
  <dc:creator>DJ_Diesel</dc:creator>
  <dc:description/>
  <dc:language>en-US</dc:language>
  <cp:lastModifiedBy>Loser76</cp:lastModifiedBy>
  <dcterms:modified xsi:type="dcterms:W3CDTF">2012-11-04T16:17:34Z</dcterms:modified>
  <cp:revision>15</cp:revision>
  <dc:subject/>
  <dc:title>Нахождение формулы вещества по продуктам горения.</dc:title>
</cp:coreProperties>
</file>