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FE30-A8B4-4CB6-A958-2DB7F3AF2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5F4E-85B7-444C-A081-8D4A7DE5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B52E-4500-45E8-81FC-89EDEB762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2EF8-6834-4B8C-91E4-84B30256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D4304-AB9B-4733-B799-450E9A7B3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612C1-9C45-4B29-AC06-3CF5D2D9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A836E-B111-444E-931B-0D973DEF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7F139-3480-4E35-BFFD-0972F3A4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BE1F7-4890-4304-B42A-C2F9D487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A93F5-0B15-4C20-8E1D-7E441A4C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6956C-9E75-4356-8F1F-2BE58030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BF68-07EC-4D78-8C7E-A078C2C3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875D3-AD1C-48D2-9A8B-F5A114A6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9FDE1-A8CF-403A-921A-068F6C60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141C6-467F-4B11-92E3-BED434F4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21148-9AB0-414E-A4CC-BDEEC5E1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CC239-2036-4AC7-83A9-BB73FC7F2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4B553-B342-4413-B9C0-80C540916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7E114-1B1C-412E-9C07-34444F89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A0876-5D71-47C8-A692-54373838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20EBE-7F85-4FC9-A1E6-4A4D5EDE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533FD-166B-4AE0-BDC2-232CBBCB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71D7-9AA6-499A-9DE6-573D61EB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08556-ECF7-434F-8299-669CD781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82C1A-2693-469A-8632-4F857C23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9B295-0407-4DD7-BAF1-050ADD0B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5A6DC-87FE-454C-8010-3310B086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EDBD3-24E8-4323-BCA4-23130D14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C3D08-5BA5-4A6C-8134-1FE92B4A9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7C381-C125-40EB-925E-1C2850BBF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1D3328-801B-4933-AB9C-3AD30B709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35D5B2-3949-4D27-A356-BE966D11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B7FAB7-EC88-4D8B-9F87-120E94A7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880D-1EA3-4FB4-8601-13299BFD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E65065-9EB6-483D-A9E7-36541DE9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579803-957D-482F-9A0C-EAE238EF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2FED30-3BC6-477D-A09F-9FFEBE35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7D780F-5DD8-4AD9-B01D-1567E2D7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2E7B14-C2D7-425B-82CB-F33C6F4D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0A7034-CEA5-4D7F-89B2-9339C209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F7524D-1677-4472-AB36-95FD695E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AD328D-7336-4ED4-8A03-FF849CFC5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7043A0-98A2-401D-AE9B-74647905D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44BABE-0EB9-4582-AEA9-6B094B39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D116-6F7B-4E1A-AAED-95B2E1B3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00F7B6-B0C9-4B82-BDCB-0C2722B9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EDEE8F-4687-4E1C-962D-1E0E1A9B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F03689-FEF4-419A-A990-2FFE95B5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32AC0C-B6C7-4BCF-BAF5-28A53F78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221F22-D1D1-4603-9A3F-548C44B5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7985FE-D626-4C03-BF41-002B095F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E59B60-F414-4FCC-A7DC-6CD661DE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49BA92-B48A-454C-A85C-E0256C3D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759F8D-F395-4E89-88CC-F2C97FE4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C63A6A-B273-4DF2-A332-44166FDC7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CE81-DB76-4DF4-B83C-03E21740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2FF9E9-9E59-4BF2-933D-2DB6193E8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D95654-06E9-4950-9388-526BEA529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A2544C-B0E6-426F-A700-852A6115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9071AF-CABD-4CA0-A395-5A60F65A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B6F180-6C95-40F4-B7F5-781C442B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891D78-DC72-4073-99F1-73247763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F4ED9B-9074-4E80-BC31-EBC27E40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2DF550-3B68-407B-A243-4ED11A57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21D4BD-1281-4852-8312-1D546A6D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AFD3DA-5FDB-42C1-BA2C-EEE35B84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5489-8478-42AF-9D5E-ACA2ED44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F2DE7E-8649-4E6D-8DB2-B6707FFF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BA2610-04DC-4791-B968-F82A4F74C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B225CC-A9B9-482C-B0FE-E3E469335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61FD-09CC-43ED-90A4-E455F2A7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6FC8-A219-4812-949E-050DF92C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8EF3-5C34-442D-9681-21A831DD9BF1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101F-DB15-4106-B3AD-44239A8C00A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3138-D818-4A66-B95D-D6DC3BCCAD0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C45E-6F4D-450E-9079-D43373AD279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F0A8-8F0D-43F7-85FC-6D23C9E2C8B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F8C3-BAED-499E-8CF4-93DBB03FDB6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3"/>
          <p:cNvSpPr/>
          <p:nvPr/>
        </p:nvSpPr>
        <p:spPr>
          <a:xfrm>
            <a:off x="857160" y="42876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БАСНЯ- КОРОТКИЙ АЛЛЕГОРИЧЕСКИЙ РАССКАЗ, В ВИДЕ СТИХОТВОРЕНИЯ ИЛИ ПРОЗЫ, С  НРАВОУЧИТЕЛЬНЫМ ЗАКЛЮЧЕНИЕМ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TextBox 4"/>
          <p:cNvSpPr/>
          <p:nvPr/>
        </p:nvSpPr>
        <p:spPr>
          <a:xfrm>
            <a:off x="1143000" y="17859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4" name="Рисунок 5" descr="Картинка 8 из 80578"/>
          <p:cNvPicPr/>
          <p:nvPr/>
        </p:nvPicPr>
        <p:blipFill>
          <a:blip r:embed="rId1"/>
          <a:stretch/>
        </p:blipFill>
        <p:spPr>
          <a:xfrm>
            <a:off x="2000160" y="1357200"/>
            <a:ext cx="520092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"/>
          <p:cNvSpPr/>
          <p:nvPr/>
        </p:nvSpPr>
        <p:spPr>
          <a:xfrm>
            <a:off x="500040" y="5716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                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ЭЗОП  — ПОЛУЛЕГЕНДАРНЫЙ БАСНОПИСЕЦ ДРЕВНЕГРЕЧЕСКОЙ ЛИТЕРАТУРЫ, ЖИВШИЙ В VI ВЕКЕ ДО Н. Э.. 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6" name="Рисунок 3" descr="Картинка 6 из 1097"/>
          <p:cNvPicPr/>
          <p:nvPr/>
        </p:nvPicPr>
        <p:blipFill>
          <a:blip r:embed="rId1"/>
          <a:stretch/>
        </p:blipFill>
        <p:spPr>
          <a:xfrm>
            <a:off x="2357280" y="1428840"/>
            <a:ext cx="42260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1"/>
          <p:cNvSpPr/>
          <p:nvPr/>
        </p:nvSpPr>
        <p:spPr>
          <a:xfrm>
            <a:off x="714240" y="428760"/>
            <a:ext cx="77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ЖАН ДЕ ЛАФОНТЕ́Н 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      — 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ЗНАМЕНИТЫЙ ФРАНЦУЗСКИЙ БАСНОПИСЕЦ  17 ВЕКА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8" name="Рисунок 3" descr="Картинка 4 из 12721"/>
          <p:cNvPicPr/>
          <p:nvPr/>
        </p:nvPicPr>
        <p:blipFill>
          <a:blip r:embed="rId1"/>
          <a:stretch/>
        </p:blipFill>
        <p:spPr>
          <a:xfrm>
            <a:off x="2286000" y="1285920"/>
            <a:ext cx="412920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1"/>
          <p:cNvSpPr/>
          <p:nvPr/>
        </p:nvSpPr>
        <p:spPr>
          <a:xfrm>
            <a:off x="357120" y="35712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СУМАРОКОВ АЛЕКСАНДР ПЕТРОВИЧ (14.11.1717 - 1.10.1777)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РУССКИЙ ПИСАТЕЛЬ, БАСНОПИСЕЦ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0" name="Рисунок 5" descr="Картинка 2 из 5148"/>
          <p:cNvPicPr/>
          <p:nvPr/>
        </p:nvPicPr>
        <p:blipFill>
          <a:blip r:embed="rId1"/>
          <a:stretch/>
        </p:blipFill>
        <p:spPr>
          <a:xfrm>
            <a:off x="2428920" y="1214280"/>
            <a:ext cx="4143240" cy="52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Box 1"/>
          <p:cNvSpPr/>
          <p:nvPr/>
        </p:nvSpPr>
        <p:spPr>
          <a:xfrm>
            <a:off x="428760" y="1785960"/>
            <a:ext cx="3214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КРЫЛОВ Иван Андреевич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( 1769  —  1844), русский баснописец, драматург, журналист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Член Общества любителей российской словесности (1816), действительный член Российской академии (1811), Петербургской АН (1841)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2" name="Рисунок 3" descr="Картинка 8 из 2090"/>
          <p:cNvPicPr/>
          <p:nvPr/>
        </p:nvPicPr>
        <p:blipFill>
          <a:blip r:embed="rId1"/>
          <a:stretch/>
        </p:blipFill>
        <p:spPr>
          <a:xfrm>
            <a:off x="3929040" y="785880"/>
            <a:ext cx="39052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1"/>
          <p:cNvSpPr/>
          <p:nvPr/>
        </p:nvSpPr>
        <p:spPr>
          <a:xfrm>
            <a:off x="5214960" y="1357200"/>
            <a:ext cx="3286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СЕРГЕ́Й ВЛАДИ́МИРОВИЧ МИХАЛКО́В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  — СОВЕТСКИЙ И РУССКИЙ ПИСАТЕЛЬ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ОЭТ, БАСНОПИСЕЦ, ДРАМАТУРГ, ВОЕННЫЙ КОРРЕСПОНДЕНТ ВО ВРЕМЯ ВЕЛИКОЙ ОТЕЧЕСТВЕННОЙ ВОЙНЫ, АВТОР ТЕКСТА ДВУХ ГИМНОВ СОВЕТСКОГО СОЮЗА И ГИМНА РОССИЙСКОЙ ФЕДЕРАЦИИ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4" name="TextBox 3"/>
          <p:cNvSpPr/>
          <p:nvPr/>
        </p:nvSpPr>
        <p:spPr>
          <a:xfrm>
            <a:off x="1152360" y="1366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5" name="Рисунок 5" descr="Картинка 36 из 2064"/>
          <p:cNvPicPr/>
          <p:nvPr/>
        </p:nvPicPr>
        <p:blipFill>
          <a:blip r:embed="rId1"/>
          <a:stretch/>
        </p:blipFill>
        <p:spPr>
          <a:xfrm>
            <a:off x="1500120" y="1214280"/>
            <a:ext cx="29289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17:04:53Z</dcterms:created>
  <dc:creator>007</dc:creator>
  <dc:description/>
  <dc:language>en-US</dc:language>
  <cp:lastModifiedBy>007</cp:lastModifiedBy>
  <dcterms:modified xsi:type="dcterms:W3CDTF">2011-12-04T17:48:02Z</dcterms:modified>
  <cp:revision>5</cp:revision>
  <dc:subject/>
  <dc:title>Слайд 1</dc:title>
</cp:coreProperties>
</file>