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A4DC-FF80-4B4A-9F63-4C05E416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97F-1E1B-43BC-88FE-50B76173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97B-D1C6-40DD-9CFA-5A63A2C5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66E-8F54-4040-B1C9-1F810C1A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7DB-FE35-47DA-928A-AD294A51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3AD-EA2B-464F-8FC9-D0D2E053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E87-C8B6-4C02-864A-47E07EEF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8A70-54A0-4BC6-939D-91DB1522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9C4-F6B9-40F9-AB2C-B587346D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C46-FB21-46A5-9F8F-49AB581E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C4E-2A33-49A2-9841-162ACE5A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A51B-5FED-4F8F-B71D-5FE77950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5B3C-00D5-4DC3-A778-4FC439989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826920" y="1557360"/>
            <a:ext cx="756144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4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пределение </a:t>
            </a:r>
            <a:endParaRPr b="0" lang="en-US" sz="4800" spc="1" strike="noStrike">
              <a:ln w="19080">
                <a:solidFill>
                  <a:srgbClr val="80008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личества </a:t>
            </a:r>
            <a:endParaRPr b="0" lang="en-US" sz="4800" spc="1" strike="noStrike">
              <a:ln w="19080">
                <a:solidFill>
                  <a:srgbClr val="80008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4800" spc="1" strike="noStrike">
              <a:ln w="19080">
                <a:solidFill>
                  <a:srgbClr val="80008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1258920" y="404640"/>
            <a:ext cx="6192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Единицы измер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50920" y="2708280"/>
            <a:ext cx="849780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килобайт = 1Кб=2</a:t>
            </a:r>
            <a:r>
              <a:rPr b="0" lang="ru-RU" sz="3200" spc="-1" strike="noStrike" baseline="30000">
                <a:solidFill>
                  <a:srgbClr val="0000ff"/>
                </a:solidFill>
                <a:latin typeface="Arial"/>
              </a:rPr>
              <a:t>10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байт =1024 бай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 мегабайт = 1Мб=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3200" spc="-1" strike="noStrike" baseline="30000">
                <a:solidFill>
                  <a:srgbClr val="0000ff"/>
                </a:solidFill>
                <a:latin typeface="Arial"/>
              </a:rPr>
              <a:t>10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б = 2</a:t>
            </a:r>
            <a:r>
              <a:rPr b="0" lang="ru-RU" sz="3200" spc="-1" strike="noStrike" baseline="30000">
                <a:solidFill>
                  <a:srgbClr val="0000ff"/>
                </a:solidFill>
                <a:latin typeface="Arial"/>
              </a:rPr>
              <a:t>20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бай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 гигабайт = 1Гб = 2</a:t>
            </a:r>
            <a:r>
              <a:rPr b="0" lang="ru-RU" sz="3200" spc="-1" strike="noStrike" baseline="30000">
                <a:solidFill>
                  <a:srgbClr val="0000ff"/>
                </a:solidFill>
                <a:latin typeface="Arial"/>
              </a:rPr>
              <a:t>10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б = 2</a:t>
            </a:r>
            <a:r>
              <a:rPr b="0" lang="ru-RU" sz="3200" spc="-1" strike="noStrike" baseline="30000">
                <a:solidFill>
                  <a:srgbClr val="0000ff"/>
                </a:solidFill>
                <a:latin typeface="Arial"/>
              </a:rPr>
              <a:t>30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бай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 Терабайт (Тб) = 2</a:t>
            </a:r>
            <a:r>
              <a:rPr b="0" lang="ru-RU" sz="3200" spc="-1" strike="noStrike" baseline="30000">
                <a:solidFill>
                  <a:srgbClr val="0000ff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Гбайта = 2</a:t>
            </a:r>
            <a:r>
              <a:rPr b="0" lang="ru-RU" sz="3200" spc="-1" strike="noStrike" baseline="30000">
                <a:solidFill>
                  <a:srgbClr val="0000ff"/>
                </a:solidFill>
                <a:latin typeface="Arial"/>
              </a:rPr>
              <a:t>40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бай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 Петабайт (Пб) = 2</a:t>
            </a:r>
            <a:r>
              <a:rPr b="0" lang="ru-RU" sz="3200" spc="-1" strike="noStrike" baseline="30000">
                <a:solidFill>
                  <a:srgbClr val="0000ff"/>
                </a:solidFill>
                <a:latin typeface="Arial"/>
              </a:rPr>
              <a:t>10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Тбайта = 2</a:t>
            </a:r>
            <a:r>
              <a:rPr b="0" lang="ru-RU" sz="3200" spc="-1" strike="noStrike" baseline="30000">
                <a:solidFill>
                  <a:srgbClr val="0000ff"/>
                </a:solidFill>
                <a:latin typeface="Arial"/>
              </a:rPr>
              <a:t>50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бай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11280" y="1989000"/>
            <a:ext cx="7921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 байт = 8 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395280" y="907920"/>
            <a:ext cx="813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что если алфавит состоит только из двух символов 0 и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м случае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= 2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При использовании двоичной системы (алфавит состоит из двух знаков: 0 и 1) каждый двоичный знак несет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1 бит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но, что сама единица измерения информации «бит» получила свое название от английского сочетан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ary dig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- «двоичная цифр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684360" y="54936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Двоичный алфав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2914560" y="3259080"/>
            <a:ext cx="28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Достаточный алфав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250920" y="3789360"/>
            <a:ext cx="867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ия на максимальный размер алфавита теоретически не существует. Однако есть алфавит, который можно назва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аточн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 ним мы скоро встретимся при работе с компьютером. Это алфави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щностью 256 симво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алфавит такого размера можно поместить все практически необходимые символы: латинские и русские буквы, цифры, знаки арифметических операций, всевозможные скобки, знаки препинания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м случае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символ этого алфавита «весит» 8 б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1байт, т.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1 байт = 8 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611280" y="18900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Примеры некоторых алфави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Скорость передачи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ем-передача информации могут происходить с разной скор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Количество информации, передаваемое за единицу времени, есть скорость передачи информации или скорость информационного пот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видно, эта скорость выражается в таких единицах, как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бит в секунду (бит/с), байт в секунду (байт/с), килобайт в секунду (Кбайт/с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Как измерить информаци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 этот очень непрост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 на него зависит от того, что понимать под информацией. Но поскольку определять информацию можно по-разному, то 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особы измер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ж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гут быть разны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2700360" y="5388120"/>
            <a:ext cx="3695760" cy="849240"/>
            <a:chOff x="2700360" y="5388120"/>
            <a:chExt cx="3695760" cy="849240"/>
          </a:xfrm>
        </p:grpSpPr>
        <p:pic>
          <p:nvPicPr>
            <p:cNvPr id="45" name="Picture 5" descr=""/>
            <p:cNvPicPr/>
            <p:nvPr/>
          </p:nvPicPr>
          <p:blipFill>
            <a:blip r:embed="rId1"/>
            <a:stretch/>
          </p:blipFill>
          <p:spPr>
            <a:xfrm>
              <a:off x="2700360" y="5388120"/>
              <a:ext cx="3695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WordArt 6"/>
            <p:cNvSpPr txBox="1"/>
            <p:nvPr/>
          </p:nvSpPr>
          <p:spPr>
            <a:xfrm>
              <a:off x="2930400" y="5675400"/>
              <a:ext cx="300996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be0e3"/>
                  </a:solidFill>
                  <a:latin typeface="Calibri"/>
                </a:rPr>
                <a:t>ИНФОРМАЦ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Calibri"/>
                <a:ea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Organization Chart 2"/>
          <p:cNvGrpSpPr/>
          <p:nvPr/>
        </p:nvGrpSpPr>
        <p:grpSpPr>
          <a:xfrm>
            <a:off x="684360" y="981000"/>
            <a:ext cx="8208000" cy="4462920"/>
            <a:chOff x="684360" y="981000"/>
            <a:chExt cx="8208000" cy="4462920"/>
          </a:xfrm>
        </p:grpSpPr>
        <p:cxnSp>
          <p:nvCxnSpPr>
            <p:cNvPr id="48" name="_s1028"/>
            <p:cNvCxnSpPr>
              <a:stCxn id="49" idx="0"/>
              <a:endCxn id="50" idx="2"/>
            </p:cNvCxnSpPr>
            <p:nvPr/>
          </p:nvCxnSpPr>
          <p:spPr>
            <a:xfrm flipV="1" rot="16200000">
              <a:off x="5123880" y="2079720"/>
              <a:ext cx="1490400" cy="2258640"/>
            </a:xfrm>
            <a:prstGeom prst="bentConnector3">
              <a:avLst>
                <a:gd name="adj1" fmla="val 76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29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2913840" y="2128320"/>
              <a:ext cx="1490400" cy="2161800"/>
            </a:xfrm>
            <a:prstGeom prst="bentConnector3">
              <a:avLst>
                <a:gd name="adj1" fmla="val 76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0" name="_s1030"/>
            <p:cNvSpPr/>
            <p:nvPr/>
          </p:nvSpPr>
          <p:spPr>
            <a:xfrm>
              <a:off x="2841840" y="981000"/>
              <a:ext cx="3788280" cy="1483560"/>
            </a:xfrm>
            <a:prstGeom prst="roundRect">
              <a:avLst>
                <a:gd name="adj" fmla="val 3497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ahoma"/>
                </a:rPr>
                <a:t>Измерение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ahoma"/>
                </a:rPr>
                <a:t>информаци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1"/>
            <p:cNvSpPr/>
            <p:nvPr/>
          </p:nvSpPr>
          <p:spPr>
            <a:xfrm>
              <a:off x="684360" y="3954240"/>
              <a:ext cx="3788280" cy="1489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одержатель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д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2"/>
            <p:cNvSpPr/>
            <p:nvPr/>
          </p:nvSpPr>
          <p:spPr>
            <a:xfrm>
              <a:off x="5104080" y="3954240"/>
              <a:ext cx="3788280" cy="1489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Алфавитн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д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95280" y="47628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держательный подход к измерению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95280" y="981000"/>
            <a:ext cx="856944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человек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я — это знания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учение новой информации приводит к расширению знаний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можно говорить, ч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ое сообщени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держи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ворят, что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ообщение информативно если оно пополняет зн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прогноз погоды на завтра — информативное сообщение, а сообщение о вчерашней погоде неинформативно, т.к. нам это уже извес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2340000" y="3357720"/>
            <a:ext cx="633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новоположником этого подхода является американский учёный Клод Элвуд Шеннон(1916 — 200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 Шеннону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формация — уменьшение неопределенности наших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определенность некоторого события — это количество возможных исходов данного со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ак, например, если из колоды карт наугад выбирают карту, то неопределенность равна количеству карт в кол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 бросании монеты неопределенность равна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claude_shannon5"/>
          <p:cNvPicPr/>
          <p:nvPr/>
        </p:nvPicPr>
        <p:blipFill>
          <a:blip r:embed="rId1"/>
          <a:stretch/>
        </p:blipFill>
        <p:spPr>
          <a:xfrm>
            <a:off x="324000" y="3284640"/>
            <a:ext cx="18302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324000" y="981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ица измерения информации была определена в науке, которая называется теорией информации. Эта единица носит название 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Ее определение звучит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Сообщение, уменьшающее неопределенность знаний в два раза, несет 1 бит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Неопределенность знаний о некотором событии — это количество возможных результатов со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468440" y="379440"/>
            <a:ext cx="690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держательный подход к измерению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79280" y="3716280"/>
            <a:ext cx="842508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можно записать формул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ff"/>
                </a:solidFill>
                <a:latin typeface="Arial"/>
              </a:rPr>
              <a:t>i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=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событ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информации одного со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На книжном стеллаже восемь полок. Книга может быть поставлена на любую из них. Сколько информации содержит сообщение о том, где находится книг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N =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-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okman Old Style"/>
              </a:rPr>
              <a:t>2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3200" spc="-1" strike="noStrike" baseline="30000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Bookman Old Style"/>
              </a:rPr>
              <a:t>= N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 baseline="30000">
                <a:solidFill>
                  <a:srgbClr val="000099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 baseline="30000">
                <a:solidFill>
                  <a:srgbClr val="000099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=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сообщение о том, что книга находится на любой из полок равн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бита</a:t>
            </a: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084720" y="1989000"/>
            <a:ext cx="239112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77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" dur="77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68360" y="260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лфавитный подход к измерению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68360" y="692280"/>
            <a:ext cx="818352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фавитный подход к измерению количества информации основан на подсчете числа символов в сообщ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алфавитном подходе к определению количества информац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лекаются от содерж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формации и рассматривают информационное сообщение ка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довательность зна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ределенной знаковой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множе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спользуемых в язык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во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дем традиционно называть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лфави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под алфавитом понимают только буквы, но поскольку в тексте могут встречаться знаки препинания, цифры, скобки, то мы их тоже включим в алфавит. В алфавит также следует включить и пробел, т.е. пропуск между сло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е количество символов алфавита принято называть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щностью алфави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орм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i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=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щность алфави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информации одного симв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468360" y="260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лфавитный подход к измерению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468360" y="3500280"/>
            <a:ext cx="8496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95280" y="2917800"/>
            <a:ext cx="803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3635280" y="4653000"/>
            <a:ext cx="536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новоположником этого подхода является Андрей Николаевич Колмогоров,(1903-1987), великий российский ученый-математ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95280" y="4581360"/>
            <a:ext cx="828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kolmogorov-m"/>
          <p:cNvPicPr/>
          <p:nvPr/>
        </p:nvPicPr>
        <p:blipFill>
          <a:blip r:embed="rId1"/>
          <a:stretch/>
        </p:blipFill>
        <p:spPr>
          <a:xfrm>
            <a:off x="250920" y="3805200"/>
            <a:ext cx="3384360" cy="27036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2"/>
          <p:cNvSpPr/>
          <p:nvPr/>
        </p:nvSpPr>
        <p:spPr>
          <a:xfrm>
            <a:off x="395280" y="692280"/>
            <a:ext cx="84978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При алфавитном подходе к измерению информации количество информации зависит не от содержания, а от размера текста и мощности алфав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395280" y="1557360"/>
            <a:ext cx="75614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нформационный объем текста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), содержащего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имволов вычисляют по форму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=K*i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де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-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нформационный объем текс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-  количество символов в текс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- информационный объем  одного симв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Определите информационный объем страницы книги, если для записи текста использовались только заглавные буквы русского алфавита, кроме буквы 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N = 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 baseline="30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=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 baseline="30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 baseline="30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= 5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 странице 3000 знаков,т.е. К=300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огда объем информации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= 3000 * 5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= 15000 бит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онный объем страницы книги рав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000 б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gnome-mime-text"/>
          <p:cNvPicPr/>
          <p:nvPr/>
        </p:nvPicPr>
        <p:blipFill>
          <a:blip r:embed="rId1"/>
          <a:stretch/>
        </p:blipFill>
        <p:spPr>
          <a:xfrm>
            <a:off x="6804000" y="3429000"/>
            <a:ext cx="1441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5:42:44Z</dcterms:created>
  <dc:creator>Зазулина Н.П.</dc:creator>
  <dc:description/>
  <dc:language>en-US</dc:language>
  <cp:lastModifiedBy>сашка</cp:lastModifiedBy>
  <dcterms:modified xsi:type="dcterms:W3CDTF">2012-09-23T10:06:28Z</dcterms:modified>
  <cp:revision>7</cp:revision>
  <dc:subject/>
  <dc:title>Слайд 1</dc:title>
</cp:coreProperties>
</file>