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67F-0688-46F8-866B-E5A94EE3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815A-1EB5-494C-8998-674F4993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4D9-17BB-4F5E-BD8C-EDF0F2BD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7D7-B99A-46B0-BDC5-D72BE218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FA1A0-5DAB-4CB7-824D-020F521D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1F521-28C1-425E-ADA4-DD684C31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9047E-5396-40B5-922E-403F3A88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A36E1-E072-4A50-A777-83E2D99C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52C66-8462-405D-AC16-3BEDC750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2DF32-F804-4E8A-91B9-74F504A1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3B091-9509-4E67-A358-C43D2227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0E4-C150-4B65-8B45-DCB652D3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B70A6-733C-411E-9D61-E300FBDD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0173C-A7C6-4EF9-AB39-533CA866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946B1-296A-4D2E-AECA-31853272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773F4-F435-46A6-8B9A-F22377B2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37167-BBCA-4667-82D3-E23D97BC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913-4B98-4AEC-9100-9BBE00A1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25C-675E-47F0-84B5-526978BA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B82-2D38-48D1-A24D-FED18455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DDC5-D90E-46B9-ACCC-37A3E977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0B0-A9C9-49CC-BB0F-A05CE508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57F-2AA0-4447-BF97-ADF9F003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432-1C2A-4CAF-A6A8-0DAC49F4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FECD-505B-4E82-AB41-C9C4CD04ED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8F13-8CD0-4047-99A6-0A38362DFA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71520" y="214200"/>
            <a:ext cx="635796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ческая химия:</a:t>
            </a:r>
            <a:br>
              <a:rPr sz="4000"/>
            </a:b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Жиры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572000" cy="3500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71680" y="5357880"/>
            <a:ext cx="4929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211640" y="327672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зентацию подготовил ученик 10 «А» класса Сухинин Анатол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3887640" cy="3089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0" y="3213000"/>
            <a:ext cx="4029120" cy="270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foto_019"/>
          <p:cNvPicPr/>
          <p:nvPr/>
        </p:nvPicPr>
        <p:blipFill>
          <a:blip r:embed="rId2"/>
          <a:stretch/>
        </p:blipFill>
        <p:spPr>
          <a:xfrm>
            <a:off x="2071800" y="2786040"/>
            <a:ext cx="4681440" cy="3286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2195640" y="333360"/>
            <a:ext cx="56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Рацион   пита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63480" y="1557360"/>
            <a:ext cx="17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Бел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564000" y="1557360"/>
            <a:ext cx="14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Жир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6014520" y="155736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Углев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H="1">
            <a:off x="1692360" y="907920"/>
            <a:ext cx="2016000" cy="7207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4211640" y="981000"/>
            <a:ext cx="0" cy="6476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4859280" y="907920"/>
            <a:ext cx="1800360" cy="649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901800" y="227664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а, 2б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4069080" y="220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6589440" y="22050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4б, 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ahoma"/>
              </a:rPr>
              <a:t>Роль жиров в здоровом питании спортсмен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5364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иры хорошо усваиваются организмом, имеют высокую калорийность, содержат биологически активные вещества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(ненасыщенные жирные кислоты, фосфатиды, витамины А,Д,Е,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, токоферолы, красящие вещества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502080" cy="44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лассификация жир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285920"/>
            <a:ext cx="822960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иры живот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ливочное масл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ивотное сал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ыбий жи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тительные жиры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ливковое , подсолнечное 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курузное 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евое 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льмовое мас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3786120" cy="3000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5219640" y="1052640"/>
            <a:ext cx="3527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изические свойства жир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иры не растворимы в в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лотность их меньше 1г/с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жиров низкие температуры кип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при комнатной температуре они имеют твердое агрегатное состояние, то их называют жирами, а если жидкое, то – масл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пределение жир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иры – это сложные эфиры , образованные трехатомным спиртом – глицерином и одноосновными карбоновыми кислотам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11760" y="3240360"/>
            <a:ext cx="835020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O-CO-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CO-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I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O-CO-R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R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R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R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радикалы (иногда - различных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ых кислот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имические свойства жир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Гидролиз ( омыление с водой и щелочами – едким натром или едким кал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Гидрирование жиров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9" descr="image008"/>
          <p:cNvPicPr/>
          <p:nvPr/>
        </p:nvPicPr>
        <p:blipFill>
          <a:blip r:embed="rId2"/>
          <a:stretch/>
        </p:blipFill>
        <p:spPr>
          <a:xfrm>
            <a:off x="1116000" y="2997360"/>
            <a:ext cx="6480360" cy="1317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image004"/>
          <p:cNvPicPr/>
          <p:nvPr/>
        </p:nvPicPr>
        <p:blipFill>
          <a:blip r:embed="rId3"/>
          <a:stretch/>
        </p:blipFill>
        <p:spPr>
          <a:xfrm>
            <a:off x="5724360" y="5084640"/>
            <a:ext cx="2160720" cy="14511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3"/>
          <p:cNvGrpSpPr/>
          <p:nvPr/>
        </p:nvGrpSpPr>
        <p:grpSpPr>
          <a:xfrm>
            <a:off x="324000" y="5084640"/>
            <a:ext cx="5039640" cy="1390320"/>
            <a:chOff x="324000" y="5084640"/>
            <a:chExt cx="5039640" cy="1390320"/>
          </a:xfrm>
        </p:grpSpPr>
        <p:pic>
          <p:nvPicPr>
            <p:cNvPr id="114" name="Picture 14" descr="image006"/>
            <p:cNvPicPr/>
            <p:nvPr/>
          </p:nvPicPr>
          <p:blipFill>
            <a:blip r:embed="rId4"/>
            <a:srcRect l="58630" t="0" r="24996" b="0"/>
            <a:stretch/>
          </p:blipFill>
          <p:spPr>
            <a:xfrm>
              <a:off x="4263120" y="5084640"/>
              <a:ext cx="1100520" cy="123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5" descr="image006"/>
            <p:cNvPicPr/>
            <p:nvPr/>
          </p:nvPicPr>
          <p:blipFill>
            <a:blip r:embed="rId5"/>
            <a:srcRect l="0" t="0" r="47415" b="0"/>
            <a:stretch/>
          </p:blipFill>
          <p:spPr>
            <a:xfrm>
              <a:off x="324000" y="5136840"/>
              <a:ext cx="3533400" cy="123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16"/>
            <p:cNvSpPr/>
            <p:nvPr/>
          </p:nvSpPr>
          <p:spPr>
            <a:xfrm>
              <a:off x="3822120" y="512424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1c1c1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3806280" y="560412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1c1c1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3807360" y="606924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1c1c1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иры получаю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55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таплива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ссова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трагирова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дрированием жиров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хн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паратирова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5292720" y="1197000"/>
            <a:ext cx="3705120" cy="25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именение жиров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ищевые 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ырье в производстве марга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медиц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изводстве мы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смети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техни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лаках и краск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3059280" cy="1333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443640" y="3645000"/>
            <a:ext cx="1830240" cy="30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07:30:38Z</dcterms:created>
  <dc:creator>ольга</dc:creator>
  <dc:description/>
  <dc:language>en-US</dc:language>
  <cp:lastModifiedBy>толик</cp:lastModifiedBy>
  <dcterms:modified xsi:type="dcterms:W3CDTF">2012-01-05T12:49:36Z</dcterms:modified>
  <cp:revision>25</cp:revision>
  <dc:subject/>
  <dc:title>Органическая химия: «Жиры»</dc:title>
</cp:coreProperties>
</file>