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410-9622-4C6D-A28F-64F9FEA48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CF73-4F5A-4C05-AFD0-39A0D0CDC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8CB-1147-4B3B-A785-F3024DC86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FEB-D04E-4191-9CBB-219EE75CB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3978-DE73-4678-A84D-754CC2538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F8C-9F32-4DF9-AC06-DE2B6C6880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72B4-0511-4806-ABF5-F8C34E237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69C8-5D71-4FF1-8BC4-9538C0F100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2614-D54F-4F56-A15B-ED2DF3A0F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C1B-8D74-4196-9397-44E82CBA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A9E-BE1E-41ED-A608-2D67E30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A21-167E-46EE-9814-1C568ED7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A48-79B9-4D0F-A287-40C0BA4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D5E-5CF6-404F-8934-59D32B42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695-7EEA-4789-8813-3F9ED29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325-4E7A-4F32-A424-782F0493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663-0989-4757-938D-DBD2D18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8F2-9CF9-4150-AC53-A18D2624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27E-5D7F-49FF-A216-E000FFC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940-E6C6-461F-8853-7532F49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D6F-074E-4710-9ECF-BCE645A2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CF08-3B96-42F6-972F-D2C4100D1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-6480"/>
            <a:ext cx="9120240" cy="12686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1828800"/>
            <a:ext cx="7948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1225440" y="133200"/>
            <a:ext cx="6613560" cy="12686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274760" y="2468520"/>
            <a:ext cx="75344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1079640" y="1279440"/>
            <a:ext cx="74055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219240" y="158760"/>
            <a:ext cx="866916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3114720" y="2730600"/>
            <a:ext cx="5627520" cy="133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zn5_19_2"/>
          <p:cNvPicPr/>
          <p:nvPr/>
        </p:nvPicPr>
        <p:blipFill>
          <a:blip r:embed="rId3"/>
          <a:stretch/>
        </p:blipFill>
        <p:spPr>
          <a:xfrm>
            <a:off x="208080" y="1962000"/>
            <a:ext cx="31874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2610000" y="1305000"/>
            <a:ext cx="6418080" cy="7729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3676680" y="4664160"/>
            <a:ext cx="5106960" cy="77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zn1_23[1]"/>
          <p:cNvPicPr/>
          <p:nvPr/>
        </p:nvPicPr>
        <p:blipFill>
          <a:blip r:embed="rId3"/>
          <a:stretch/>
        </p:blipFill>
        <p:spPr>
          <a:xfrm>
            <a:off x="324000" y="351000"/>
            <a:ext cx="2735280" cy="237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zn3_9[1]"/>
          <p:cNvPicPr/>
          <p:nvPr/>
        </p:nvPicPr>
        <p:blipFill>
          <a:blip r:embed="rId4"/>
          <a:stretch/>
        </p:blipFill>
        <p:spPr>
          <a:xfrm>
            <a:off x="539640" y="335772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zn7_1[1]"/>
          <p:cNvPicPr/>
          <p:nvPr/>
        </p:nvPicPr>
        <p:blipFill>
          <a:blip r:embed="rId1"/>
          <a:stretch/>
        </p:blipFill>
        <p:spPr>
          <a:xfrm>
            <a:off x="2170080" y="1474920"/>
            <a:ext cx="1633680" cy="246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zn7_6[1]"/>
          <p:cNvPicPr/>
          <p:nvPr/>
        </p:nvPicPr>
        <p:blipFill>
          <a:blip r:embed="rId2"/>
          <a:stretch/>
        </p:blipFill>
        <p:spPr>
          <a:xfrm>
            <a:off x="4140360" y="4292640"/>
            <a:ext cx="1314360" cy="2089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7" descr="zn3_10[1]"/>
          <p:cNvPicPr/>
          <p:nvPr/>
        </p:nvPicPr>
        <p:blipFill>
          <a:blip r:embed="rId3"/>
          <a:stretch/>
        </p:blipFill>
        <p:spPr>
          <a:xfrm>
            <a:off x="6357960" y="4309920"/>
            <a:ext cx="2378160" cy="30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zn4_5[1]"/>
          <p:cNvPicPr/>
          <p:nvPr/>
        </p:nvPicPr>
        <p:blipFill>
          <a:blip r:embed="rId4"/>
          <a:stretch/>
        </p:blipFill>
        <p:spPr>
          <a:xfrm>
            <a:off x="426960" y="4383000"/>
            <a:ext cx="2163960" cy="273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zn5_16[1]"/>
          <p:cNvPicPr/>
          <p:nvPr/>
        </p:nvPicPr>
        <p:blipFill>
          <a:blip r:embed="rId5"/>
          <a:stretch/>
        </p:blipFill>
        <p:spPr>
          <a:xfrm>
            <a:off x="5883120" y="1474920"/>
            <a:ext cx="1603440" cy="23907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" descr=""/>
          <p:cNvPicPr/>
          <p:nvPr/>
        </p:nvPicPr>
        <p:blipFill>
          <a:blip r:embed="rId6"/>
          <a:stretch/>
        </p:blipFill>
        <p:spPr>
          <a:xfrm>
            <a:off x="731880" y="291960"/>
            <a:ext cx="7540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49320" y="1547640"/>
            <a:ext cx="9186840" cy="1384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463680" y="3048120"/>
            <a:ext cx="812628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3"/>
          <a:stretch/>
        </p:blipFill>
        <p:spPr>
          <a:xfrm>
            <a:off x="1298520" y="208080"/>
            <a:ext cx="6400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4"/>
          <a:stretch/>
        </p:blipFill>
        <p:spPr>
          <a:xfrm>
            <a:off x="963720" y="4565520"/>
            <a:ext cx="72054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798480" y="347760"/>
            <a:ext cx="7149960" cy="12729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-158760" y="1547640"/>
            <a:ext cx="9107640" cy="19148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-158760" y="3475080"/>
            <a:ext cx="9290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122400"/>
            <a:ext cx="9869400" cy="2773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/>
          <p:cNvPicPr/>
          <p:nvPr/>
        </p:nvPicPr>
        <p:blipFill>
          <a:blip r:embed="rId2"/>
          <a:stretch/>
        </p:blipFill>
        <p:spPr>
          <a:xfrm>
            <a:off x="-158760" y="2835360"/>
            <a:ext cx="9021600" cy="19126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-146160" y="4621320"/>
            <a:ext cx="8320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19:03Z</dcterms:created>
  <dc:creator>св</dc:creator>
  <dc:description/>
  <dc:language>en-US</dc:language>
  <cp:lastModifiedBy>св</cp:lastModifiedBy>
  <dcterms:modified xsi:type="dcterms:W3CDTF">2010-09-22T15:27:44Z</dcterms:modified>
  <cp:revision>15</cp:revision>
  <dc:subject/>
  <dc:title>Слайд 1</dc:title>
</cp:coreProperties>
</file>