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54B-9144-4FB6-8A00-87F95436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B0C-144D-4A26-B9C0-88022D6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2DC-AAA2-4C72-BD45-00B1E473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FEF-B993-4FC3-BE4C-099403AE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6B4-4B0F-4AEE-A614-A91A5E5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F9C-31F3-42C1-9AB8-2575B8D4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AD8-0712-4480-B73A-EC399BD3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024-CD27-4601-99CB-A0FBC39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B2E-49BE-421D-82BC-88B12A6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F8E-BFA1-4C72-9657-3E01C7D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CEF6-998D-4417-9AFE-8A2EACF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EBB-D0A3-4CF8-9CD0-56B7E70B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F23-87B5-4897-B533-21BB62B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0E87-C593-4F10-B0B8-6FE0407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A7CF-F6D7-404F-AB70-B05A9F78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A7E7-3ED3-4974-974D-2E381573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8EA-9212-4333-A9BF-1514D201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17B-A7F5-4216-81F5-3EA978C4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74D-D2B4-4FB5-84D5-90629D9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9B7-C629-4DFB-B6CA-83357EE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CF6-3169-42AE-AC93-CEFBC23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81C-AB61-4113-81FF-17F6287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CC4-AF7F-478E-9B65-5B423AD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10A-FEBF-4FF7-97C1-5DF92D6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43E-470D-4CAD-B818-40F72C6F3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DD4-BA3C-471B-9FD6-4E8A856EF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6980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Участие Оренбуржцев в войне 1812 г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1640" y="5013000"/>
            <a:ext cx="44276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ыполнил: Шевченко 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оверила: Алексюк Г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338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А также  проводились сборы на пожертвование. Мещане и купцы Оренбурга и Бузулука пожертвовали 1875 рублей на снабжение лошадьми и упряжью Костромского пехотного полка. В пользу воинов, «положивших живот свой за отечество, раненых и всех тех, кои потерпели бедствие от неприятеля», жители Оренбурга внесли 7240 рублей, Уфы — 565, Челябинска — 990, Стерлитамака — 49, Бирска — 165, крепости Верхнеозерной — 40, а всего с уездами 10 613 руб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968720" cy="381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788000" y="333360"/>
            <a:ext cx="3898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 крепостных крестьян края помещики собирали в счет пожертвований на войну по одному рублю с души, что составило около шестидесяти тысяч рублей. Местное же дворянство, имея огромные доходы с имений, внесло лишь мизерную сумму — 3493 рубля. Иными словами, не господствующее сословие дворян, а трудовой народ вынес основное бремя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68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1960" y="411120"/>
            <a:ext cx="79279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 Black"/>
              </a:rPr>
              <a:t>Оренбургский край как место ссылки военнопленных наполеоновской армии.</a:t>
            </a:r>
            <a:br>
              <a:rPr sz="30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Оренбургский край правительство использовало как место ссылки военнопленных наполеоновской армии. Их направляли сюда большими партиями и размещали по городам и крепостям пограничной линии. Во второй половине 1812 года прибыло более полутора тысяч человек. Местным властям предписывалось «присматривать за поступками... военнопленных французов». Отдельные военнопленные пытались бежать в казахскую степь и Бухару, другие впоследствии вернулись на родину, но определенная часть их была зачислена в Оренбургское казачье войско. К концу XIX века среди оренбургских казаков насчитывалось 48 французских фамилий потомков пленных француз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3851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Память о войне 1812 г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3672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амять о войне 1812 года хранят и некоторые географические названия на карте современных Оренбургской и Челябинской областей — селения Бородинское, Тарутино, Кульм, Бриснн, Лейпцигский, Берлин, Париж, Фершампенуаз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Казачье войско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7236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Содерж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аправленное войско из Оренбурга на войну 181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Участие Оренбуржцев в многочисленных операц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Успехи казачьих и башкирских полков в отечественной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Участия казачьих пол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атраты на снабжение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Оренбургский край как место ссылки военнопленных наполеоновской арм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амять о войне 181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6880" y="410760"/>
            <a:ext cx="81550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Направленное войско из Оренбурга на войну 1812 г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03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сего из Оренбургского края в действующую армию были направлены 31 полк иррегулярных (казачьих) войск— 19 башкирских, по пять оренбургских и уральских полков и два мишарс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Участие Оренбуржцев в многочисленных операциях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Оренбуржцы участвовали во многих боевых операциях Отечественной войны. В славном Бородинском сражении храбро бился Оренбургский драгунский полк, в довоенное время постоянно находившийся в Оренбурге. Вместе с Сумским, Мариупольским и Курляндским пол­ками он действовал в составе кавалерийской бригады генерала И. С. Дорохова. На рассвете 26 августа оренбургские драгуны действовали на левом фланге батареи генерала Н. Н. Раевск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 9 часов утра, когда французы в четвертый раз атаковали Багратионовы флеши, Кутузов направил бригаду Дорохова на помощь багратионовцам. Натиск противника был отбит. Девять офицеров Оренбургского полка за это сражение получили знак отличия «За храбрость и неустрашимость», и среди них офицер Дятков, ходивший в атаку, несмотря на ра­нение. Отважно действовал полк и в период контрнасту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601040" cy="34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3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Успехи казачьих и башкирских полков в отечественной войне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Полководец М. И. Кутузов в письмах в Оренбург своему другу губернатору Г. С. Волконскому не раз сообщал об успехах в войне с французами, о заслугах российского воинства, в том числе казачьих и башкирских полков. В письме в Оренбург от 31 октября 1812 года он писал о том, «с какой храбростью наши воины, в том числе казаки и некоторые башкирские полки, поражают их» (войска неприятеля). Кутузов сообщал о победах под Вязьмой, Дорогобужем, приводил данные о трофеях, потерях противника убитыми, ранеными, взятыми в плен, о позорном бегстве, усиливавшемся голоде среди неприя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03200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043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Участия казачьих полков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Из 31 полка в заграничном походе от Оренбургского края участвовало 26 конно-казачьих полков. Оренбургский атаманский полк успешно действовал в блокаде и взятии сильной крепости Данциг. Пять урядников полка были произведены в офицеры, а 14 рядовых казаков награждены военными наградами. Полк некоторое время находился в составе гарнизона Данцига, а во второй половине 1814 года отправился дом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688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003640" y="259920"/>
            <a:ext cx="3889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Третий оренбургский казачий полк участвовал в битве под Лейпцигом, в сражениях при Веймаре, Франкфурте-на-Майне, во взятии Берлина и Парижа. По возвращении в пределы России командование использовало эти полки для охраны западных границ от Гродно до Бреста, и домой они возвратились лишь в 1821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68144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Затраты на снабжения арм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3887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Немаловажное значение для снабжения армии имела и другая товарная продукция, поступавшая в Россию через Оренбургский рынок. В 1811 году здесь было принято заграничных товаров на сумму 3,2 миллиона рублей и отпущено за границу на 1,8 миллиона руб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3:00:24Z</dcterms:created>
  <dc:creator>Customer</dc:creator>
  <dc:description/>
  <dc:language>en-US</dc:language>
  <cp:lastModifiedBy>Customer</cp:lastModifiedBy>
  <dcterms:modified xsi:type="dcterms:W3CDTF">2012-03-14T14:20:24Z</dcterms:modified>
  <cp:revision>2</cp:revision>
  <dc:subject/>
  <dc:title>Участие Оренбуржцев в войне 1812 г.</dc:title>
</cp:coreProperties>
</file>