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29C-9ABB-4BB1-8712-16635E8C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1BE-DEB1-439A-A7D9-F9747D8A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440-0528-45C0-970D-B84060CA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D85-F6BC-4E87-BED0-4DC7D7EB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D58-51CC-4167-AA78-ED01D1DF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8FA-2372-4694-9DC5-F324146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B82-7F3E-4C58-858B-8AF9CA9F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BF1-7B29-4E22-8426-3F2998AA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179-22B0-48B9-B296-5497797B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CE2-E9E1-452F-9152-B07DA1D5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0FB-BE01-4BC8-AF58-00AEB5A9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413-BFE6-4659-9865-C20D7F7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4B66-7772-4719-A5F2-FDCBF1ED5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00040" y="2500200"/>
            <a:ext cx="81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езные ископаемы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kazakhdobychnft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395280" y="333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ыча неф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1_edi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123120" y="189000"/>
            <a:ext cx="23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ыча г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3.jpg"/>
          <p:cNvPicPr/>
          <p:nvPr/>
        </p:nvPicPr>
        <p:blipFill>
          <a:blip r:embed="rId2"/>
          <a:stretch/>
        </p:blipFill>
        <p:spPr>
          <a:xfrm>
            <a:off x="214200" y="2142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Vedro%20metallicheskoe.jpg"/>
          <p:cNvPicPr/>
          <p:nvPr/>
        </p:nvPicPr>
        <p:blipFill>
          <a:blip r:embed="rId3"/>
          <a:stretch/>
        </p:blipFill>
        <p:spPr>
          <a:xfrm>
            <a:off x="4429080" y="214200"/>
            <a:ext cx="4500720" cy="6361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newknive1.jpg"/>
          <p:cNvPicPr/>
          <p:nvPr/>
        </p:nvPicPr>
        <p:blipFill>
          <a:blip r:embed="rId4"/>
          <a:stretch/>
        </p:blipFill>
        <p:spPr>
          <a:xfrm>
            <a:off x="1143000" y="214200"/>
            <a:ext cx="6113520" cy="4071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ножницы.gif"/>
          <p:cNvPicPr/>
          <p:nvPr/>
        </p:nvPicPr>
        <p:blipFill>
          <a:blip r:embed="rId5"/>
          <a:stretch/>
        </p:blipFill>
        <p:spPr>
          <a:xfrm>
            <a:off x="3214800" y="2000160"/>
            <a:ext cx="5722920" cy="4616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лопата.jpg"/>
          <p:cNvPicPr/>
          <p:nvPr/>
        </p:nvPicPr>
        <p:blipFill>
          <a:blip r:embed="rId6"/>
          <a:stretch/>
        </p:blipFill>
        <p:spPr>
          <a:xfrm>
            <a:off x="214200" y="1500120"/>
            <a:ext cx="5213520" cy="514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дуршлаг.jpg"/>
          <p:cNvPicPr/>
          <p:nvPr/>
        </p:nvPicPr>
        <p:blipFill>
          <a:blip r:embed="rId2"/>
          <a:stretch/>
        </p:blipFill>
        <p:spPr>
          <a:xfrm>
            <a:off x="3643200" y="3143160"/>
            <a:ext cx="5256360" cy="3376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IZMENENIEQ20RAZMERAQ20bgQ2D2262.jpg"/>
          <p:cNvPicPr/>
          <p:nvPr/>
        </p:nvPicPr>
        <p:blipFill>
          <a:blip r:embed="rId3"/>
          <a:stretch/>
        </p:blipFill>
        <p:spPr>
          <a:xfrm>
            <a:off x="214200" y="28584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kofe_05.jpg"/>
          <p:cNvPicPr/>
          <p:nvPr/>
        </p:nvPicPr>
        <p:blipFill>
          <a:blip r:embed="rId4"/>
          <a:stretch/>
        </p:blipFill>
        <p:spPr>
          <a:xfrm>
            <a:off x="1928880" y="285840"/>
            <a:ext cx="3855960" cy="5127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frying_l.jpg"/>
          <p:cNvPicPr/>
          <p:nvPr/>
        </p:nvPicPr>
        <p:blipFill>
          <a:blip r:embed="rId5"/>
          <a:stretch/>
        </p:blipFill>
        <p:spPr>
          <a:xfrm>
            <a:off x="214200" y="2392200"/>
            <a:ext cx="5572080" cy="4179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bk-s364_m.jpg"/>
          <p:cNvPicPr/>
          <p:nvPr/>
        </p:nvPicPr>
        <p:blipFill>
          <a:blip r:embed="rId6"/>
          <a:stretch/>
        </p:blipFill>
        <p:spPr>
          <a:xfrm>
            <a:off x="5072040" y="285840"/>
            <a:ext cx="3841920" cy="363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500120" y="2071800"/>
            <a:ext cx="60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руды чёрных металл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1357200" y="1571760"/>
            <a:ext cx="607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езная руда (магнитный, красный и бурый железняки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0040" y="1643040"/>
          <a:ext cx="8143920" cy="359712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ая ру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коловско – Сорбайское месторождение, Сарыарка, северное Приараль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85840" y="928800"/>
          <a:ext cx="8643960" cy="4743360"/>
        </p:xfrm>
        <a:graphic>
          <a:graphicData uri="http://schemas.openxmlformats.org/drawingml/2006/table">
            <a:tbl>
              <a:tblPr/>
              <a:tblGrid>
                <a:gridCol w="3143160"/>
                <a:gridCol w="1886040"/>
                <a:gridCol w="1812960"/>
                <a:gridCol w="1801800"/>
              </a:tblGrid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азвание руд чёрных мет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агнитный железня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Бурый железня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расный железня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 цв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ё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ёмного цвета с вишнёво-красным оттен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тунно-жёлтого ц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лотный/рассыпчатый/мягк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) состоит/не состоит из отдельных зёрнышек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лкозернис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лкозернис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лкозернис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ритягивается/не притягивается магнит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тягивается магни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ритягивается магни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ритягивается магни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прочный/непрочн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1285920" y="1500120"/>
            <a:ext cx="635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руды цветных металл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1285920" y="1500120"/>
            <a:ext cx="635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ь, свинец, цинк, алюминий, серебро, золот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500040" y="1214280"/>
            <a:ext cx="8143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полезные ископаем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месторож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щет месторождения полезных ископаем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они используются человек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00080" y="1857240"/>
          <a:ext cx="7215120" cy="249552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зказган, Коныра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143000" y="1857240"/>
          <a:ext cx="7215120" cy="249552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инец, цин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дный Алтай (Риддер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00080" y="1714680"/>
          <a:ext cx="7215120" cy="310824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юми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калыкское месторождение Костанайской обла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14240" y="928800"/>
          <a:ext cx="7572600" cy="3597120"/>
        </p:xfrm>
        <a:graphic>
          <a:graphicData uri="http://schemas.openxmlformats.org/drawingml/2006/table">
            <a:tbl>
              <a:tblPr/>
              <a:tblGrid>
                <a:gridCol w="3786480"/>
                <a:gridCol w="37861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т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О (Месторождения -Суздальское, Бакырчик), СКО (Васильковское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золото в кварце.jpg"/>
          <p:cNvPicPr/>
          <p:nvPr/>
        </p:nvPicPr>
        <p:blipFill>
          <a:blip r:embed="rId2"/>
          <a:stretch/>
        </p:blipFill>
        <p:spPr>
          <a:xfrm>
            <a:off x="928800" y="500040"/>
            <a:ext cx="7348320" cy="5214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786040" y="585792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лото в квар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золото в гранулах.jpg"/>
          <p:cNvPicPr/>
          <p:nvPr/>
        </p:nvPicPr>
        <p:blipFill>
          <a:blip r:embed="rId3"/>
          <a:stretch/>
        </p:blipFill>
        <p:spPr>
          <a:xfrm>
            <a:off x="214200" y="1357200"/>
            <a:ext cx="114300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untitled.bmp"/>
          <p:cNvPicPr/>
          <p:nvPr/>
        </p:nvPicPr>
        <p:blipFill>
          <a:blip r:embed="rId4"/>
          <a:stretch/>
        </p:blipFill>
        <p:spPr>
          <a:xfrm>
            <a:off x="5929200" y="214200"/>
            <a:ext cx="2935440" cy="29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00040" y="214200"/>
          <a:ext cx="8215200" cy="6454800"/>
        </p:xfrm>
        <a:graphic>
          <a:graphicData uri="http://schemas.openxmlformats.org/drawingml/2006/table">
            <a:tbl>
              <a:tblPr/>
              <a:tblGrid>
                <a:gridCol w="1797120"/>
                <a:gridCol w="3284640"/>
                <a:gridCol w="3133440"/>
              </a:tblGrid>
              <a:tr h="135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звание мет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 какой руды получа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ие изделия изготавлива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ный колчед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али электрических машин и приб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жки, вилки, посуда, самолёты, провода, кабел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еталлическая р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лочки кабелей, пластины аккумулятор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еталлическая р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r" pos="683892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инкованные вёдра, тазы, ванны, труб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1285920" y="1500120"/>
            <a:ext cx="657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нерудные полезные ископаемы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428760" y="1214280"/>
            <a:ext cx="8286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аренная соль, асбест, фосфориты, гранит, глина, песок, известняк, мел, мрамор, ракушечник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гранит5677.jpg"/>
          <p:cNvPicPr/>
          <p:nvPr/>
        </p:nvPicPr>
        <p:blipFill>
          <a:blip r:embed="rId2"/>
          <a:stretch/>
        </p:blipFill>
        <p:spPr>
          <a:xfrm>
            <a:off x="500040" y="500040"/>
            <a:ext cx="8143920" cy="5286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3500280" y="592920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2714760" y="592920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ыча мрам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мармор.jpg"/>
          <p:cNvPicPr/>
          <p:nvPr/>
        </p:nvPicPr>
        <p:blipFill>
          <a:blip r:embed="rId2"/>
          <a:stretch/>
        </p:blipFill>
        <p:spPr>
          <a:xfrm>
            <a:off x="1000080" y="2928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DSC04593.JPG"/>
          <p:cNvPicPr/>
          <p:nvPr/>
        </p:nvPicPr>
        <p:blipFill>
          <a:blip r:embed="rId3"/>
          <a:stretch/>
        </p:blipFill>
        <p:spPr>
          <a:xfrm>
            <a:off x="928800" y="428760"/>
            <a:ext cx="7381800" cy="553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143000" y="785880"/>
            <a:ext cx="6929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лезные ископаемые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это вещества, которые образуются в недрах Земли и которые человек, добывая, может использовать для своих нужд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000080" y="1857240"/>
          <a:ext cx="7215120" cy="310860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бес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торождение Жетыкар Костанайской област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m-chryz-asb_7_4293.jpg"/>
          <p:cNvPicPr/>
          <p:nvPr/>
        </p:nvPicPr>
        <p:blipFill>
          <a:blip r:embed="rId2"/>
          <a:stretch/>
        </p:blipFill>
        <p:spPr>
          <a:xfrm>
            <a:off x="285840" y="357120"/>
            <a:ext cx="7072200" cy="5000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m-chryz-asb_17-1.jpg"/>
          <p:cNvPicPr/>
          <p:nvPr/>
        </p:nvPicPr>
        <p:blipFill>
          <a:blip r:embed="rId3"/>
          <a:stretch/>
        </p:blipFill>
        <p:spPr>
          <a:xfrm>
            <a:off x="3214800" y="2500200"/>
            <a:ext cx="5643360" cy="4051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85840" y="553392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ризотил - асб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00080" y="1857240"/>
          <a:ext cx="7215120" cy="249552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вестня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остров  Мангыстау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известняк.jpg"/>
          <p:cNvPicPr/>
          <p:nvPr/>
        </p:nvPicPr>
        <p:blipFill>
          <a:blip r:embed="rId2"/>
          <a:stretch/>
        </p:blipFill>
        <p:spPr>
          <a:xfrm>
            <a:off x="714240" y="642960"/>
            <a:ext cx="7809120" cy="5143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643040" y="5929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вестня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мел.bmp"/>
          <p:cNvPicPr/>
          <p:nvPr/>
        </p:nvPicPr>
        <p:blipFill>
          <a:blip r:embed="rId2"/>
          <a:stretch/>
        </p:blipFill>
        <p:spPr>
          <a:xfrm>
            <a:off x="357120" y="428760"/>
            <a:ext cx="4857840" cy="3786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929200" y="42876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5" descr="ракушечник67.jpg"/>
          <p:cNvPicPr/>
          <p:nvPr/>
        </p:nvPicPr>
        <p:blipFill>
          <a:blip r:embed="rId3"/>
          <a:stretch/>
        </p:blipFill>
        <p:spPr>
          <a:xfrm>
            <a:off x="4429080" y="1857240"/>
            <a:ext cx="4429080" cy="4643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1357200" y="5857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куш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928800" y="2000160"/>
          <a:ext cx="7215120" cy="249552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ое Приарал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295920" y="3571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ыча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1143000" y="785880"/>
            <a:ext cx="69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785880" y="928800"/>
            <a:ext cx="7500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скопления полезных ископаемых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одных для добычи, назыв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сторождениями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при больших площадях распространени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бассейнами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1000080" y="1071720"/>
            <a:ext cx="7215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иском месторождений занимаются геологи.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Геология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это наука о строении и истории развития земной коры, о методах поиска полезных ископаем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428760" y="2071800"/>
            <a:ext cx="8215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горючие полезные ископаемы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714240" y="150012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менный и бурый уголь, нефть, горючие сланцы, природный газ, торф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28760" y="500040"/>
          <a:ext cx="8286480" cy="219708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енный у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агандинское, Экибастузское, Ленгерское месторождения (Южный Казахст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0" name="Рисунок 4" descr="shahta.jpg"/>
          <p:cNvPicPr/>
          <p:nvPr/>
        </p:nvPicPr>
        <p:blipFill>
          <a:blip r:embed="rId2"/>
          <a:stretch/>
        </p:blipFill>
        <p:spPr>
          <a:xfrm>
            <a:off x="6215040" y="2857680"/>
            <a:ext cx="2482920" cy="3593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143240" y="29289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ольная ша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6" descr="В шахте.jpg"/>
          <p:cNvPicPr/>
          <p:nvPr/>
        </p:nvPicPr>
        <p:blipFill>
          <a:blip r:embed="rId3"/>
          <a:stretch/>
        </p:blipFill>
        <p:spPr>
          <a:xfrm>
            <a:off x="428760" y="2928960"/>
            <a:ext cx="2824200" cy="357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3437640" y="600084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ах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1500120"/>
          <a:ext cx="8643960" cy="3530520"/>
        </p:xfrm>
        <a:graphic>
          <a:graphicData uri="http://schemas.openxmlformats.org/drawingml/2006/table">
            <a:tbl>
              <a:tblPr/>
              <a:tblGrid>
                <a:gridCol w="4322520"/>
                <a:gridCol w="432144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ые ископа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ро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фтегазоносные провин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я Каспийского шельфа, полуостров Мангыстау, Прикаспийская низменнос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8:02:57Z</dcterms:created>
  <dc:creator>Admin</dc:creator>
  <dc:description/>
  <dc:language>en-US</dc:language>
  <cp:lastModifiedBy>Ермек</cp:lastModifiedBy>
  <dcterms:modified xsi:type="dcterms:W3CDTF">2012-11-04T13:59:47Z</dcterms:modified>
  <cp:revision>38</cp:revision>
  <dc:subject/>
  <dc:title>Слайд 1</dc:title>
</cp:coreProperties>
</file>