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31E-0A82-481F-B2EF-C8D519E1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CA1-A9A2-4036-9FFE-F95585E8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210-B5D9-494E-8C56-6761244C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22D-612F-48C5-AA42-DEBB584D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B66-F0A2-4B21-B7CD-29E51883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27E-31A8-4CFB-A2A8-5BA0F1D1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01E-FB15-4140-91F1-D7C24A54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533-9BF1-4743-909A-C005213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D8C-9D2A-4F88-87B2-B9C02568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3CC-0632-48FB-B314-BD54DD6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849-33BE-4A88-ACEF-58BA8741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B2D-AC6B-45D4-AB70-CA1D3AA0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28F4-13E0-4479-9465-D8EC4C7D2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Делимся опы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кружок «Умелые ручк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                                               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Руководитель Сапожникова Н. 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                                               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СП ГБОУ СОШ пос. Восточ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                                               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Детский сад «Колокольч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7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C:\Documents and Settings\Admin\Рабочий стол\мама\IMG_0242.jpg"/>
          <p:cNvPicPr/>
          <p:nvPr/>
        </p:nvPicPr>
        <p:blipFill>
          <a:blip r:embed="rId3"/>
          <a:stretch/>
        </p:blipFill>
        <p:spPr>
          <a:xfrm rot="20289000">
            <a:off x="15840" y="1080"/>
            <a:ext cx="6062760" cy="4546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Documents and Settings\Admin\Рабочий стол\мама\IMG_0241.jpg"/>
          <p:cNvPicPr/>
          <p:nvPr/>
        </p:nvPicPr>
        <p:blipFill>
          <a:blip r:embed="rId4"/>
          <a:stretch/>
        </p:blipFill>
        <p:spPr>
          <a:xfrm rot="953400">
            <a:off x="2405160" y="2852280"/>
            <a:ext cx="673884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4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C:\Documents and Settings\Admin\Рабочий стол\мама\IMG_0240.jpg"/>
          <p:cNvPicPr/>
          <p:nvPr/>
        </p:nvPicPr>
        <p:blipFill>
          <a:blip r:embed="rId3"/>
          <a:stretch/>
        </p:blipFill>
        <p:spPr>
          <a:xfrm>
            <a:off x="539640" y="836640"/>
            <a:ext cx="8064720" cy="5289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0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C:\Documents and Settings\Admin\Рабочий стол\мама\IMG_0251.jpg"/>
          <p:cNvPicPr/>
          <p:nvPr/>
        </p:nvPicPr>
        <p:blipFill>
          <a:blip r:embed="rId3"/>
          <a:stretch/>
        </p:blipFill>
        <p:spPr>
          <a:xfrm>
            <a:off x="684360" y="1484280"/>
            <a:ext cx="7920000" cy="4641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Monotype Corsiva"/>
              </a:rPr>
              <a:t>Тестопласти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1)развивать сенсорную чувствительность, общую ручную умелость и мелкую моторику ру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2)развивать фантазию, смекалку, изобразительность и творческое мышл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3)формировать умение осуществлять задума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4) формировать эстетическое воспитание средствами кружка «Умелые ручк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2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Admin\Рабочий стол\мама\IMG_0244.jpg"/>
          <p:cNvPicPr/>
          <p:nvPr/>
        </p:nvPicPr>
        <p:blipFill>
          <a:blip r:embed="rId3"/>
          <a:stretch/>
        </p:blipFill>
        <p:spPr>
          <a:xfrm>
            <a:off x="826920" y="1484280"/>
            <a:ext cx="7490160" cy="464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заимодействие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1)установить партнерские отношения с семь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2)создать атмосферу взаимопонимания общности интересов, эмоциональной взаимоподдерж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3)поддерживать их  уверенность в собственных педагогических возможност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4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Мероприятия с родителям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день открытых дверей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семинары – практикумы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консультации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конкур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0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Documents and Settings\Admin\Рабочий стол\мама\IMG_0206.jpg"/>
          <p:cNvPicPr/>
          <p:nvPr/>
        </p:nvPicPr>
        <p:blipFill>
          <a:blip r:embed="rId3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6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Выставка поделок кружка «Умелые ручк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2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C:\Documents and Settings\Admin\Рабочий стол\мама\SAM_0202.JPG"/>
          <p:cNvPicPr/>
          <p:nvPr/>
        </p:nvPicPr>
        <p:blipFill>
          <a:blip r:embed="rId3"/>
          <a:stretch/>
        </p:blipFill>
        <p:spPr>
          <a:xfrm rot="20082000">
            <a:off x="-421920" y="453600"/>
            <a:ext cx="5545080" cy="415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Documents and Settings\Admin\Рабочий стол\мама\SAM_0201.JPG"/>
          <p:cNvPicPr/>
          <p:nvPr/>
        </p:nvPicPr>
        <p:blipFill>
          <a:blip r:embed="rId4"/>
          <a:stretch/>
        </p:blipFill>
        <p:spPr>
          <a:xfrm rot="1177200">
            <a:off x="4500360" y="1773360"/>
            <a:ext cx="4643280" cy="4640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Наш деви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981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От простого – к сложному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Documents and Settings\Admin\Рабочий стол\мама\IMG_0239.jpg"/>
          <p:cNvPicPr/>
          <p:nvPr/>
        </p:nvPicPr>
        <p:blipFill>
          <a:blip r:embed="rId3"/>
          <a:stretch/>
        </p:blipFill>
        <p:spPr>
          <a:xfrm>
            <a:off x="971640" y="1989000"/>
            <a:ext cx="74880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9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C:\Documents and Settings\Admin\Рабочий стол\мама\IMG_0247.jpg"/>
          <p:cNvPicPr/>
          <p:nvPr/>
        </p:nvPicPr>
        <p:blipFill>
          <a:blip r:embed="rId3"/>
          <a:stretch/>
        </p:blipFill>
        <p:spPr>
          <a:xfrm>
            <a:off x="539640" y="692280"/>
            <a:ext cx="8209080" cy="5433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5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Documents and Settings\Admin\Рабочий стол\мама\IMG_0249.jpg"/>
          <p:cNvPicPr/>
          <p:nvPr/>
        </p:nvPicPr>
        <p:blipFill>
          <a:blip r:embed="rId3"/>
          <a:stretch/>
        </p:blipFill>
        <p:spPr>
          <a:xfrm>
            <a:off x="468360" y="765000"/>
            <a:ext cx="813600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1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Ожидаемые результаты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1) умение логически мысли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2) позитивное отношение ребенка к труду, другим людям и самому себ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3) обогащенный словарный запа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4) сформированные духовно-нравственные, эстетические ц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5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7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5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Цель: Совершенствовать умения и навыки в свободном экспериментировании с материалами, необходимыми для работы в нетрадиционных изобразительных техник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1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1) создание развивающей среды, позволяющей осуществлять на практике различные иде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2)побуждение детей к художественному творчеству путем постановки разнообразных творческих  заданий, предлагающих выход на самостоятельное реш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3)учет индивидуальных интересов, склонностей и способностей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4)установление правильных взаимоотношений между педагогом и ребенком, позволяющих создавать атмосферу увлеченности, эмоционального воздействия, совместного творчества взрослого и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5) вариативность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Monotype Corsiva"/>
              </a:rPr>
              <a:t>Виды заняти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80500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3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Работа с бумагой и картон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1)формировать умения детей работать с бумагой и картон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2)дать понятие об элементах  художественного труда, научить изготовлять поделки из бумаги и картона (открытки, сувениры 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3)развивать умение силуэтным элементам вырезывания по заранее предложенному контуру и оформлению работ по замысл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4)формировать умение делать элементарные игрушки – самоделки из согнутого карт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5)научить делать простейшие украшения к праздни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539640" y="333360"/>
            <a:ext cx="66153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9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C:\Documents and Settings\Admin\Рабочий стол\мама\IMG_0246.jpg"/>
          <p:cNvPicPr/>
          <p:nvPr/>
        </p:nvPicPr>
        <p:blipFill>
          <a:blip r:embed="rId3"/>
          <a:stretch/>
        </p:blipFill>
        <p:spPr>
          <a:xfrm>
            <a:off x="324000" y="54936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5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:\Documents and Settings\Admin\Рабочий стол\мама\IMG_0245.jpg"/>
          <p:cNvPicPr/>
          <p:nvPr/>
        </p:nvPicPr>
        <p:blipFill>
          <a:blip r:embed="rId3"/>
          <a:stretch/>
        </p:blipFill>
        <p:spPr>
          <a:xfrm>
            <a:off x="539640" y="549360"/>
            <a:ext cx="8064720" cy="5576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1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абота с природным и бросовым материал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1)дать понятие о природном материале на основе дидактического материала (загадок, сбор природного материала, экскурсии в природу, практических  опы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2)формировать умение изготовлять элементарные игрушки – самоделки из природного материала и дополнительных материал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3)воспитывать взаимопонимание, взаимоуважение и коллектив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500040" y="285840"/>
            <a:ext cx="6615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12-11-04T16:38:15Z</dcterms:modified>
  <cp:revision>60</cp:revision>
  <dc:subject/>
  <dc:title>Слайд 1</dc:title>
</cp:coreProperties>
</file>