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C09-A542-454B-8893-78CA59CF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160-7FC0-484C-B200-4FF750A6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A72-B790-4D9B-9D66-BAC5B12A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F1F-3DBB-4A34-A525-8505397D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283-C8B2-4958-8B44-EF86776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005-6B0E-4D94-8E23-59EF80A7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006-AB70-4169-9B53-95E2C25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D9A-350E-41AB-8611-0F6E6F8E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A4D-2EAF-4BC8-A8EF-D522CC53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865-9B42-4E79-A16A-C20F733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D0D-D398-44AC-95A8-5B76055C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3EA-82DD-45AF-9251-36FE5534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3FB-F418-4CD1-8904-3E0AD9BEC9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следовательская работа</a:t>
            </a:r>
            <a:br>
              <a:rPr sz="32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асха в Германии и в Росси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9680" y="2714760"/>
            <a:ext cx="8286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втор: Чернышова Виктория Романовна, ученица 7 «А» класса МОУ «ООШ № 78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уководитель: Гущина Инна Вячеславовна, учитель немецкого языка МОУ «ООШ № 78», высшей квалификационной категор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as Ostergebäck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Содержимое 4" descr="488_or.jpg"/>
          <p:cNvPicPr/>
          <p:nvPr/>
        </p:nvPicPr>
        <p:blipFill>
          <a:blip r:embed="rId1"/>
          <a:stretch/>
        </p:blipFill>
        <p:spPr>
          <a:xfrm>
            <a:off x="4643280" y="1785960"/>
            <a:ext cx="4197600" cy="354636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5" descr="paza1.jpg"/>
          <p:cNvPicPr/>
          <p:nvPr/>
        </p:nvPicPr>
        <p:blipFill>
          <a:blip r:embed="rId2"/>
          <a:stretch/>
        </p:blipFill>
        <p:spPr>
          <a:xfrm>
            <a:off x="357120" y="1071720"/>
            <a:ext cx="39290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r Osterkranz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Содержимое 3" descr="c2fc13c767c564fbf3a0b44a28a2aab8bc4541c5.jpeg"/>
          <p:cNvPicPr/>
          <p:nvPr/>
        </p:nvPicPr>
        <p:blipFill>
          <a:blip r:embed="rId1"/>
          <a:stretch/>
        </p:blipFill>
        <p:spPr>
          <a:xfrm>
            <a:off x="1714680" y="998640"/>
            <a:ext cx="564336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as Osterfeuer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Содержимое 4" descr="paskger2.jpg"/>
          <p:cNvPicPr/>
          <p:nvPr/>
        </p:nvPicPr>
        <p:blipFill>
          <a:blip r:embed="rId1"/>
          <a:stretch/>
        </p:blipFill>
        <p:spPr>
          <a:xfrm>
            <a:off x="390600" y="1071720"/>
            <a:ext cx="83404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e Osterkart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Содержимое 3" descr="frohe_ostern3_20081.jpg"/>
          <p:cNvPicPr/>
          <p:nvPr/>
        </p:nvPicPr>
        <p:blipFill>
          <a:blip r:embed="rId1"/>
          <a:stretch/>
        </p:blipFill>
        <p:spPr>
          <a:xfrm>
            <a:off x="357120" y="1143000"/>
            <a:ext cx="842976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615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презентации использованы материалы из следующих источников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images.yandex.ru/yandsearch?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Пасха в Германии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2928600"/>
            <a:ext cx="6400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Ostern in Deutschland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85840" y="500040"/>
            <a:ext cx="3900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e germanische Frühlingsgöttin Ostar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Содержимое 4" descr="57114150_1269880059_raspuskayutsya_list_ya_i_cvetuy.jpg"/>
          <p:cNvPicPr/>
          <p:nvPr/>
        </p:nvPicPr>
        <p:blipFill>
          <a:blip r:embed="rId1"/>
          <a:stretch/>
        </p:blipFill>
        <p:spPr>
          <a:xfrm>
            <a:off x="285840" y="500040"/>
            <a:ext cx="4357440" cy="592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Содержимое 3" descr="710ebe.jpg"/>
          <p:cNvPicPr/>
          <p:nvPr/>
        </p:nvPicPr>
        <p:blipFill>
          <a:blip r:embed="rId1"/>
          <a:stretch/>
        </p:blipFill>
        <p:spPr>
          <a:xfrm>
            <a:off x="428760" y="64296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Содержимое 3" descr="easter-games_big.jpg"/>
          <p:cNvPicPr/>
          <p:nvPr/>
        </p:nvPicPr>
        <p:blipFill>
          <a:blip r:embed="rId1"/>
          <a:stretch/>
        </p:blipFill>
        <p:spPr>
          <a:xfrm>
            <a:off x="428760" y="285840"/>
            <a:ext cx="83455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e Ostereier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Содержимое 4" descr="j104589_1237359681.jpg"/>
          <p:cNvPicPr/>
          <p:nvPr/>
        </p:nvPicPr>
        <p:blipFill>
          <a:blip r:embed="rId1"/>
          <a:stretch/>
        </p:blipFill>
        <p:spPr>
          <a:xfrm>
            <a:off x="357120" y="114300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5" descr="0_1006f_14510bd4_-1-L.jpg"/>
          <p:cNvPicPr/>
          <p:nvPr/>
        </p:nvPicPr>
        <p:blipFill>
          <a:blip r:embed="rId2"/>
          <a:stretch/>
        </p:blipFill>
        <p:spPr>
          <a:xfrm>
            <a:off x="4786200" y="342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r Osterbaum, der Osterstrauch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Содержимое 4" descr="f9453bd145f4.jpg"/>
          <p:cNvPicPr/>
          <p:nvPr/>
        </p:nvPicPr>
        <p:blipFill>
          <a:blip r:embed="rId1"/>
          <a:stretch/>
        </p:blipFill>
        <p:spPr>
          <a:xfrm>
            <a:off x="285840" y="2143080"/>
            <a:ext cx="45813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05_19_56_web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892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r Osterhas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Содержимое 5" descr="osternest.jpg"/>
          <p:cNvPicPr/>
          <p:nvPr/>
        </p:nvPicPr>
        <p:blipFill>
          <a:blip r:embed="rId1"/>
          <a:stretch/>
        </p:blipFill>
        <p:spPr>
          <a:xfrm>
            <a:off x="357120" y="1357200"/>
            <a:ext cx="457848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6" descr="zajicek-3.jpg"/>
          <p:cNvPicPr/>
          <p:nvPr/>
        </p:nvPicPr>
        <p:blipFill>
          <a:blip r:embed="rId2"/>
          <a:stretch/>
        </p:blipFill>
        <p:spPr>
          <a:xfrm>
            <a:off x="5214960" y="1571760"/>
            <a:ext cx="35193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e Osterglocken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Содержимое 3" descr="380708_1333-0x600.jpg"/>
          <p:cNvPicPr/>
          <p:nvPr/>
        </p:nvPicPr>
        <p:blipFill>
          <a:blip r:embed="rId1"/>
          <a:stretch/>
        </p:blipFill>
        <p:spPr>
          <a:xfrm>
            <a:off x="857160" y="100008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6:07:30Z</dcterms:created>
  <dc:creator>admin</dc:creator>
  <dc:description/>
  <dc:language>en-US</dc:language>
  <cp:lastModifiedBy>admin</cp:lastModifiedBy>
  <dcterms:modified xsi:type="dcterms:W3CDTF">2012-09-04T16:00:15Z</dcterms:modified>
  <cp:revision>11</cp:revision>
  <dc:subject/>
  <dc:title>Слайд 1</dc:title>
</cp:coreProperties>
</file>