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71A-68C9-435C-8C48-A181203F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974-5A84-4BAA-9E58-FF3B88B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1E4-F4CE-422F-9498-A0028475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E34-2239-430C-9048-877FAE85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00CC-CA38-4373-B896-0AC9A1ED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13007-26C8-4A6D-B23F-1132704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A8DE-3320-4AA9-8410-BD5BFBAB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23C9-0E78-47EB-98F1-56B76EC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C2D4-E581-4E00-8C89-F521359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3E7A-55EF-4E7F-8521-992018B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26286-2F51-4019-AD61-A0CE14C9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59F-C4BE-46CF-8DDF-8187D5FB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C9ED4-B533-4639-A2EB-8539955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305BD-B4C3-4E3D-82EA-342A288F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FC735-9068-4FEA-8B52-BD8629E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E76AF-9349-4D3A-867B-AB4B0720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A692-CB9F-4516-BC32-9C70F5B9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D0A-BEE8-4CE6-8ECC-581C89E0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D50-0B0E-49C4-BDBB-D6C39393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8C2-0C68-4869-A827-BF5BBAD5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59D-9C8C-4377-8F7E-CEE763B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3A4-3C45-439B-8AE8-7BD0100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0CE-C853-425C-AA4F-F637248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ED8-975E-4A6D-8576-6D936EC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dfab"/>
            </a:gs>
            <a:gs pos="50000">
              <a:srgbClr val="c8e6f0"/>
            </a:gs>
            <a:gs pos="100000">
              <a:srgbClr val="91df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C16E-FE57-4CC9-8855-55D313EF2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dfab"/>
            </a:gs>
            <a:gs pos="50000">
              <a:srgbClr val="c8e6f0"/>
            </a:gs>
            <a:gs pos="100000">
              <a:srgbClr val="91df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2C4D-A5E2-4879-B01C-6F5843059D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enividi.ru/files/img/5191/1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6" descr="соль кр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950dc"/>
                </a:solidFill>
                <a:latin typeface="Tahoma"/>
              </a:rPr>
              <a:t>ЛЕЧЕБНЫЕ СВОЙСТВА КАМЕННОЙ СОЛ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029200" y="4648320"/>
            <a:ext cx="396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d1d"/>
                </a:solidFill>
                <a:latin typeface="Tahoma"/>
              </a:rPr>
              <a:t>Лицей № 26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d1d"/>
                </a:solidFill>
                <a:latin typeface="Tahoma"/>
              </a:rPr>
              <a:t>Преподаватель: Ломова Е.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d1d"/>
                </a:solidFill>
                <a:latin typeface="Tahoma"/>
              </a:rPr>
              <a:t>Громов Алекса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0" y="6415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d1d"/>
                </a:solidFill>
                <a:latin typeface="Tahoma"/>
              </a:rPr>
              <a:t>Санкт-Петербург 2012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838080" y="38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2. Самосадочная соль, которая образуется на дне водных замкнутых бассейнов  в виде пластов в странах с жарким и сухим климатом.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61800" y="6172200"/>
            <a:ext cx="85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1e"/>
                </a:solidFill>
                <a:latin typeface="Times New Roman"/>
              </a:rPr>
              <a:t>Озеро Баскунчак – одно из крупнейших месторождений самосадочной сол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i-main-pic" descr="Картинка 17 из 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295280"/>
            <a:ext cx="6248520" cy="46879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0" y="533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Вулканическая соль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– это возгоны вулкан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129200" cy="3135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48320" y="44197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Выцветы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– это пленки и налеты на поверхности земли в степных и пустынных район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572000" y="16002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стенках кратеров и в трещинах вулканов отлагается возгонкой доставленная из недр земли в парообразном состоянии сол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9" descr="солончак"/>
          <p:cNvPicPr/>
          <p:nvPr/>
        </p:nvPicPr>
        <p:blipFill>
          <a:blip r:embed="rId2"/>
          <a:stretch/>
        </p:blipFill>
        <p:spPr>
          <a:xfrm>
            <a:off x="228600" y="38098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1e"/>
                </a:solidFill>
                <a:latin typeface="Times New Roman"/>
              </a:rPr>
              <a:t>Крупнейшие месторождения  каменной соли в Росс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59"/>
          <p:cNvSpPr/>
          <p:nvPr/>
        </p:nvSpPr>
        <p:spPr>
          <a:xfrm>
            <a:off x="2318040" y="65088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Баскунчакское месторождение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0" descr="http://www.salz.ru/templates/images/geogr1.jpg"/>
          <p:cNvPicPr/>
          <p:nvPr/>
        </p:nvPicPr>
        <p:blipFill>
          <a:blip r:embed="rId1"/>
          <a:stretch/>
        </p:blipFill>
        <p:spPr>
          <a:xfrm>
            <a:off x="228600" y="1371600"/>
            <a:ext cx="419112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4572000" y="129528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АСКУНЧАК - бессточное соленое озеро является крупнейшим месторождением самосадочной соли. Оно расположено в Ахтубинском районе Астрахан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2"/>
          <p:cNvSpPr/>
          <p:nvPr/>
        </p:nvSpPr>
        <p:spPr>
          <a:xfrm>
            <a:off x="4572000" y="3048120"/>
            <a:ext cx="426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никальность Баскунчакского месторождения поваренной соли состоит в том, что оно, в силу природных особенностей, способно </a:t>
            </a:r>
            <a:r>
              <a:rPr b="0" i="1" lang="ru-RU" sz="2000" spc="-1" strike="noStrike">
                <a:solidFill>
                  <a:srgbClr val="00001e"/>
                </a:solidFill>
                <a:latin typeface="Times New Roman"/>
              </a:rPr>
              <a:t>с годами восстанавливать потерянные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запасы за счет естественного привноса солей питающими озеро источни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63"/>
          <p:cNvSpPr/>
          <p:nvPr/>
        </p:nvSpPr>
        <p:spPr>
          <a:xfrm>
            <a:off x="914400" y="58672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Сегодня баскунчакская соль составляет четыре пятых объема всей российской соли и считается одной из лучших в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1e"/>
                </a:solidFill>
                <a:latin typeface="Times New Roman"/>
              </a:rPr>
              <a:t>Месторождения каменной соли в Росс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666880" y="730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Илецкое месторожд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573440" y="1447920"/>
            <a:ext cx="434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уникальном, созданном природой, Илецком месторождении ведется добыча каменной пищевой поваренной соли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Соляная шахта"/>
          <p:cNvPicPr/>
          <p:nvPr/>
        </p:nvPicPr>
        <p:blipFill>
          <a:blip r:embed="rId1"/>
          <a:stretch/>
        </p:blipFill>
        <p:spPr>
          <a:xfrm>
            <a:off x="228600" y="152388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304920" y="6004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Сегодня Илецкое месторождение выдает «на гора» примерно 1,25 млн. тонн в год готовой продук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573440" y="2844720"/>
            <a:ext cx="43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Добыча соли ведется подземным способом, камерной системы отработки на глубине порядка 300 м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573440" y="5029200"/>
            <a:ext cx="43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Доставка соли к стволам осуществляется самоходными вагонами и конвейер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573440" y="3936960"/>
            <a:ext cx="43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амеры отрабатываются послойно с использованием горнопроходческих комбайнов, отбивающих соль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1e"/>
                </a:solidFill>
                <a:latin typeface="Times New Roman"/>
              </a:rPr>
              <a:t>Месторождения каменной соли в Росс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666880" y="73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Эльтонское месторожд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800600" y="1447920"/>
            <a:ext cx="396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Эльто́н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 - соленое бессточное  самосадочное озеро  в Палласовском районе  Волгоград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Самое большое по площади минеральное озеро Европы и одно из самых минерализованных в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52280" y="5562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 настоящее время поваренную соль из озера Эльтон не добывают, так как даже в самое жаркое лето в озере остается много насыщенной солью рапы, которая затрудняет рабо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800600" y="4114800"/>
            <a:ext cx="380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Озеро заполнено насыщенным солевым раствором (рапой), который весной распресняе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0" descr="sol12"/>
          <p:cNvPicPr/>
          <p:nvPr/>
        </p:nvPicPr>
        <p:blipFill>
          <a:blip r:embed="rId1"/>
          <a:stretch/>
        </p:blipFill>
        <p:spPr>
          <a:xfrm>
            <a:off x="228600" y="1523880"/>
            <a:ext cx="43308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1e"/>
                </a:solidFill>
                <a:latin typeface="Times New Roman"/>
              </a:rPr>
              <a:t>Месторождения каменной соли в Росс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666880" y="73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Тыретский солеруд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572000" y="13539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Добыча тыретской соли происходит шахтовым образом на глубине 600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Никто в мире не добывает соль на такой глубин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52280" y="5562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Тыретское месторождение -  самое здоровое производство, здесь не работают в масках и респиратор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Нет профессиональных заболеваний -  пронизанный солью сухой воздух считается очень полезным для органов дых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0" y="2649600"/>
            <a:ext cx="441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Тыретский солерудник заложен в Ангарско-Ленском соленосном районе, по своим залежам самом крупном в Восточной Сибири. Соль древнего океана залегает гигантскими пластами под толщей сибирской зем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тыт"/>
          <p:cNvPicPr/>
          <p:nvPr/>
        </p:nvPicPr>
        <p:blipFill>
          <a:blip r:embed="rId1"/>
          <a:stretch/>
        </p:blipFill>
        <p:spPr>
          <a:xfrm>
            <a:off x="152280" y="1295280"/>
            <a:ext cx="4191120" cy="3133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152280" y="4572000"/>
            <a:ext cx="883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Подземная добыча экологически чистой пищевой соли осуществляется на уровне современных мировых технологий с применением высокопроизводительного горнодобывающего оборуд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1e"/>
                </a:solidFill>
                <a:latin typeface="Times New Roman"/>
              </a:rPr>
              <a:t>Минеральные вод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6320" y="6858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Минеральной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называется вода, насыщенная минеральными солями и микроэлемен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200400" y="1219320"/>
            <a:ext cx="54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Лечебный эффект минеральной воды определяется ее составом.  В зависимости от того, какие именно соединения, соли и элементы входят в состав, меняются и лечебные свойства в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524196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Ингаляционное или в виде полосканий применение минеральной воды при заболеваниях органов дыхания способствует разжижению слизи и облегчает отделение мокроты, устраняет чувство сухости, уменьшает воспаление слизистой оболочки дыхательных путей, препятствует развитию вирусной и бактериальной инфек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200400" y="270504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1e"/>
                </a:solidFill>
                <a:latin typeface="Times New Roman"/>
              </a:rPr>
              <a:t>Хлоридно-натриевая вода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повышает щелочной резерв крови, устраняя у больных ожирением накопление в крови и тканях недоокисленных продуктов жирового обмена, улучает гликогенную функцию печ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200400" y="419112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 хлоридно–натриевым относятся воды «Ессентуки», «Семигорская», «Миргородская», «Екатерингофская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9" descr="o9"/>
          <p:cNvPicPr/>
          <p:nvPr/>
        </p:nvPicPr>
        <p:blipFill>
          <a:blip r:embed="rId1"/>
          <a:stretch/>
        </p:blipFill>
        <p:spPr>
          <a:xfrm>
            <a:off x="152280" y="1295280"/>
            <a:ext cx="29736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Среди всех природных минеральных солей, самая главная та, которую мы называем просто сол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.Е. Ферсма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3" descr="sol"/>
          <p:cNvPicPr/>
          <p:nvPr/>
        </p:nvPicPr>
        <p:blipFill>
          <a:blip r:embed="rId1"/>
          <a:stretch/>
        </p:blipFill>
        <p:spPr>
          <a:xfrm>
            <a:off x="228600" y="17524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4861080" y="181296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ahoma"/>
              </a:rPr>
              <a:t>Каменная соль – минерал, то же, что и гал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861080" y="265896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ahoma"/>
              </a:rPr>
              <a:t>Галит является единственным в природе минералом, употребляемым людьми в пищ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861080" y="3809880"/>
            <a:ext cx="390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ahoma"/>
              </a:rPr>
              <a:t>Для питания человека соль не имеет заменителей и в этом смысле по значимости может быть сопоставима только с вод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1219320" y="571500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ahoma"/>
              </a:rPr>
              <a:t>Соленый вкус - уникальное и важнейшее свойство гал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ahoma"/>
              </a:rPr>
              <a:t>В чистом виде этот вкус свойствен только галит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1e"/>
                </a:solidFill>
                <a:latin typeface="Times New Roman"/>
              </a:rPr>
              <a:t>Каменная соль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в чистом виде обычно бесцветна и прозрачна, но бывает окрашена механическими примесями в различные светлые тона - желтый, красный, серый, голуб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362320" y="3200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цы минерала гал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304920" y="15148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Интенсивность цвета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зависит от соотношения в кристаллах чистого галита и механических примес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1"/>
          <a:stretch/>
        </p:blipFill>
        <p:spPr>
          <a:xfrm>
            <a:off x="4594320" y="3929040"/>
            <a:ext cx="2057400" cy="23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"/>
          <p:cNvPicPr/>
          <p:nvPr/>
        </p:nvPicPr>
        <p:blipFill>
          <a:blip r:embed="rId2"/>
          <a:stretch/>
        </p:blipFill>
        <p:spPr>
          <a:xfrm>
            <a:off x="2484360" y="3929040"/>
            <a:ext cx="198144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"/>
          <p:cNvPicPr/>
          <p:nvPr/>
        </p:nvPicPr>
        <p:blipFill>
          <a:blip r:embed="rId3"/>
          <a:stretch/>
        </p:blipFill>
        <p:spPr>
          <a:xfrm>
            <a:off x="6781680" y="3929040"/>
            <a:ext cx="2210040" cy="2395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"/>
          <p:cNvPicPr/>
          <p:nvPr/>
        </p:nvPicPr>
        <p:blipFill>
          <a:blip r:embed="rId4"/>
          <a:stretch/>
        </p:blipFill>
        <p:spPr>
          <a:xfrm>
            <a:off x="152280" y="392904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3"/>
          <p:cNvSpPr/>
          <p:nvPr/>
        </p:nvSpPr>
        <p:spPr>
          <a:xfrm>
            <a:off x="304920" y="23612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имеся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к каменной соли являются хлористые и сернокислые соли кальция, магния, калия, глинистые породы, битумы и пр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1e"/>
                </a:solidFill>
                <a:uFillTx/>
                <a:latin typeface="Tahoma"/>
              </a:rPr>
              <a:t>Соль незаменима для жизни челове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2280" y="272556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Если соли в организме недостаточно, то происходит разрушение мышечной и костной ткани, и за счет этих процессов, организм восполняет ее дефици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52280" y="37321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Недостаточное количество соли в организме человека, может иметь такие последствия, как депрессия, возможно нарушение нормальной работы пищеварительной системы и сердечной деятельности, вероятно возникновение остеопороза – заболевания скелета, при котором разрушается структура костной тка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52280" y="528804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Каменная соль содержит микроэлементы - железо, хром, марганец и селен, которые составляют значительную часть суточной потребности в них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52280" y="8967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Каменная соль очень необходима для нормальной работы организма челове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Этот минерал регулирует водно-солевой баланс в организме, поддерживает концентрацию натрия в крови, кроме того в каменной соли присутствуют элементы которые являются главным материалом для выработки желудочного со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52280" y="6019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В условиях средней полосы суточная потребность человека в соли составляет 10-12 грам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715000" y="1249200"/>
            <a:ext cx="32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Соляное лечение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(галотерапия) основано на давно известном методе лечения - </a:t>
            </a:r>
            <a:r>
              <a:rPr b="1" i="1" lang="ru-RU" sz="2000" spc="-1" strike="noStrike">
                <a:solidFill>
                  <a:srgbClr val="00001e"/>
                </a:solidFill>
                <a:latin typeface="Times New Roman"/>
              </a:rPr>
              <a:t>спелеотерапи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, которая заключается в пребывании больного в естественной соляной пещере или в забое соляной шахт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ечебные свойства с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333760" cy="3657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380880" y="495288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Микроклимат каждой спелеолечебницы уникален, однако типичными для него являются постоянство температуры, атмосферного давления, газового состава, ионизация воздуха с преобладанием отрицательно заряженных ионов, низкая относительная влажность, насыщенность воздуха частицами каменной соли, отсутствие бактериальной флоры и аллерген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4920" y="7621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Галотерапия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– метод лечения в условиях воссозданного микроклимата соляных спелеолечебниц.</a:t>
            </a:r>
            <a:r>
              <a:rPr b="0" lang="ru-RU" sz="20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алотерап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352680" y="1219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1e"/>
                </a:solidFill>
                <a:uFillTx/>
                <a:latin typeface="Times New Roman"/>
              </a:rPr>
              <a:t>Основные эффекты спелео- и галотерапии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гал2"/>
          <p:cNvPicPr/>
          <p:nvPr/>
        </p:nvPicPr>
        <p:blipFill>
          <a:blip r:embed="rId1"/>
          <a:stretch/>
        </p:blipFill>
        <p:spPr>
          <a:xfrm>
            <a:off x="152280" y="1600200"/>
            <a:ext cx="2806920" cy="4191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124080" y="175248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1e"/>
                </a:solidFill>
                <a:latin typeface="Times New Roman"/>
              </a:rPr>
              <a:t>Противовоспалительное действие, противоаллергическое действие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124080" y="3666960"/>
            <a:ext cx="6019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1e"/>
                </a:solidFill>
                <a:latin typeface="Times New Roman"/>
              </a:rPr>
              <a:t>Нормализуется функциональное состояние центральной нервной системы, снижается уровень утомления, отмечается атистрессовое воздействие галотерапии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124080" y="2486160"/>
            <a:ext cx="579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1e"/>
                </a:solidFill>
                <a:latin typeface="Times New Roman"/>
              </a:rPr>
              <a:t>Бронхолитическое действие (расширение бронхов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124080" y="2932200"/>
            <a:ext cx="5791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1e"/>
                </a:solidFill>
                <a:latin typeface="Times New Roman"/>
              </a:rPr>
              <a:t>Заметно снижается уровень артериального давления, улучшается микроциркуляция крови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124080" y="4979880"/>
            <a:ext cx="601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1e"/>
                </a:solidFill>
                <a:latin typeface="Times New Roman"/>
              </a:rPr>
              <a:t>Восстанавливается кислотно-щелочной баланс, кроме того, наблюдается иммуномодулирующее воздействие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124080" y="5715000"/>
            <a:ext cx="6019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1e"/>
                </a:solidFill>
                <a:latin typeface="Times New Roman"/>
              </a:rPr>
              <a:t>В организме повышается активность окислительно-восстановительных процессов, наблюдается стимуляция водного и углеводного обменных процессов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аменная соль в косметолог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09880" y="106524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Делают соляные ванночки для ломких и склонных к расслаиванию ног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809880" y="2619360"/>
            <a:ext cx="518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Применяют как средство при выпадении волос, а также в составе натуральных скрабов для те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09880" y="18414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Используют для очистки зубов и укрепления десе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809880" y="370044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Рекомендуется  чистить кожу с помощью соли, если на лице появляются черные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809880" y="44784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Чтобы сделать жирную кожу более здоровой и красивой на вид, нужно регулярно умываться подсоленной вод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419640" cy="4743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3809880" y="556092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Чтобы сделать жирную кожу более здоровой и красивой на вид, нужно регулярно умываться подсоленной вод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1e"/>
                </a:solidFill>
                <a:latin typeface="Times New Roman"/>
              </a:rPr>
              <a:t>Соляная ламп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500280" y="1828800"/>
            <a:ext cx="53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никальные качества соляной лампы основываются на активном взаимодействии трех факторов: химико-физических свойств соли, а также света и цв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500280" y="4387680"/>
            <a:ext cx="54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Электрический свет нагревает соль, под влиянием температуры процесс гидратации начинает протекать интенсивнее, что означает более быстрое и эффективное очищение возду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500280" y="3108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Соляная лампа не просто удачно сочетает в себе терапевтические свойства природного минерала и света, но и взаимно усиливает оказываемое ими действ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500280" y="56674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Соль, которая служит плафоном, позволяет без вреда для глаз созерцать непосредственно источник света и таким образом получать массу хороших впечатлен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1" descr="2403"/>
          <p:cNvPicPr/>
          <p:nvPr/>
        </p:nvPicPr>
        <p:blipFill>
          <a:blip r:embed="rId1"/>
          <a:stretch/>
        </p:blipFill>
        <p:spPr>
          <a:xfrm>
            <a:off x="228600" y="1905120"/>
            <a:ext cx="3086280" cy="4724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304920" y="7300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Соляная лампа  – плафон, который изготовлен из кристаллической каменной соли, созданной природой на протяжении сотен миллионов лет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12120" y="14302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Соляная лампа – это миниатюрный аналог соляной пеще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1e"/>
                </a:solidFill>
                <a:latin typeface="Times New Roman"/>
              </a:rPr>
              <a:t>Месторождения каменной соли в Росс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04920" y="7300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 зависимости от условий залегания соли, от ее происхождения, выделяют несколько разновидностей каменной со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57200" y="1523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Каменная соль, которую находят между пластами горных пород в твердом вид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1143000" y="2344680"/>
            <a:ext cx="6781680" cy="41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irit</cp:lastModifiedBy>
  <dcterms:modified xsi:type="dcterms:W3CDTF">2012-11-03T20:35:4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