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drumroll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8"/>
      </p:sldLst>
    </p:custShow>
    <p:custShow name="Произвольный показ 2" id="1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89-AEF4-41C3-9105-B83EDAD7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80D-BA2F-4312-9C3B-DD70676E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372-6D29-4BFE-972C-6F174246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4AD-EF94-49A3-BB53-1084320C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DE604-9324-45E4-9E60-5EBE1866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282AF-E142-4F0E-B022-5907361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80A04-ADAC-4FD2-81E9-6B5782C3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7C59-1AD5-4FCE-A399-1B930C44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4302-1997-4011-B164-5CFF2898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E61D1-6B6A-4812-918F-A41F3E62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6CAEE-7039-49B5-B8C0-4F33FC9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1EE-52BC-4F81-9919-3F7DBC5C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B4523-3664-4344-9B51-F5FD0D8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3EDE-7DBD-462D-BC1D-171E97F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9B902-8F84-46E5-AA82-3DA322F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8039F-874F-41AD-9BDD-D830950A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4E755-2968-4DB5-9F92-93A8F5B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CF64-EDEE-4EDF-A359-AB99E980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0F92-B556-4F3D-A106-D9645F73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0B35-66AE-4C71-92C4-44D5A558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772E-6053-4DDF-9928-168BAE53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DCDD-5CB7-40AD-AF08-1E9B164E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6E5-5D24-4F7F-B006-A4B797B7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F55E-13E4-48AC-90F5-E9EEE5DF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A625-2C15-4E24-9178-16D74DC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46E0-E413-4E81-87F2-491144C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D785-5FA1-4DCE-8F9A-600A4A2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A0C9-FDC0-42BF-AE76-D1E6589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CC1C-7BC5-473C-AAE5-DCF2E665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F6B4-6DC6-44B4-9282-CCA4114F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64DD-FF3A-430C-BB47-E49ED990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8078-F04A-4098-A8CC-07FE04E1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794B-BA61-4D1C-ABFF-06CC9D75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734-E393-4781-91CC-B91FA2B6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C81C-18DC-4D52-AD32-923F5349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B5AE-2DB8-47B4-B1C0-5962F8EB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F529-A8BE-4F94-A1D1-72ECA91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5ADF-A911-407B-847E-22D9DC8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9562-C75B-4118-A618-A2FEB5F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2454-6B73-4A18-9A64-61FE9B7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CB20-6E53-4C8C-898A-CBF01E0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085E-3D9C-4E36-9B0C-59209E8B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9CBC-2C43-4669-A864-0841647F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D55A5-B183-49F7-A906-1E5E7C78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82B-3EA7-4707-AF54-F65E2976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07CC2-35FB-4A36-946D-FBABBCF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45DC-C394-4946-8099-51D5F37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4A62-9DD0-4BC0-9B06-90BC3A8E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A5D8-57EA-41FF-9A31-1B02CBD1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F3DC8-31B3-4C10-B170-E667D0F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FA38-12C2-4E4D-855C-DC2BC928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218D-7B8A-40D5-894A-9644B06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820E-3409-4505-A837-3E791298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C180-E42D-4EA4-8224-6B61E87C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CF63A-7993-41D9-B383-45BF0E3A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0F4-0475-4B49-A0E8-2216367E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A004-47C7-409B-935A-A2F357C5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B5E-6C13-44BB-9337-C5EC84B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96F-C3FF-46A2-98A9-CCB54B1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ED0-B657-4993-A1FB-30208FB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A65B-3749-49A3-82C9-BE2C2E22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71CB-7806-40C1-AC24-D7F104A8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7A26-B96E-4557-B5F2-51A339561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2CF-3DAD-4DB5-964E-D347FA269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C42-0AA8-49E2-B1C1-76FA09E25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Причастный оборот.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Выделение</a:t>
            </a:r>
            <a:br>
              <a:rPr sz="4000"/>
            </a:b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причастного оборота запят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Цель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дать понятие о причастном обороте, его месте по отношению к определяемому слову, о правилах его выделения запят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Зн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опознавательные признаки причастного 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видеть причастный оборот, правильно определять его границы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53316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каком из словосочетаний причастие является зависимым словом, а в каком – главным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br>
              <a:rPr sz="32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ылающие искры    Пылающие ярко</a:t>
            </a:r>
            <a:br>
              <a:rPr sz="32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3366"/>
                </a:solidFill>
                <a:latin typeface="Arial"/>
              </a:rPr>
              <a:t>Причастие с зависимыми словами называется </a:t>
            </a:r>
            <a:r>
              <a:rPr b="1" i="1" lang="ru-RU" sz="4000" spc="-1" strike="noStrike">
                <a:solidFill>
                  <a:srgbClr val="993366"/>
                </a:solidFill>
                <a:latin typeface="Arial"/>
              </a:rPr>
              <a:t>причастным оборо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Если причастный оборот стоит после определяемого слова, то он выделяется на письме запят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Вокруг дуба толпились ребята, сбежавшиеся с соседних д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Вокруг дуба толпились сбежавшиеся с соседних дворов реб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691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                    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Образуйте причастия от данных глаголов.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</a:t>
            </a:r>
            <a:r>
              <a:rPr b="0" i="1" lang="en-US" sz="2800" spc="-1" strike="noStrike" u="sng">
                <a:solidFill>
                  <a:srgbClr val="006600"/>
                </a:solidFill>
                <a:uFillTx/>
                <a:latin typeface="Arial"/>
                <a:ea typeface="Times New Roman"/>
              </a:rPr>
              <a:t>Где находится дом Шерлока Холмса?</a:t>
            </a:r>
            <a:r>
              <a:rPr b="0" i="1" lang="en-US" sz="2000" spc="-1" strike="noStrike" u="sng">
                <a:solidFill>
                  <a:srgbClr val="006600"/>
                </a:solidFill>
                <a:uFillTx/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Бывает, что литературные герои, (придумать) писателем, становятся для читателей реальными персонажами. Таков Шерлок Холмс - сыщик, (создать) талантом писателя Артура Конан Дойля.</a:t>
            </a:r>
            <a:br>
              <a:rPr sz="2400"/>
            </a:b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(Начинать) писателя очень увлекал детективный жанр. У Конан Дойля был любимый учитель -  Джозеф Белл. По внешнему виду человека он мог рассказать о нем. Этот учитель послужил прообразом знаменитого сыщика. Шерлок Холмс воспринимается многими читателями как реально (существовать) человек. До сих пор на лондонский почтамт приходят письма, (адресовать) сыщику. </a:t>
            </a:r>
            <a:br>
              <a:rPr sz="2400"/>
            </a:b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В одном из домов Лондона (восстановить) квартира Шерлока Холмса и доктора Уотсона. На полу (разложить) карта, которая помогла распутать дело баскервильской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e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ваем логическое мышление. Игра «Корректор»</a:t>
            </a:r>
            <a:br>
              <a:rPr sz="2400"/>
            </a:br>
            <a:br>
              <a:rPr sz="20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Задание. Исправьте предложения «из ящика».</a:t>
            </a:r>
            <a:br>
              <a:rPr sz="24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Начальнику отдела «Грамотность»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               бригадира грузчиков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               Недосмотрова И. И.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      ОБЪЯСНИТЕЛЬНАЯ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При транспортировке ящика «Предложения с причастными оборотами» грузчиками Расхлябовым П. П. и Лентяйкиным Р. Р. было допущено его опрокидывание. Чтобы скрыть эту оплошность, они быстро собрали рассыпавшиеся части предложений. По причине неграмотности это было сделано ими неверно.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                                                 25. 05. 2005.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       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Резолюция на этом документе была такова: «Принять меры по приведению содержимого ящика в исходное состояние».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 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a0f"/>
                </a:solidFill>
                <a:latin typeface="Arial"/>
              </a:rPr>
              <a:t>Предложения с причастными обор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Повесть, растущая в саду, известна вс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Цветы, играющие во время урока, очень крас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Дети, отредактированные корректором, будут подвергнуты наказ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496c8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68000" y="206064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пражнение 73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очинить стихотворение по заданному начал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Шарик, который летит,  летящ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нежок, который хрустит, -  хрустящ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учей, который журчит, - 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ечь, которая звучит, -………………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8:53:41Z</dcterms:created>
  <dc:creator>Администратор</dc:creator>
  <dc:description/>
  <dc:language>en-US</dc:language>
  <cp:lastModifiedBy>XXXL</cp:lastModifiedBy>
  <dcterms:modified xsi:type="dcterms:W3CDTF">2007-02-12T15:59:37Z</dcterms:modified>
  <cp:revision>27</cp:revision>
  <dc:subject/>
  <dc:title>Причастный оборот. Выделение причастного оборота запятыми.</dc:title>
</cp:coreProperties>
</file>