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7EE-54CB-4E72-8549-AC6B447A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E96-D40C-44B7-A4DA-5B794CF9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987-BD90-4975-8B37-A5C7A2DC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2C5-B435-40A4-8290-6145BE66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429-89C9-42FA-B389-6E2FEF4C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130-DA95-470F-B1FB-E3607405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3FB-DC8F-4893-B4C5-178F001E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416-FB88-44F3-A832-01047B5A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76F-E8DB-424F-8F1A-F83E35E2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393-E6A4-43CB-A3CC-D95958E5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1A9-EC8D-4AD7-BDDA-05622B16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6DD-C91E-4F3D-BDCF-BC0D5DE5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A9BE-561C-42FB-983D-3554F497D1C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0D42-751A-4B82-8111-33A8283909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Monotype Corsiva"/>
              </a:rPr>
              <a:t>Модуль 2.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нение  мультимедийных презентаций для закрепления навыка оформления краткой записи задачи и её реш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A815-C68D-4CF5-8138-8E0F5E63E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ложено - ?,  75% о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его – 102,8к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талось проложить -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ш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7375e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75% = 0,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7375e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02,8 ∙ 0,75 = 77,1(км) – проложен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7375e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02,8 – 77,1 = 25,7(км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вет: 25,7 км газопровода осталось проложи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 494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атематика 5 класс, Виленкин Н.Я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ая соединительная линия 5"/>
          <p:cNvSpPr/>
          <p:nvPr/>
        </p:nvSpPr>
        <p:spPr>
          <a:xfrm>
            <a:off x="5000760" y="2000160"/>
            <a:ext cx="714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7"/>
          <p:cNvSpPr/>
          <p:nvPr/>
        </p:nvSpPr>
        <p:spPr>
          <a:xfrm>
            <a:off x="5715000" y="2000160"/>
            <a:ext cx="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9"/>
          <p:cNvCxnSpPr/>
          <p:nvPr/>
        </p:nvCxnSpPr>
        <p:spPr>
          <a:xfrm flipH="1" flipV="1">
            <a:off x="3571200" y="2571480"/>
            <a:ext cx="21438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05FB-CB73-4060-8CBD-1FF77A2E2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8"/>
          <p:cNvSpPr/>
          <p:nvPr/>
        </p:nvSpPr>
        <p:spPr>
          <a:xfrm>
            <a:off x="3124080" y="6356520"/>
            <a:ext cx="501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 163 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атематика 5 класс, Виленкин Н.Я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У Андрюши – 123 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У Алеши - ?, в 3 раза меньше, ч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еш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123 : 3 = 41(м.) – у Алеш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123 – 41 = 82(м.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твет: на 82 марки у Андрюши больше, чем у Алёш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ая соединительная линия 4"/>
          <p:cNvSpPr/>
          <p:nvPr/>
        </p:nvSpPr>
        <p:spPr>
          <a:xfrm>
            <a:off x="7143840" y="2643120"/>
            <a:ext cx="500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 flipV="1">
            <a:off x="7643880" y="2000160"/>
            <a:ext cx="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Прямая со стрелкой 11"/>
          <p:cNvCxnSpPr/>
          <p:nvPr/>
        </p:nvCxnSpPr>
        <p:spPr>
          <a:xfrm flipH="1" flipV="1">
            <a:off x="4714560" y="1999440"/>
            <a:ext cx="29296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Правая круглая скобка 18"/>
          <p:cNvSpPr/>
          <p:nvPr/>
        </p:nvSpPr>
        <p:spPr>
          <a:xfrm>
            <a:off x="7572240" y="1714680"/>
            <a:ext cx="214560" cy="1071360"/>
          </a:xfrm>
          <a:custGeom>
            <a:avLst/>
            <a:gdLst>
              <a:gd name="textAreaLeft" fmla="*/ 0 w 214560"/>
              <a:gd name="textAreaRight" fmla="*/ 150480 w 214560"/>
              <a:gd name="textAreaTop" fmla="*/ 8640 h 1071360"/>
              <a:gd name="textAreaBottom" fmla="*/ 1062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20"/>
          <p:cNvCxnSpPr>
            <a:endCxn id="50" idx="0"/>
          </p:cNvCxnSpPr>
          <p:nvPr/>
        </p:nvCxnSpPr>
        <p:spPr>
          <a:xfrm flipH="1" flipV="1">
            <a:off x="7571520" y="1714320"/>
            <a:ext cx="1436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22"/>
          <p:cNvCxnSpPr>
            <a:endCxn id="50" idx="1"/>
          </p:cNvCxnSpPr>
          <p:nvPr/>
        </p:nvCxnSpPr>
        <p:spPr>
          <a:xfrm flipH="1" flipV="1">
            <a:off x="7571880" y="2785680"/>
            <a:ext cx="21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TextBox 23"/>
          <p:cNvSpPr/>
          <p:nvPr/>
        </p:nvSpPr>
        <p:spPr>
          <a:xfrm>
            <a:off x="7858080" y="1928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B023-A906-4CE1-B46D-510DD5AC31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85840" y="1285560"/>
            <a:ext cx="8686800" cy="5257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</a:t>
            </a:r>
            <a:r>
              <a:rPr b="1" i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девочка – 1кг 250г мал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I</a:t>
            </a:r>
            <a:r>
              <a:rPr b="1" i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девочка – ?, на 300г больш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еш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1кг 250г = 1250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1250 + 300 = 1550(г) –у  </a:t>
            </a:r>
            <a:r>
              <a:rPr b="1" i="1" lang="en-US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I</a:t>
            </a:r>
            <a:r>
              <a:rPr b="1" i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девоч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1250 +1550 = 2800(г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твет: 2800граммов малины собрали две девоч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 185 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атематика 5 класс, Виленкин Н.Я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5"/>
          <p:cNvSpPr/>
          <p:nvPr/>
        </p:nvSpPr>
        <p:spPr>
          <a:xfrm>
            <a:off x="7000920" y="2786040"/>
            <a:ext cx="500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7"/>
          <p:cNvSpPr/>
          <p:nvPr/>
        </p:nvSpPr>
        <p:spPr>
          <a:xfrm flipV="1">
            <a:off x="7500960" y="2071800"/>
            <a:ext cx="0" cy="71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9"/>
          <p:cNvCxnSpPr/>
          <p:nvPr/>
        </p:nvCxnSpPr>
        <p:spPr>
          <a:xfrm flipH="1" flipV="1">
            <a:off x="6714360" y="2071440"/>
            <a:ext cx="786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Правая фигурная скобка 10"/>
          <p:cNvSpPr/>
          <p:nvPr/>
        </p:nvSpPr>
        <p:spPr>
          <a:xfrm>
            <a:off x="7572240" y="1357200"/>
            <a:ext cx="357480" cy="114300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1143000"/>
              <a:gd name="textAreaBottom" fmla="*/ 1134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16200" y="10800"/>
                  <a:pt x="21600" y="10800"/>
                </a:cubicBezTo>
                <a:cubicBezTo>
                  <a:pt x="162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929720" y="164304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D51A-B6EA-4554-8C59-61B302B98A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12"/>
          <p:cNvSpPr/>
          <p:nvPr/>
        </p:nvSpPr>
        <p:spPr>
          <a:xfrm>
            <a:off x="714240" y="6492960"/>
            <a:ext cx="728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езд составлен  из 12 вагонов по 58 ме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 поезде 667пассажи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вободных мест -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58 ∙ 12 = 696(м.) – всего в поез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696 – 667 = 29 (м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твет: 29 мест осталось свободных в поезд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 291 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атематика 5 класс, Виленкин Н.Я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3840-7398-4C07-AFBC-75A9D63486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85840" y="1214280"/>
            <a:ext cx="8572320" cy="51436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озеро - ? , в 3 раза боль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озеро -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озеро – 7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Уравн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3х + х + 7  = 32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4х+7 = 32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4х = 32 - 7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4х = 28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х = 28 : 4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х = 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7га – площадь второго озер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7 · 3 = 21 (г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твет: 21 га площадь первого оз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 777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атематика 5 класс, Виленкин Н.Я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5"/>
          <p:cNvSpPr/>
          <p:nvPr/>
        </p:nvSpPr>
        <p:spPr>
          <a:xfrm>
            <a:off x="5357880" y="1500120"/>
            <a:ext cx="500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7"/>
          <p:cNvSpPr/>
          <p:nvPr/>
        </p:nvSpPr>
        <p:spPr>
          <a:xfrm flipV="1">
            <a:off x="5857920" y="1500120"/>
            <a:ext cx="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9"/>
          <p:cNvCxnSpPr/>
          <p:nvPr/>
        </p:nvCxnSpPr>
        <p:spPr>
          <a:xfrm flipH="1" flipV="1">
            <a:off x="2428200" y="2071440"/>
            <a:ext cx="3429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12"/>
          <p:cNvSpPr/>
          <p:nvPr/>
        </p:nvSpPr>
        <p:spPr>
          <a:xfrm>
            <a:off x="6143760" y="178596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х(га)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6072120" y="1285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3х(га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авая фигурная скобка 14"/>
          <p:cNvSpPr/>
          <p:nvPr/>
        </p:nvSpPr>
        <p:spPr>
          <a:xfrm>
            <a:off x="7358040" y="1357200"/>
            <a:ext cx="285840" cy="13575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357560"/>
              <a:gd name="textAreaBottom" fmla="*/ 135036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0"/>
                  <a:pt x="10800" y="379"/>
                </a:cubicBezTo>
                <a:lnTo>
                  <a:pt x="10800" y="10421"/>
                </a:lnTo>
                <a:cubicBezTo>
                  <a:pt x="10800" y="10611"/>
                  <a:pt x="16200" y="10800"/>
                  <a:pt x="21600" y="10800"/>
                </a:cubicBezTo>
                <a:cubicBezTo>
                  <a:pt x="16200" y="10800"/>
                  <a:pt x="10800" y="10990"/>
                  <a:pt x="10800" y="11179"/>
                </a:cubicBezTo>
                <a:lnTo>
                  <a:pt x="10800" y="21221"/>
                </a:lnTo>
                <a:cubicBezTo>
                  <a:pt x="10800" y="2141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7715160" y="1785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32 г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4B03-084A-4642-B3EB-349E33CCEA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11"/>
          <p:cNvSpPr/>
          <p:nvPr/>
        </p:nvSpPr>
        <p:spPr>
          <a:xfrm>
            <a:off x="3124080" y="6356520"/>
            <a:ext cx="516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9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атематика 5 класс, Виленкин Н.Я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4200" y="1356840"/>
            <a:ext cx="8715600" cy="5000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зеро – </a:t>
            </a:r>
            <a:r>
              <a:rPr b="1" i="1" lang="en-US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 =</a:t>
            </a:r>
            <a:r>
              <a:rPr b="1" i="1" lang="ru-RU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3ч, </a:t>
            </a:r>
            <a:r>
              <a:rPr b="1" i="1" lang="en-US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v =</a:t>
            </a:r>
            <a:r>
              <a:rPr b="1" i="1" lang="ru-RU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27км/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отив течения – </a:t>
            </a:r>
            <a:r>
              <a:rPr b="1" i="1" lang="en-US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 =</a:t>
            </a:r>
            <a:r>
              <a:rPr b="1" i="1" lang="ru-RU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4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V</a:t>
            </a:r>
            <a:r>
              <a:rPr b="1" i="1" lang="ru-RU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ч. = 3км/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ешение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27 ∙ 3 = 81(</a:t>
            </a:r>
            <a:r>
              <a:rPr b="1" i="1" lang="ru-RU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м) – путь по озер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27 – 3 = 24(км/ч) – скорость по ре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24 </a:t>
            </a:r>
            <a:r>
              <a:rPr b="1" i="1" lang="en-US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∙ </a:t>
            </a:r>
            <a:r>
              <a:rPr b="1" i="1" lang="ru-RU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4 = 96(км) – путь по ре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81 + 96 = 177 (км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твет: 177 км прошел теплоход за 7 час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авая фигурная скобка 3"/>
          <p:cNvSpPr/>
          <p:nvPr/>
        </p:nvSpPr>
        <p:spPr>
          <a:xfrm>
            <a:off x="4714920" y="1428840"/>
            <a:ext cx="428760" cy="785880"/>
          </a:xfrm>
          <a:custGeom>
            <a:avLst/>
            <a:gdLst>
              <a:gd name="textAreaLeft" fmla="*/ 0 w 428760"/>
              <a:gd name="textAreaRight" fmla="*/ 154800 w 428760"/>
              <a:gd name="textAreaTop" fmla="*/ 11160 h 785880"/>
              <a:gd name="textAreaBottom" fmla="*/ 7747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1"/>
                  <a:pt x="10800" y="982"/>
                </a:cubicBezTo>
                <a:lnTo>
                  <a:pt x="10800" y="9818"/>
                </a:lnTo>
                <a:cubicBezTo>
                  <a:pt x="10800" y="10309"/>
                  <a:pt x="16200" y="10800"/>
                  <a:pt x="21600" y="10800"/>
                </a:cubicBezTo>
                <a:cubicBezTo>
                  <a:pt x="16200" y="10800"/>
                  <a:pt x="10800" y="11291"/>
                  <a:pt x="10800" y="11782"/>
                </a:cubicBezTo>
                <a:lnTo>
                  <a:pt x="10800" y="20618"/>
                </a:lnTo>
                <a:cubicBezTo>
                  <a:pt x="10800" y="2110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286240" y="15717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S -</a:t>
            </a:r>
            <a:r>
              <a:rPr b="1" i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934B-1E9B-4782-AE68-9598964EB4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6"/>
          <p:cNvSpPr/>
          <p:nvPr/>
        </p:nvSpPr>
        <p:spPr>
          <a:xfrm>
            <a:off x="3124080" y="6356520"/>
            <a:ext cx="501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14200" y="1285920"/>
            <a:ext cx="8715600" cy="4857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Акварель -     всех рисун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рандашами – ?, 0,25 оста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72 ·     =         =      =60(рис.) – аквар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72 – 60 =12 (рис.) – остало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12 ∙ 0,25 = 3(рис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твет: 3 карандашных рисунка на выстав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40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 493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атематика 6 класс, Виленкин Н.Я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2214720" y="1143000"/>
                <a:ext cx="35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Правая фигурная скобка 7"/>
          <p:cNvSpPr/>
          <p:nvPr/>
        </p:nvSpPr>
        <p:spPr>
          <a:xfrm>
            <a:off x="6572160" y="1500120"/>
            <a:ext cx="428760" cy="785880"/>
          </a:xfrm>
          <a:custGeom>
            <a:avLst/>
            <a:gdLst>
              <a:gd name="textAreaLeft" fmla="*/ 0 w 428760"/>
              <a:gd name="textAreaRight" fmla="*/ 154800 w 428760"/>
              <a:gd name="textAreaTop" fmla="*/ 11160 h 785880"/>
              <a:gd name="textAreaBottom" fmla="*/ 7747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1"/>
                  <a:pt x="10800" y="982"/>
                </a:cubicBezTo>
                <a:lnTo>
                  <a:pt x="10800" y="9818"/>
                </a:lnTo>
                <a:cubicBezTo>
                  <a:pt x="10800" y="10309"/>
                  <a:pt x="16200" y="10800"/>
                  <a:pt x="21600" y="10800"/>
                </a:cubicBezTo>
                <a:cubicBezTo>
                  <a:pt x="16200" y="10800"/>
                  <a:pt x="10800" y="11291"/>
                  <a:pt x="10800" y="11782"/>
                </a:cubicBezTo>
                <a:lnTo>
                  <a:pt x="10800" y="20618"/>
                </a:lnTo>
                <a:cubicBezTo>
                  <a:pt x="10800" y="2110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7072200" y="157176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72 р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1428840" y="2857680"/>
                <a:ext cx="35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7"/>
              <p:cNvSpPr txBox="1"/>
              <p:nvPr/>
            </p:nvSpPr>
            <p:spPr>
              <a:xfrm>
                <a:off x="2143080" y="2928960"/>
                <a:ext cx="8571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8"/>
              <p:cNvSpPr txBox="1"/>
              <p:nvPr/>
            </p:nvSpPr>
            <p:spPr>
              <a:xfrm>
                <a:off x="3357720" y="2857680"/>
                <a:ext cx="528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B64C-A1FC-4630-9810-51B1E2845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11"/>
          <p:cNvSpPr/>
          <p:nvPr/>
        </p:nvSpPr>
        <p:spPr>
          <a:xfrm>
            <a:off x="3124080" y="6356520"/>
            <a:ext cx="480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85480" y="1928880"/>
            <a:ext cx="8715240" cy="4214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правили – 211,2т, что составляет 0,88 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молотили -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11,2 : 0,88 = 240(т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вет: 240 т зерна намолотили за д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 649 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атематика 6 класс, Виленкин Н.Я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5"/>
          <p:cNvSpPr/>
          <p:nvPr/>
        </p:nvSpPr>
        <p:spPr>
          <a:xfrm>
            <a:off x="8715240" y="2286000"/>
            <a:ext cx="214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8"/>
          <p:cNvSpPr/>
          <p:nvPr/>
        </p:nvSpPr>
        <p:spPr>
          <a:xfrm>
            <a:off x="8929800" y="2286000"/>
            <a:ext cx="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Прямая со стрелкой 15"/>
          <p:cNvCxnSpPr/>
          <p:nvPr/>
        </p:nvCxnSpPr>
        <p:spPr>
          <a:xfrm flipH="1" flipV="1">
            <a:off x="3214080" y="2785680"/>
            <a:ext cx="5715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1E9C-C0CC-46E5-A5C2-5D725A5E08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7"/>
          <p:cNvSpPr/>
          <p:nvPr/>
        </p:nvSpPr>
        <p:spPr>
          <a:xfrm>
            <a:off x="3124080" y="6356520"/>
            <a:ext cx="487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Хлопковые семена        Масл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1кг                         5,1к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7кг                            х к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ш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=     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х = 5,1· 7 : 21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х = 1,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вет: 1,7 кг масла получится из 7 кг хлопкового сем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 786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атематика 6 класс, Виленкин Н.Я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Прямая со стрелкой 5"/>
          <p:cNvCxnSpPr/>
          <p:nvPr/>
        </p:nvCxnSpPr>
        <p:spPr>
          <a:xfrm flipH="1">
            <a:off x="6357600" y="2357280"/>
            <a:ext cx="216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Прямая со стрелкой 9"/>
          <p:cNvCxnSpPr/>
          <p:nvPr/>
        </p:nvCxnSpPr>
        <p:spPr>
          <a:xfrm flipH="1">
            <a:off x="1569240" y="2357280"/>
            <a:ext cx="252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571680" y="3500280"/>
                <a:ext cx="50004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1500120" y="3643200"/>
                <a:ext cx="4287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,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5DEB-35DD-4CAC-B906-354E60F319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8"/>
          <p:cNvSpPr/>
          <p:nvPr/>
        </p:nvSpPr>
        <p:spPr>
          <a:xfrm>
            <a:off x="3124080" y="6356520"/>
            <a:ext cx="516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51:41Z</dcterms:created>
  <dc:creator>Конелец</dc:creator>
  <dc:description/>
  <dc:language>en-US</dc:language>
  <cp:lastModifiedBy>Завуч</cp:lastModifiedBy>
  <dcterms:modified xsi:type="dcterms:W3CDTF">2012-11-04T18:30:15Z</dcterms:modified>
  <cp:revision>47</cp:revision>
  <dc:subject/>
  <dc:title>Модуль 2.</dc:title>
</cp:coreProperties>
</file>