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762D-24A9-4A8E-A6FE-7A83FB77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CC9E-015A-4422-8EED-0C7E1DEA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276B-4BCE-4727-9A12-05409C3C5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A15C-8946-408C-A388-30E98FF2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3028-7E10-4A87-A1D7-E706A317B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471D-28A3-441B-BDE0-E82F5E8D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D308-35FF-47CD-9C4E-EC016357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4ED2-3055-4F3D-B5E1-534C47B6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E0B7-66E0-49A6-9264-E1BA71FA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685C-6ABF-405D-9BCD-FCE633E4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8D4A-8740-47B7-90EC-F323B53F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5011-0A04-48D6-B634-622D8A13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EA40-12B7-4456-A7CC-BD299834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DA0F-D925-49AD-BCD0-B0556CC8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1558-D6D2-4776-B636-8D12D482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C0DD-633D-4304-8B9D-217B37FAE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8653-3E58-4EB0-980A-8C176DC88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B99DE-CAA5-44D0-BD0D-8F2E7E682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45C31-5509-4C3F-A333-E13952AB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0FC0F-AA87-4291-847D-DDF993E4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DCBB7-A309-4470-85C3-2E39E231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1882D-5E57-4D18-AD9F-47372330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A2EF-42BE-4579-8956-8F148068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70DEE-30CB-4040-8262-5418BD12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4F547-35D3-463C-B24E-0266AC61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22B8E-9AF5-4CCB-A774-447F7890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9EC5D-BDDA-4AE5-8137-F011EB3D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28BAB-24EE-4086-B0DC-0953CC1E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2083E-9C26-4569-9E78-29708CE73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F605B-AC6E-4299-9786-292A6E6B8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4FD3C-6C7C-4BC6-931B-D2B4343D8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C5545-1312-4652-8CBE-86E897A3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BE7CB-FA9D-4D55-AF4F-5AF2686E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DAC8-D3BB-4500-84CF-CC4517DA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20237-2E39-41D7-9930-C194CF41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A6D87-9FF4-4A0E-9377-E8CF8545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385B2-2158-46D7-A6C1-202B5A43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1C1EE-4019-4D16-BBE6-693CF547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84FA9-538B-4766-A691-D100BE80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E59EF-FEEE-4D51-9061-D920D608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E1370-F0DE-4443-80E7-94606B55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D79A6-9280-4CB1-994E-CB6519D4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73CCF-0408-4895-9097-17D86D531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ECBAE-6EBC-4132-9FEF-59FFC9AC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64C0-7C49-4B3E-8CBE-2E457899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AB0C6-23F0-48C0-9936-9A943F9A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8E262-0B46-49C0-B6DB-632D345B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6DCBE-2CA0-4DED-B364-214A7A9E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EA281-CCFC-4BFA-A3D6-5F9D5910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489DC-14A0-4111-A871-224674C9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F995A-703C-4C7A-96A5-7346DA96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E1270-05FD-45D1-9975-1DDCF243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E1F5C-05DD-4702-8370-885D1F0D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40D7D-F633-4A84-AA73-98AE801C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4C246-0C16-40F5-9C70-F5A3947A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3336-BD38-4605-BD08-365338B7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40D97-0D77-4058-B058-014DF79D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DAB59-4B23-4175-BA8B-A951EDFCC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FBDC8-50ED-40CB-85BB-4BB4653E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038D0-AAE4-43F4-A34E-BF6576AD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C461C-A074-4D14-AE97-89A40ADE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F641D-7D27-42D0-8029-79B55FBB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6DF05-3991-425B-8805-9D370639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E5C30-538C-48A3-8F7C-AC0A8FD0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FB370-061B-4134-BA62-614D03FB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F9161-EB0A-4E17-AF40-FB09E849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041E-3C8A-40A2-B8D1-04D2C14A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B23B0-255B-421A-A648-9609CAD7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669FB-A40A-403E-A633-91D0C7347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1BBEF-E416-4E7A-8A2F-7F4BB891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BC83-ED34-4CCB-8D10-D480F51C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D6DB-1921-447D-935E-11688B62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BABA-6864-4BCF-A45D-73A33D0F834A}" type="datetime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Конелец НИ, СШ № 4 города Лабинска Лабинского райо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CB82-288E-42A5-8783-1B82570EFB80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9753-F596-458B-A6CE-A034461E8BEB}" type="datetime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Конелец НИ, СШ № 4 города Лабинска Лабинского райо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7085-7A60-4B13-89E7-FC1299A740C9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CFD4-C3D9-4081-9BA9-5A33528862D2}" type="datetime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Конелец НИ, СШ № 4 города Лабинска Лабинского райо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1E91-BBA2-423C-A7BB-E90F0948FB6D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f5f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bf5f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E591-7A59-4051-B756-649CE30C9E9F}" type="datetime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Конелец НИ, СШ № 4 города Лабинска Лабинского райо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2EE7-B73D-4A86-94AC-2F0288FD72E7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13F4-0AA5-4ED2-AD54-D558012F72ED}" type="datetime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Конелец НИ, СШ № 4 города Лабинска Лабинского райо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74BB-6180-4BA8-830F-944D675C7A80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A45B-E827-4415-990C-71E50A19EDC9}" type="datetime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Конелец НИ, СШ № 4 города Лабинска Лабинского райо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1ED4-B927-4EBB-91D6-A41A675A594C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3" descr=""/>
          <p:cNvPicPr/>
          <p:nvPr/>
        </p:nvPicPr>
        <p:blipFill>
          <a:blip r:embed="rId1"/>
          <a:stretch/>
        </p:blipFill>
        <p:spPr>
          <a:xfrm>
            <a:off x="-171360" y="42840"/>
            <a:ext cx="9169200" cy="21146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менение  мультимедийных презентаций для организации устных упражнений на уроках математики в 5-6 классах</a:t>
            </a:r>
            <a:endParaRPr b="0" lang="en-US" sz="48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4" name="Rectangle 1"/>
          <p:cNvSpPr/>
          <p:nvPr/>
        </p:nvSpPr>
        <p:spPr>
          <a:xfrm>
            <a:off x="447984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ижний колонтитул 35"/>
          <p:cNvSpPr/>
          <p:nvPr/>
        </p:nvSpPr>
        <p:spPr>
          <a:xfrm>
            <a:off x="214200" y="6356520"/>
            <a:ext cx="7715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елец НИ, СШ № 4 города Лабинска Лаби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Номер слайда 6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B072-DC0F-4B1B-BD8E-8837A1A76A57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285840" y="15717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9" name="Прямоугольник 3"/>
          <p:cNvSpPr/>
          <p:nvPr/>
        </p:nvSpPr>
        <p:spPr>
          <a:xfrm>
            <a:off x="285840" y="1571760"/>
            <a:ext cx="1214280" cy="1071360"/>
          </a:xfrm>
          <a:prstGeom prst="rect">
            <a:avLst/>
          </a:prstGeom>
          <a:solidFill>
            <a:srgbClr val="22fcf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Franklin Gothic Book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Овал 4"/>
          <p:cNvSpPr/>
          <p:nvPr/>
        </p:nvSpPr>
        <p:spPr>
          <a:xfrm>
            <a:off x="3643200" y="1500120"/>
            <a:ext cx="1428840" cy="1357560"/>
          </a:xfrm>
          <a:prstGeom prst="ellipse">
            <a:avLst/>
          </a:prstGeom>
          <a:gradFill rotWithShape="0">
            <a:gsLst>
              <a:gs pos="0">
                <a:srgbClr val="c6ffff"/>
              </a:gs>
              <a:gs pos="100000">
                <a:srgbClr val="2effff"/>
              </a:gs>
            </a:gsLst>
            <a:lin ang="5400000"/>
          </a:gradFill>
          <a:ln w="10080">
            <a:solidFill>
              <a:srgbClr val="0bd0d9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Овал 6"/>
          <p:cNvSpPr/>
          <p:nvPr/>
        </p:nvSpPr>
        <p:spPr>
          <a:xfrm>
            <a:off x="6572160" y="1714680"/>
            <a:ext cx="1428840" cy="1357200"/>
          </a:xfrm>
          <a:prstGeom prst="ellipse">
            <a:avLst/>
          </a:prstGeom>
          <a:gradFill rotWithShape="0">
            <a:gsLst>
              <a:gs pos="0">
                <a:srgbClr val="c6ffff"/>
              </a:gs>
              <a:gs pos="100000">
                <a:srgbClr val="2effff"/>
              </a:gs>
            </a:gsLst>
            <a:lin ang="5400000"/>
          </a:gradFill>
          <a:ln w="10080">
            <a:solidFill>
              <a:srgbClr val="0bd0d9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Овал 7"/>
          <p:cNvSpPr/>
          <p:nvPr/>
        </p:nvSpPr>
        <p:spPr>
          <a:xfrm>
            <a:off x="7072200" y="4143240"/>
            <a:ext cx="1428840" cy="1357560"/>
          </a:xfrm>
          <a:prstGeom prst="ellipse">
            <a:avLst/>
          </a:prstGeom>
          <a:gradFill rotWithShape="0">
            <a:gsLst>
              <a:gs pos="0">
                <a:srgbClr val="c6ffff"/>
              </a:gs>
              <a:gs pos="100000">
                <a:srgbClr val="2effff"/>
              </a:gs>
            </a:gsLst>
            <a:lin ang="5400000"/>
          </a:gradFill>
          <a:ln w="10080">
            <a:solidFill>
              <a:srgbClr val="0bd0d9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Овал 8"/>
          <p:cNvSpPr/>
          <p:nvPr/>
        </p:nvSpPr>
        <p:spPr>
          <a:xfrm>
            <a:off x="3857760" y="4572000"/>
            <a:ext cx="1428480" cy="1357200"/>
          </a:xfrm>
          <a:prstGeom prst="ellipse">
            <a:avLst/>
          </a:prstGeom>
          <a:gradFill rotWithShape="0">
            <a:gsLst>
              <a:gs pos="0">
                <a:srgbClr val="c6ffff"/>
              </a:gs>
              <a:gs pos="100000">
                <a:srgbClr val="2effff"/>
              </a:gs>
            </a:gsLst>
            <a:lin ang="5400000"/>
          </a:gradFill>
          <a:ln w="10080">
            <a:solidFill>
              <a:srgbClr val="0bd0d9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1143000" y="4786200"/>
            <a:ext cx="1214280" cy="1071720"/>
          </a:xfrm>
          <a:prstGeom prst="rect">
            <a:avLst/>
          </a:prstGeom>
          <a:gradFill rotWithShape="0">
            <a:gsLst>
              <a:gs pos="0">
                <a:srgbClr val="edfdcf"/>
              </a:gs>
              <a:gs pos="100000">
                <a:srgbClr val="c9f852"/>
              </a:gs>
            </a:gsLst>
            <a:lin ang="5400000"/>
          </a:gradFill>
          <a:ln w="10080">
            <a:solidFill>
              <a:srgbClr val="a5c249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Прямая со стрелкой 11"/>
          <p:cNvCxnSpPr>
            <a:stCxn id="319" idx="3"/>
          </p:cNvCxnSpPr>
          <p:nvPr/>
        </p:nvCxnSpPr>
        <p:spPr>
          <a:xfrm>
            <a:off x="1499760" y="2106360"/>
            <a:ext cx="2072520" cy="37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26" name="Прямая со стрелкой 14"/>
          <p:cNvCxnSpPr/>
          <p:nvPr/>
        </p:nvCxnSpPr>
        <p:spPr>
          <a:xfrm>
            <a:off x="5143680" y="2214360"/>
            <a:ext cx="1429200" cy="106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27" name="Прямая со стрелкой 17"/>
          <p:cNvCxnSpPr>
            <a:endCxn id="322" idx="0"/>
          </p:cNvCxnSpPr>
          <p:nvPr/>
        </p:nvCxnSpPr>
        <p:spPr>
          <a:xfrm>
            <a:off x="7714080" y="2999880"/>
            <a:ext cx="72360" cy="1143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28" name="Прямая со стрелкой 19"/>
          <p:cNvCxnSpPr>
            <a:endCxn id="323" idx="6"/>
          </p:cNvCxnSpPr>
          <p:nvPr/>
        </p:nvCxnSpPr>
        <p:spPr>
          <a:xfrm flipH="1">
            <a:off x="5285520" y="5072040"/>
            <a:ext cx="1786680" cy="180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29" name="Прямая со стрелкой 20"/>
          <p:cNvCxnSpPr>
            <a:endCxn id="324" idx="3"/>
          </p:cNvCxnSpPr>
          <p:nvPr/>
        </p:nvCxnSpPr>
        <p:spPr>
          <a:xfrm flipH="1">
            <a:off x="2356920" y="5286240"/>
            <a:ext cx="1501200" cy="37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30" name="TextBox 29"/>
          <p:cNvSpPr/>
          <p:nvPr/>
        </p:nvSpPr>
        <p:spPr>
          <a:xfrm>
            <a:off x="2000160" y="1214280"/>
            <a:ext cx="9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Franklin Gothic Book"/>
              </a:rPr>
              <a:t>: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30"/>
          <p:cNvSpPr/>
          <p:nvPr/>
        </p:nvSpPr>
        <p:spPr>
          <a:xfrm>
            <a:off x="5214960" y="1285920"/>
            <a:ext cx="14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Franklin Gothic Book"/>
              </a:rPr>
              <a:t>+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31"/>
          <p:cNvSpPr/>
          <p:nvPr/>
        </p:nvSpPr>
        <p:spPr>
          <a:xfrm>
            <a:off x="8001000" y="3071880"/>
            <a:ext cx="9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Franklin Gothic Book"/>
              </a:rPr>
              <a:t>: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32"/>
          <p:cNvSpPr/>
          <p:nvPr/>
        </p:nvSpPr>
        <p:spPr>
          <a:xfrm>
            <a:off x="5500800" y="4214880"/>
            <a:ext cx="92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Franklin Gothic Book"/>
              </a:rPr>
              <a:t>·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33"/>
          <p:cNvSpPr/>
          <p:nvPr/>
        </p:nvSpPr>
        <p:spPr>
          <a:xfrm>
            <a:off x="2643120" y="4357800"/>
            <a:ext cx="128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Franklin Gothic Book"/>
              </a:rPr>
              <a:t>+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34"/>
          <p:cNvSpPr/>
          <p:nvPr/>
        </p:nvSpPr>
        <p:spPr>
          <a:xfrm>
            <a:off x="4000680" y="1714680"/>
            <a:ext cx="71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Franklin Gothic Book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35"/>
          <p:cNvSpPr/>
          <p:nvPr/>
        </p:nvSpPr>
        <p:spPr>
          <a:xfrm>
            <a:off x="6715080" y="1857240"/>
            <a:ext cx="121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Franklin Gothic Book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36"/>
          <p:cNvSpPr/>
          <p:nvPr/>
        </p:nvSpPr>
        <p:spPr>
          <a:xfrm>
            <a:off x="7358040" y="4429080"/>
            <a:ext cx="128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Franklin Gothic Book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37"/>
          <p:cNvSpPr/>
          <p:nvPr/>
        </p:nvSpPr>
        <p:spPr>
          <a:xfrm>
            <a:off x="4071960" y="4857840"/>
            <a:ext cx="157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Franklin Gothic Book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38"/>
          <p:cNvSpPr/>
          <p:nvPr/>
        </p:nvSpPr>
        <p:spPr>
          <a:xfrm>
            <a:off x="1143000" y="4857840"/>
            <a:ext cx="13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Franklin Gothic Book"/>
              </a:rPr>
              <a:t>5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Нижний колонтитул 35"/>
          <p:cNvSpPr/>
          <p:nvPr/>
        </p:nvSpPr>
        <p:spPr>
          <a:xfrm>
            <a:off x="214200" y="6356520"/>
            <a:ext cx="7715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елец НИ, СШ № 4 города Лабинска Лаби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Номер слайда 26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A7AE-43F8-452E-9834-68E009D3766C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3" name=""/>
          <p:cNvGraphicFramePr/>
          <p:nvPr/>
        </p:nvGraphicFramePr>
        <p:xfrm>
          <a:off x="214200" y="2143080"/>
          <a:ext cx="8358480" cy="2103480"/>
        </p:xfrm>
        <a:graphic>
          <a:graphicData uri="http://schemas.openxmlformats.org/drawingml/2006/table">
            <a:tbl>
              <a:tblPr/>
              <a:tblGrid>
                <a:gridCol w="2857680"/>
                <a:gridCol w="1000080"/>
                <a:gridCol w="857160"/>
                <a:gridCol w="785880"/>
                <a:gridCol w="857160"/>
                <a:gridCol w="1071720"/>
                <a:gridCol w="9288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Уменьшаемое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3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4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3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5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ычитаемое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азность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344" name="TextBox 4"/>
          <p:cNvSpPr/>
          <p:nvPr/>
        </p:nvSpPr>
        <p:spPr>
          <a:xfrm>
            <a:off x="3214800" y="3500280"/>
            <a:ext cx="7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Franklin Gothic Book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5"/>
          <p:cNvSpPr/>
          <p:nvPr/>
        </p:nvSpPr>
        <p:spPr>
          <a:xfrm>
            <a:off x="4929120" y="2786040"/>
            <a:ext cx="7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Franklin Gothic Book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6"/>
          <p:cNvSpPr/>
          <p:nvPr/>
        </p:nvSpPr>
        <p:spPr>
          <a:xfrm>
            <a:off x="4071960" y="2071800"/>
            <a:ext cx="7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Franklin Gothic Book"/>
              </a:rPr>
              <a:t>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7"/>
          <p:cNvSpPr/>
          <p:nvPr/>
        </p:nvSpPr>
        <p:spPr>
          <a:xfrm>
            <a:off x="5786280" y="3571920"/>
            <a:ext cx="7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Franklin Gothic Book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8"/>
          <p:cNvSpPr/>
          <p:nvPr/>
        </p:nvSpPr>
        <p:spPr>
          <a:xfrm>
            <a:off x="6715080" y="2143080"/>
            <a:ext cx="7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Franklin Gothic Book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0"/>
          <p:cNvSpPr/>
          <p:nvPr/>
        </p:nvSpPr>
        <p:spPr>
          <a:xfrm>
            <a:off x="7715160" y="3500280"/>
            <a:ext cx="7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Franklin Gothic Book"/>
              </a:rPr>
              <a:t>3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Нижний колонтитул 35"/>
          <p:cNvSpPr/>
          <p:nvPr/>
        </p:nvSpPr>
        <p:spPr>
          <a:xfrm>
            <a:off x="214200" y="6356520"/>
            <a:ext cx="7715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елец НИ, СШ № 4 города Лабинска Лаби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Номер слайда 12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E12A-D92C-4EC9-AD99-5DF065418FF4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3" name=""/>
          <p:cNvGraphicFramePr/>
          <p:nvPr/>
        </p:nvGraphicFramePr>
        <p:xfrm>
          <a:off x="304920" y="1554120"/>
          <a:ext cx="8686800" cy="2103480"/>
        </p:xfrm>
        <a:graphic>
          <a:graphicData uri="http://schemas.openxmlformats.org/drawingml/2006/table">
            <a:tbl>
              <a:tblPr/>
              <a:tblGrid>
                <a:gridCol w="3909960"/>
                <a:gridCol w="857160"/>
                <a:gridCol w="1000080"/>
                <a:gridCol w="1000080"/>
                <a:gridCol w="928800"/>
                <a:gridCol w="9907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чение  </a:t>
                      </a:r>
                      <a:r>
                        <a:rPr b="1" i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</a:t>
                      </a: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 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 18 - </a:t>
                      </a: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354" name="TextBox 4"/>
          <p:cNvSpPr/>
          <p:nvPr/>
        </p:nvSpPr>
        <p:spPr>
          <a:xfrm>
            <a:off x="4214880" y="2286000"/>
            <a:ext cx="7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Franklin Gothic Book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5"/>
          <p:cNvSpPr/>
          <p:nvPr/>
        </p:nvSpPr>
        <p:spPr>
          <a:xfrm>
            <a:off x="7143840" y="2286000"/>
            <a:ext cx="7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Franklin Gothic Book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6"/>
          <p:cNvSpPr/>
          <p:nvPr/>
        </p:nvSpPr>
        <p:spPr>
          <a:xfrm>
            <a:off x="5143680" y="2286000"/>
            <a:ext cx="78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Franklin Gothic Book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7"/>
          <p:cNvSpPr/>
          <p:nvPr/>
        </p:nvSpPr>
        <p:spPr>
          <a:xfrm>
            <a:off x="8143920" y="2286000"/>
            <a:ext cx="7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Franklin Gothic Book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8"/>
          <p:cNvSpPr/>
          <p:nvPr/>
        </p:nvSpPr>
        <p:spPr>
          <a:xfrm>
            <a:off x="6215040" y="2286000"/>
            <a:ext cx="7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Franklin Gothic Book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9"/>
          <p:cNvSpPr/>
          <p:nvPr/>
        </p:nvSpPr>
        <p:spPr>
          <a:xfrm>
            <a:off x="6215040" y="3000240"/>
            <a:ext cx="7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Franklin Gothic Book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10"/>
          <p:cNvSpPr/>
          <p:nvPr/>
        </p:nvSpPr>
        <p:spPr>
          <a:xfrm>
            <a:off x="5143680" y="3000240"/>
            <a:ext cx="78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Franklin Gothic Book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1"/>
          <p:cNvSpPr/>
          <p:nvPr/>
        </p:nvSpPr>
        <p:spPr>
          <a:xfrm>
            <a:off x="4286160" y="3000240"/>
            <a:ext cx="7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Franklin Gothic Book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2"/>
          <p:cNvSpPr/>
          <p:nvPr/>
        </p:nvSpPr>
        <p:spPr>
          <a:xfrm>
            <a:off x="8143920" y="3000240"/>
            <a:ext cx="7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Franklin Gothic Book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3"/>
          <p:cNvSpPr/>
          <p:nvPr/>
        </p:nvSpPr>
        <p:spPr>
          <a:xfrm>
            <a:off x="7143840" y="3000240"/>
            <a:ext cx="7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Franklin Gothic Book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Нижний колонтитул 35"/>
          <p:cNvSpPr/>
          <p:nvPr/>
        </p:nvSpPr>
        <p:spPr>
          <a:xfrm>
            <a:off x="214200" y="6356520"/>
            <a:ext cx="7715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елец НИ, СШ № 4 города Лабинска Лаби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Номер слайда 16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F7CD-8E3E-4BAA-9B4C-935738878BF0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142920" y="1571760"/>
          <a:ext cx="8786880" cy="4454280"/>
        </p:xfrm>
        <a:graphic>
          <a:graphicData uri="http://schemas.openxmlformats.org/drawingml/2006/table">
            <a:tbl>
              <a:tblPr/>
              <a:tblGrid>
                <a:gridCol w="1571760"/>
                <a:gridCol w="1357200"/>
                <a:gridCol w="1643040"/>
                <a:gridCol w="1928880"/>
                <a:gridCol w="2286000"/>
              </a:tblGrid>
              <a:tr h="111276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м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м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м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20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мм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312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2мм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20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,5м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TextBox 4"/>
          <p:cNvSpPr/>
          <p:nvPr/>
        </p:nvSpPr>
        <p:spPr>
          <a:xfrm>
            <a:off x="1857240" y="2786040"/>
            <a:ext cx="128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Franklin Gothic Medium"/>
              </a:rPr>
              <a:t>0,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5"/>
          <p:cNvSpPr/>
          <p:nvPr/>
        </p:nvSpPr>
        <p:spPr>
          <a:xfrm>
            <a:off x="1857240" y="3929040"/>
            <a:ext cx="107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Franklin Gothic Medium"/>
              </a:rPr>
              <a:t>1,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6"/>
          <p:cNvSpPr/>
          <p:nvPr/>
        </p:nvSpPr>
        <p:spPr>
          <a:xfrm>
            <a:off x="1857240" y="5072040"/>
            <a:ext cx="14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Medium"/>
              </a:rPr>
              <a:t>0,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7"/>
          <p:cNvSpPr/>
          <p:nvPr/>
        </p:nvSpPr>
        <p:spPr>
          <a:xfrm>
            <a:off x="3143160" y="278604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Franklin Gothic Medium"/>
              </a:rPr>
              <a:t>0,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8"/>
          <p:cNvSpPr/>
          <p:nvPr/>
        </p:nvSpPr>
        <p:spPr>
          <a:xfrm>
            <a:off x="3214800" y="3929040"/>
            <a:ext cx="142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Franklin Gothic Medium"/>
              </a:rPr>
              <a:t>0,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9"/>
          <p:cNvSpPr/>
          <p:nvPr/>
        </p:nvSpPr>
        <p:spPr>
          <a:xfrm>
            <a:off x="3071880" y="5000760"/>
            <a:ext cx="17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Medium"/>
              </a:rPr>
              <a:t>0,0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0"/>
          <p:cNvSpPr/>
          <p:nvPr/>
        </p:nvSpPr>
        <p:spPr>
          <a:xfrm>
            <a:off x="4857840" y="2857680"/>
            <a:ext cx="178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Franklin Gothic Medium"/>
              </a:rPr>
              <a:t>0,0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1"/>
          <p:cNvSpPr/>
          <p:nvPr/>
        </p:nvSpPr>
        <p:spPr>
          <a:xfrm>
            <a:off x="6715080" y="2786040"/>
            <a:ext cx="214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Franklin Gothic Medium"/>
              </a:rPr>
              <a:t>0,00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2"/>
          <p:cNvSpPr/>
          <p:nvPr/>
        </p:nvSpPr>
        <p:spPr>
          <a:xfrm>
            <a:off x="4786200" y="3929040"/>
            <a:ext cx="18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Franklin Gothic Medium"/>
              </a:rPr>
              <a:t>0,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3"/>
          <p:cNvSpPr/>
          <p:nvPr/>
        </p:nvSpPr>
        <p:spPr>
          <a:xfrm>
            <a:off x="4714920" y="5072040"/>
            <a:ext cx="221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Medium"/>
              </a:rPr>
              <a:t>0,00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4"/>
          <p:cNvSpPr/>
          <p:nvPr/>
        </p:nvSpPr>
        <p:spPr>
          <a:xfrm>
            <a:off x="6643800" y="392904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Franklin Gothic Medium"/>
              </a:rPr>
              <a:t>0,0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5"/>
          <p:cNvSpPr/>
          <p:nvPr/>
        </p:nvSpPr>
        <p:spPr>
          <a:xfrm>
            <a:off x="6715080" y="5072040"/>
            <a:ext cx="22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Medium"/>
              </a:rPr>
              <a:t>0,000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Заголовок 16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80" name="Нижний колонтитул 35"/>
          <p:cNvSpPr/>
          <p:nvPr/>
        </p:nvSpPr>
        <p:spPr>
          <a:xfrm>
            <a:off x="214200" y="6356520"/>
            <a:ext cx="7715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елец НИ, СШ № 4 города Лабинска Лаби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Номер слайда 18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A55C-98D5-4397-B7AD-4D29039EF44B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85680" y="231840"/>
            <a:ext cx="2035080" cy="1139760"/>
          </a:xfrm>
          <a:prstGeom prst="rect">
            <a:avLst/>
          </a:prstGeom>
          <a:ln w="0">
            <a:noFill/>
          </a:ln>
        </p:spPr>
      </p:pic>
      <p:sp>
        <p:nvSpPr>
          <p:cNvPr id="383" name="TextBox 3"/>
          <p:cNvSpPr/>
          <p:nvPr/>
        </p:nvSpPr>
        <p:spPr>
          <a:xfrm>
            <a:off x="500040" y="1000080"/>
            <a:ext cx="35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4 × 0,2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4"/>
          <p:cNvSpPr/>
          <p:nvPr/>
        </p:nvSpPr>
        <p:spPr>
          <a:xfrm>
            <a:off x="3714840" y="100008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5"/>
          <p:cNvSpPr/>
          <p:nvPr/>
        </p:nvSpPr>
        <p:spPr>
          <a:xfrm>
            <a:off x="714240" y="192888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 × 0,3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6"/>
          <p:cNvSpPr/>
          <p:nvPr/>
        </p:nvSpPr>
        <p:spPr>
          <a:xfrm>
            <a:off x="500040" y="1000080"/>
            <a:ext cx="285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4 × 0,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7"/>
          <p:cNvSpPr/>
          <p:nvPr/>
        </p:nvSpPr>
        <p:spPr>
          <a:xfrm>
            <a:off x="928800" y="2714760"/>
            <a:ext cx="400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 6× 0,02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8"/>
          <p:cNvSpPr/>
          <p:nvPr/>
        </p:nvSpPr>
        <p:spPr>
          <a:xfrm>
            <a:off x="1357200" y="3500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3 × 0,12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9"/>
          <p:cNvSpPr/>
          <p:nvPr/>
        </p:nvSpPr>
        <p:spPr>
          <a:xfrm>
            <a:off x="1571760" y="4286160"/>
            <a:ext cx="45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4 × 0,02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0"/>
          <p:cNvSpPr/>
          <p:nvPr/>
        </p:nvSpPr>
        <p:spPr>
          <a:xfrm>
            <a:off x="2143080" y="5143680"/>
            <a:ext cx="44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 × 0,002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2"/>
          <p:cNvSpPr/>
          <p:nvPr/>
        </p:nvSpPr>
        <p:spPr>
          <a:xfrm>
            <a:off x="3929040" y="185724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3"/>
          <p:cNvSpPr/>
          <p:nvPr/>
        </p:nvSpPr>
        <p:spPr>
          <a:xfrm>
            <a:off x="4572000" y="264312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14"/>
          <p:cNvSpPr/>
          <p:nvPr/>
        </p:nvSpPr>
        <p:spPr>
          <a:xfrm>
            <a:off x="5286240" y="350028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03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5"/>
          <p:cNvSpPr/>
          <p:nvPr/>
        </p:nvSpPr>
        <p:spPr>
          <a:xfrm>
            <a:off x="5929200" y="421488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0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6"/>
          <p:cNvSpPr/>
          <p:nvPr/>
        </p:nvSpPr>
        <p:spPr>
          <a:xfrm>
            <a:off x="6215040" y="514368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0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Нижний колонтитул 35"/>
          <p:cNvSpPr/>
          <p:nvPr/>
        </p:nvSpPr>
        <p:spPr>
          <a:xfrm>
            <a:off x="214200" y="6356520"/>
            <a:ext cx="7715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елец НИ, СШ № 4 города Лабинска Лаби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Номер слайда 19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9E95-9879-44E5-A3FD-2A58862BF762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8" descr=""/>
          <p:cNvPicPr/>
          <p:nvPr/>
        </p:nvPicPr>
        <p:blipFill>
          <a:blip r:embed="rId1"/>
          <a:stretch/>
        </p:blipFill>
        <p:spPr>
          <a:xfrm>
            <a:off x="-79200" y="189000"/>
            <a:ext cx="9077040" cy="17431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304560" y="1599840"/>
            <a:ext cx="4190760" cy="47242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4647960" y="1599840"/>
            <a:ext cx="4343400" cy="4724280"/>
          </a:xfrm>
          <a:prstGeom prst="rect">
            <a:avLst/>
          </a:prstGeom>
          <a:ln w="0">
            <a:noFill/>
          </a:ln>
        </p:spPr>
      </p:pic>
      <p:sp>
        <p:nvSpPr>
          <p:cNvPr id="401" name="TextBox 12"/>
          <p:cNvSpPr/>
          <p:nvPr/>
        </p:nvSpPr>
        <p:spPr>
          <a:xfrm>
            <a:off x="357120" y="1714680"/>
            <a:ext cx="407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ме1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13"/>
          <p:cNvSpPr/>
          <p:nvPr/>
        </p:nvSpPr>
        <p:spPr>
          <a:xfrm>
            <a:off x="428760" y="3714840"/>
            <a:ext cx="792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и100ри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4"/>
          <p:cNvSpPr/>
          <p:nvPr/>
        </p:nvSpPr>
        <p:spPr>
          <a:xfrm>
            <a:off x="4714920" y="1785960"/>
            <a:ext cx="407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3бун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Нижний колонтитул 35"/>
          <p:cNvSpPr/>
          <p:nvPr/>
        </p:nvSpPr>
        <p:spPr>
          <a:xfrm>
            <a:off x="214200" y="6356520"/>
            <a:ext cx="7715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елец НИ, СШ № 4 города Лабинска Лаби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Номер слайда 10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CFAF-18B7-4027-B418-75A544C9E231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4647960" y="1599840"/>
            <a:ext cx="4343400" cy="4724280"/>
          </a:xfrm>
          <a:prstGeom prst="rect">
            <a:avLst/>
          </a:prstGeom>
          <a:ln w="0">
            <a:noFill/>
          </a:ln>
        </p:spPr>
      </p:pic>
      <p:sp>
        <p:nvSpPr>
          <p:cNvPr id="409" name="Овал 4"/>
          <p:cNvSpPr/>
          <p:nvPr/>
        </p:nvSpPr>
        <p:spPr>
          <a:xfrm>
            <a:off x="1857240" y="3357720"/>
            <a:ext cx="1357560" cy="1285560"/>
          </a:xfrm>
          <a:prstGeom prst="ellipse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5"/>
          <p:cNvSpPr/>
          <p:nvPr/>
        </p:nvSpPr>
        <p:spPr>
          <a:xfrm>
            <a:off x="6072120" y="3429000"/>
            <a:ext cx="1714680" cy="1214280"/>
          </a:xfrm>
          <a:prstGeom prst="ellipse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Скругленный прямоугольник 6"/>
          <p:cNvSpPr/>
          <p:nvPr/>
        </p:nvSpPr>
        <p:spPr>
          <a:xfrm>
            <a:off x="357120" y="1928880"/>
            <a:ext cx="1500120" cy="928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Скругленный прямоугольник 7"/>
          <p:cNvSpPr/>
          <p:nvPr/>
        </p:nvSpPr>
        <p:spPr>
          <a:xfrm>
            <a:off x="2928960" y="1928880"/>
            <a:ext cx="1500120" cy="928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Скругленный прямоугольник 8"/>
          <p:cNvSpPr/>
          <p:nvPr/>
        </p:nvSpPr>
        <p:spPr>
          <a:xfrm>
            <a:off x="1571760" y="5072040"/>
            <a:ext cx="1714320" cy="928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Скругленный прямоугольник 9"/>
          <p:cNvSpPr/>
          <p:nvPr/>
        </p:nvSpPr>
        <p:spPr>
          <a:xfrm>
            <a:off x="4929120" y="2000160"/>
            <a:ext cx="1500120" cy="928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Скругленный прямоугольник 10"/>
          <p:cNvSpPr/>
          <p:nvPr/>
        </p:nvSpPr>
        <p:spPr>
          <a:xfrm>
            <a:off x="7643880" y="1857240"/>
            <a:ext cx="1500120" cy="928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Скругленный прямоугольник 11"/>
          <p:cNvSpPr/>
          <p:nvPr/>
        </p:nvSpPr>
        <p:spPr>
          <a:xfrm>
            <a:off x="5786280" y="5072040"/>
            <a:ext cx="2000520" cy="928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2"/>
          <p:cNvSpPr/>
          <p:nvPr/>
        </p:nvSpPr>
        <p:spPr>
          <a:xfrm>
            <a:off x="1785960" y="357192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5с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8" name="Прямая со стрелкой 14"/>
          <p:cNvCxnSpPr>
            <a:endCxn id="411" idx="2"/>
          </p:cNvCxnSpPr>
          <p:nvPr/>
        </p:nvCxnSpPr>
        <p:spPr>
          <a:xfrm flipH="1" flipV="1">
            <a:off x="1106280" y="2857320"/>
            <a:ext cx="822960" cy="78624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419" name="Прямая со стрелкой 16"/>
          <p:cNvCxnSpPr/>
          <p:nvPr/>
        </p:nvCxnSpPr>
        <p:spPr>
          <a:xfrm flipV="1">
            <a:off x="3142080" y="2928600"/>
            <a:ext cx="715320" cy="71496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420" name="Прямая со стрелкой 18"/>
          <p:cNvCxnSpPr>
            <a:stCxn id="409" idx="4"/>
          </p:cNvCxnSpPr>
          <p:nvPr/>
        </p:nvCxnSpPr>
        <p:spPr>
          <a:xfrm flipH="1">
            <a:off x="2499480" y="4642920"/>
            <a:ext cx="35640" cy="35820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421" name="Прямая со стрелкой 20"/>
          <p:cNvCxnSpPr/>
          <p:nvPr/>
        </p:nvCxnSpPr>
        <p:spPr>
          <a:xfrm flipH="1" flipV="1">
            <a:off x="5428440" y="2928240"/>
            <a:ext cx="715320" cy="78660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422" name="Прямая со стрелкой 22"/>
          <p:cNvCxnSpPr/>
          <p:nvPr/>
        </p:nvCxnSpPr>
        <p:spPr>
          <a:xfrm flipV="1">
            <a:off x="7358040" y="2928240"/>
            <a:ext cx="714960" cy="78660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423" name="Прямая со стрелкой 24"/>
          <p:cNvCxnSpPr/>
          <p:nvPr/>
        </p:nvCxnSpPr>
        <p:spPr>
          <a:xfrm flipH="1">
            <a:off x="6786360" y="4716360"/>
            <a:ext cx="2160" cy="28656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424" name="TextBox 25"/>
          <p:cNvSpPr/>
          <p:nvPr/>
        </p:nvSpPr>
        <p:spPr>
          <a:xfrm>
            <a:off x="5929200" y="3643200"/>
            <a:ext cx="20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70с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26"/>
          <p:cNvSpPr/>
          <p:nvPr/>
        </p:nvSpPr>
        <p:spPr>
          <a:xfrm>
            <a:off x="357120" y="192888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27"/>
          <p:cNvSpPr/>
          <p:nvPr/>
        </p:nvSpPr>
        <p:spPr>
          <a:xfrm>
            <a:off x="2928960" y="192888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д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28"/>
          <p:cNvSpPr/>
          <p:nvPr/>
        </p:nvSpPr>
        <p:spPr>
          <a:xfrm>
            <a:off x="1571760" y="5143680"/>
            <a:ext cx="157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29"/>
          <p:cNvSpPr/>
          <p:nvPr/>
        </p:nvSpPr>
        <p:spPr>
          <a:xfrm>
            <a:off x="4929120" y="200016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30"/>
          <p:cNvSpPr/>
          <p:nvPr/>
        </p:nvSpPr>
        <p:spPr>
          <a:xfrm>
            <a:off x="5929200" y="507204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31"/>
          <p:cNvSpPr/>
          <p:nvPr/>
        </p:nvSpPr>
        <p:spPr>
          <a:xfrm>
            <a:off x="7358040" y="178596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д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32"/>
          <p:cNvSpPr/>
          <p:nvPr/>
        </p:nvSpPr>
        <p:spPr>
          <a:xfrm>
            <a:off x="285840" y="2000160"/>
            <a:ext cx="2000160" cy="916920"/>
          </a:xfrm>
          <a:prstGeom prst="rect">
            <a:avLst/>
          </a:prstGeom>
          <a:solidFill>
            <a:srgbClr val="22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50м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33"/>
          <p:cNvSpPr/>
          <p:nvPr/>
        </p:nvSpPr>
        <p:spPr>
          <a:xfrm>
            <a:off x="2571840" y="1928880"/>
            <a:ext cx="2071440" cy="916920"/>
          </a:xfrm>
          <a:prstGeom prst="rect">
            <a:avLst/>
          </a:prstGeom>
          <a:solidFill>
            <a:srgbClr val="22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0,5д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34"/>
          <p:cNvSpPr/>
          <p:nvPr/>
        </p:nvSpPr>
        <p:spPr>
          <a:xfrm>
            <a:off x="1357200" y="5072040"/>
            <a:ext cx="2071800" cy="916920"/>
          </a:xfrm>
          <a:prstGeom prst="rect">
            <a:avLst/>
          </a:prstGeom>
          <a:solidFill>
            <a:srgbClr val="22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0,05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35"/>
          <p:cNvSpPr/>
          <p:nvPr/>
        </p:nvSpPr>
        <p:spPr>
          <a:xfrm>
            <a:off x="4857840" y="2000160"/>
            <a:ext cx="2286000" cy="916920"/>
          </a:xfrm>
          <a:prstGeom prst="rect">
            <a:avLst/>
          </a:prstGeom>
          <a:solidFill>
            <a:srgbClr val="22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700м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36"/>
          <p:cNvSpPr/>
          <p:nvPr/>
        </p:nvSpPr>
        <p:spPr>
          <a:xfrm>
            <a:off x="7572240" y="1928880"/>
            <a:ext cx="1571760" cy="916920"/>
          </a:xfrm>
          <a:prstGeom prst="rect">
            <a:avLst/>
          </a:prstGeom>
          <a:solidFill>
            <a:srgbClr val="22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7д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37"/>
          <p:cNvSpPr/>
          <p:nvPr/>
        </p:nvSpPr>
        <p:spPr>
          <a:xfrm>
            <a:off x="5857920" y="5072040"/>
            <a:ext cx="2000160" cy="916920"/>
          </a:xfrm>
          <a:prstGeom prst="rect">
            <a:avLst/>
          </a:prstGeom>
          <a:solidFill>
            <a:srgbClr val="22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0,7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Нижний колонтитул 35"/>
          <p:cNvSpPr/>
          <p:nvPr/>
        </p:nvSpPr>
        <p:spPr>
          <a:xfrm>
            <a:off x="214200" y="6356520"/>
            <a:ext cx="7715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елец НИ, СШ № 4 города Лабинска Лаби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Номер слайда 40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81A3-70F9-4DF6-AD60-73A04BFE8AC8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5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3:13:53Z</dcterms:created>
  <dc:creator>Конелец</dc:creator>
  <dc:description/>
  <dc:language>en-US</dc:language>
  <cp:lastModifiedBy>Завуч</cp:lastModifiedBy>
  <dcterms:modified xsi:type="dcterms:W3CDTF">2012-11-04T18:31:28Z</dcterms:modified>
  <cp:revision>15</cp:revision>
  <dc:subject/>
  <dc:title>Модуль 1.</dc:title>
</cp:coreProperties>
</file>