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21F-0D5A-417D-B171-48DBA0D7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BF5-6A6F-4DCD-B98E-78EADCE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FC3-58EA-442E-8FD4-8DF96EB2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F72-956B-462F-89EA-7C4A373D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871-B670-445F-B751-71A582C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1D1-3290-49D9-BA73-9F781BB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B02-3288-44C9-9A8E-94E2DC2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39F-A8FE-4AFE-98AA-9F8E2D1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42E-DDCC-473F-AF9F-0F69E48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907-D2AA-42BD-8BA3-B295E22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A8C-0450-40B6-9413-9FF43CEE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9C8-DA2F-4E16-874D-30D6378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2B4E-284E-494F-96C1-6D038EEB3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Растения и животные степ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Растения степ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71680" y="142884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астительные сообщества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ы многолетними травянистыми растениями с мощной корневой системой, их надземные органы приспособлены к сокращению испарения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42960" y="4000680"/>
            <a:ext cx="754848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Можно выделить несколько групп раст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рновинные  зла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травь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летн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дки в степи и кустарн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04920" y="320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ь во время цветения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ковы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хожа на море, по которому прокатываю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007_11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80880" y="6019920"/>
            <a:ext cx="25909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Житняк гребневид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215040" y="5929200"/>
            <a:ext cx="292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лоснец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или колосняк песч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28760" y="6072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р21"/>
          <p:cNvPicPr/>
          <p:nvPr/>
        </p:nvPicPr>
        <p:blipFill>
          <a:blip r:embed="rId1"/>
          <a:stretch/>
        </p:blipFill>
        <p:spPr>
          <a:xfrm>
            <a:off x="6324480" y="1600200"/>
            <a:ext cx="2590920" cy="42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р20"/>
          <p:cNvPicPr/>
          <p:nvPr/>
        </p:nvPicPr>
        <p:blipFill>
          <a:blip r:embed="rId2"/>
          <a:stretch/>
        </p:blipFill>
        <p:spPr>
          <a:xfrm>
            <a:off x="3352680" y="1600200"/>
            <a:ext cx="2743200" cy="42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971800" y="6019920"/>
            <a:ext cx="3352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Типчак или овсянница валлий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28600" y="2286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28600" y="380880"/>
            <a:ext cx="8686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Многие степные зла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ны образовывать мощную дерновину, которая больше по объему надземных частей растений. Сизеватый цвет многих растений обусловлен наличием многослойной кутикулы и воскового налета, которые способствуют уменьшению испарения влаги через лист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4" descr="р9"/>
          <p:cNvPicPr/>
          <p:nvPr/>
        </p:nvPicPr>
        <p:blipFill>
          <a:blip r:embed="rId3"/>
          <a:stretch/>
        </p:blipFill>
        <p:spPr>
          <a:xfrm>
            <a:off x="380880" y="1600200"/>
            <a:ext cx="2624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р1"/>
          <p:cNvPicPr/>
          <p:nvPr/>
        </p:nvPicPr>
        <p:blipFill>
          <a:blip r:embed="rId1"/>
          <a:stretch/>
        </p:blipFill>
        <p:spPr>
          <a:xfrm>
            <a:off x="214200" y="1071720"/>
            <a:ext cx="2749680" cy="464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3"/>
          <p:cNvPicPr/>
          <p:nvPr/>
        </p:nvPicPr>
        <p:blipFill>
          <a:blip r:embed="rId2"/>
          <a:stretch/>
        </p:blipFill>
        <p:spPr>
          <a:xfrm>
            <a:off x="3124080" y="1600200"/>
            <a:ext cx="320040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15228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Разнотравь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редставлено такими растени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Р11"/>
          <p:cNvPicPr/>
          <p:nvPr/>
        </p:nvPicPr>
        <p:blipFill>
          <a:blip r:embed="rId3"/>
          <a:stretch/>
        </p:blipFill>
        <p:spPr>
          <a:xfrm>
            <a:off x="6400800" y="1523880"/>
            <a:ext cx="253224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0" y="5857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олокольч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81280" y="502920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Горечав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072120" y="5857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Живокость клиновид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32" descr="р39"/>
          <p:cNvPicPr/>
          <p:nvPr/>
        </p:nvPicPr>
        <p:blipFill>
          <a:blip r:embed="rId1"/>
          <a:stretch/>
        </p:blipFill>
        <p:spPr>
          <a:xfrm>
            <a:off x="928800" y="285840"/>
            <a:ext cx="3581280" cy="284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33" descr="р42"/>
          <p:cNvPicPr/>
          <p:nvPr/>
        </p:nvPicPr>
        <p:blipFill>
          <a:blip r:embed="rId2"/>
          <a:stretch/>
        </p:blipFill>
        <p:spPr>
          <a:xfrm>
            <a:off x="5214960" y="285840"/>
            <a:ext cx="3425760" cy="49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35" descr="р35"/>
          <p:cNvPicPr/>
          <p:nvPr/>
        </p:nvPicPr>
        <p:blipFill>
          <a:blip r:embed="rId3"/>
          <a:stretch/>
        </p:blipFill>
        <p:spPr>
          <a:xfrm>
            <a:off x="928800" y="3571920"/>
            <a:ext cx="3571920" cy="2703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36"/>
          <p:cNvSpPr/>
          <p:nvPr/>
        </p:nvSpPr>
        <p:spPr>
          <a:xfrm>
            <a:off x="285840" y="3143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Шпаж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7"/>
          <p:cNvSpPr/>
          <p:nvPr/>
        </p:nvSpPr>
        <p:spPr>
          <a:xfrm>
            <a:off x="1071720" y="62866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Лапчатка семилисточков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8"/>
          <p:cNvSpPr/>
          <p:nvPr/>
        </p:nvSpPr>
        <p:spPr>
          <a:xfrm>
            <a:off x="3071880" y="52862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оровя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5029200" y="10666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791320" y="5715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Шалфей эфиопский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068_Hustai Nuruu_excursion"/>
          <p:cNvPicPr/>
          <p:nvPr/>
        </p:nvPicPr>
        <p:blipFill>
          <a:blip r:embed="rId1"/>
          <a:stretch/>
        </p:blipFill>
        <p:spPr>
          <a:xfrm>
            <a:off x="15228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р25"/>
          <p:cNvPicPr/>
          <p:nvPr/>
        </p:nvPicPr>
        <p:blipFill>
          <a:blip r:embed="rId2"/>
          <a:stretch/>
        </p:blipFill>
        <p:spPr>
          <a:xfrm>
            <a:off x="5638680" y="990720"/>
            <a:ext cx="3316320" cy="46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Р12"/>
          <p:cNvPicPr/>
          <p:nvPr/>
        </p:nvPicPr>
        <p:blipFill>
          <a:blip r:embed="rId3"/>
          <a:stretch/>
        </p:blipFill>
        <p:spPr>
          <a:xfrm>
            <a:off x="2928960" y="3429000"/>
            <a:ext cx="2625840" cy="3200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5"/>
          <p:cNvSpPr/>
          <p:nvPr/>
        </p:nvSpPr>
        <p:spPr>
          <a:xfrm>
            <a:off x="228600" y="3049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Многие степные растения имеют волоски на стеблях и листьях для снижения испарения влаги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28760" y="4000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иняк обыкнов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371600" y="5638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нос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s2"/>
          <p:cNvPicPr/>
          <p:nvPr/>
        </p:nvPicPr>
        <p:blipFill>
          <a:blip r:embed="rId1"/>
          <a:stretch/>
        </p:blipFill>
        <p:spPr>
          <a:xfrm>
            <a:off x="214200" y="171468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р38"/>
          <p:cNvPicPr/>
          <p:nvPr/>
        </p:nvPicPr>
        <p:blipFill>
          <a:blip r:embed="rId2"/>
          <a:stretch/>
        </p:blipFill>
        <p:spPr>
          <a:xfrm>
            <a:off x="6143760" y="157176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р6"/>
          <p:cNvPicPr/>
          <p:nvPr/>
        </p:nvPicPr>
        <p:blipFill>
          <a:blip r:embed="rId3"/>
          <a:stretch/>
        </p:blipFill>
        <p:spPr>
          <a:xfrm>
            <a:off x="3657600" y="1447920"/>
            <a:ext cx="2286000" cy="4267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228600" y="304920"/>
            <a:ext cx="8610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В степях с уменьшением количества осадк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менистых и засоленных участках увеличивается доля узколистных злаков и полыней, появляются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уккулентные раст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толстянковые , свинчатков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143160" y="585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олодил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215040" y="5786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Гониолимон татар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858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чит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Sasha\Рабочий стол\бессмертник песчаный.jpg"/>
          <p:cNvPicPr/>
          <p:nvPr/>
        </p:nvPicPr>
        <p:blipFill>
          <a:blip r:embed="rId1"/>
          <a:stretch/>
        </p:blipFill>
        <p:spPr>
          <a:xfrm>
            <a:off x="3500280" y="2643120"/>
            <a:ext cx="5286600" cy="401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Sasha\Рабочий стол\эфедра.jpg"/>
          <p:cNvPicPr/>
          <p:nvPr/>
        </p:nvPicPr>
        <p:blipFill>
          <a:blip r:embed="rId2"/>
          <a:stretch/>
        </p:blipFill>
        <p:spPr>
          <a:xfrm>
            <a:off x="357120" y="500040"/>
            <a:ext cx="3011400" cy="358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3857760" y="285840"/>
            <a:ext cx="4572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Эфедра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орослый ветвистый кустарник с членистыми прутьевидными ветвями. Листья редуцированы до чешуек, семена покрыты сочным оранжево-красным покро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00040" y="53578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Бессмертник песча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1420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Многолетн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ния, цветущие ранней весной. Летом надземные части отмирают, остаются лишь подземные запасающие органы с почками – луковицы, клубни, корневищ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71720" y="1285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Тюльпа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000680" y="12952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Ири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57760" y="6095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Лук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007_14 copy"/>
          <p:cNvPicPr/>
          <p:nvPr/>
        </p:nvPicPr>
        <p:blipFill>
          <a:blip r:embed="rId1"/>
          <a:stretch/>
        </p:blipFill>
        <p:spPr>
          <a:xfrm>
            <a:off x="152280" y="1752480"/>
            <a:ext cx="2847960" cy="377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ирис"/>
          <p:cNvPicPr/>
          <p:nvPr/>
        </p:nvPicPr>
        <p:blipFill>
          <a:blip r:embed="rId2"/>
          <a:stretch/>
        </p:blipFill>
        <p:spPr>
          <a:xfrm>
            <a:off x="4800600" y="1066680"/>
            <a:ext cx="4114800" cy="258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s5"/>
          <p:cNvPicPr/>
          <p:nvPr/>
        </p:nvPicPr>
        <p:blipFill>
          <a:blip r:embed="rId3"/>
          <a:stretch/>
        </p:blipFill>
        <p:spPr>
          <a:xfrm>
            <a:off x="6095880" y="3429000"/>
            <a:ext cx="28195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р26"/>
          <p:cNvPicPr/>
          <p:nvPr/>
        </p:nvPicPr>
        <p:blipFill>
          <a:blip r:embed="rId4"/>
          <a:stretch/>
        </p:blipFill>
        <p:spPr>
          <a:xfrm>
            <a:off x="2666880" y="32004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4500720" y="60786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н-трава или прострел раскрыт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438280" y="6248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Весенняя степь  - тюльп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Рисунок 4" descr="file32.jpg"/>
          <p:cNvPicPr/>
          <p:nvPr/>
        </p:nvPicPr>
        <p:blipFill>
          <a:blip r:embed="rId1"/>
          <a:stretch/>
        </p:blipFill>
        <p:spPr>
          <a:xfrm>
            <a:off x="500040" y="714240"/>
            <a:ext cx="817884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Цели урока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00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1. Сформировать представление о природной зоне степей; ознакомить с географическим положением зоны степей, её особенностями, животным и растительным мир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умение работать с картой, дополнительной литературой, гербарием; умение устанавливать причинно-следственные связи между средой обитания и приспосабливаемостью живых организмов; умение наблюдать, рассуждать, сравнивать, обобщать, делать вы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бережное отношение к природе, учить понимать  и ощущать её кра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04920" y="2286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Кустарник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ная черта степных ландшафтов – развитие кустарниковых зарослей. Отсутствие копытных способствует разрастанию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раганы (акации), спиреи, тер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уг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стар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600200" y="6324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00040" y="62150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Заросли караганы (акации)кустарников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7" descr="005_1"/>
          <p:cNvPicPr/>
          <p:nvPr/>
        </p:nvPicPr>
        <p:blipFill>
          <a:blip r:embed="rId1"/>
          <a:stretch/>
        </p:blipFill>
        <p:spPr>
          <a:xfrm>
            <a:off x="214200" y="1357200"/>
            <a:ext cx="7927920" cy="462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Documents and Settings\Sasha\Рабочий стол\карагана.jpg"/>
          <p:cNvPicPr/>
          <p:nvPr/>
        </p:nvPicPr>
        <p:blipFill>
          <a:blip r:embed="rId2"/>
          <a:stretch/>
        </p:blipFill>
        <p:spPr>
          <a:xfrm>
            <a:off x="5429160" y="4000680"/>
            <a:ext cx="3495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429000" y="5638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мородина золотист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352680" y="533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ая вишн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s12"/>
          <p:cNvPicPr/>
          <p:nvPr/>
        </p:nvPicPr>
        <p:blipFill>
          <a:blip r:embed="rId1"/>
          <a:stretch/>
        </p:blipFill>
        <p:spPr>
          <a:xfrm>
            <a:off x="304920" y="380880"/>
            <a:ext cx="29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4"/>
          <p:cNvPicPr/>
          <p:nvPr/>
        </p:nvPicPr>
        <p:blipFill>
          <a:blip r:embed="rId2"/>
          <a:stretch/>
        </p:blipFill>
        <p:spPr>
          <a:xfrm>
            <a:off x="3505320" y="2133720"/>
            <a:ext cx="51879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228600" y="46483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Ракитник рус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р30"/>
          <p:cNvPicPr/>
          <p:nvPr/>
        </p:nvPicPr>
        <p:blipFill>
          <a:blip r:embed="rId1"/>
          <a:stretch/>
        </p:blipFill>
        <p:spPr>
          <a:xfrm>
            <a:off x="152280" y="533520"/>
            <a:ext cx="2662200" cy="3962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р4"/>
          <p:cNvPicPr/>
          <p:nvPr/>
        </p:nvPicPr>
        <p:blipFill>
          <a:blip r:embed="rId2"/>
          <a:stretch/>
        </p:blipFill>
        <p:spPr>
          <a:xfrm>
            <a:off x="5791320" y="685800"/>
            <a:ext cx="3093840" cy="382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шиповник"/>
          <p:cNvPicPr/>
          <p:nvPr/>
        </p:nvPicPr>
        <p:blipFill>
          <a:blip r:embed="rId3"/>
          <a:stretch/>
        </p:blipFill>
        <p:spPr>
          <a:xfrm>
            <a:off x="2971800" y="2362320"/>
            <a:ext cx="2743200" cy="4187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3200400" y="1643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Шипов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643720" y="47242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изильник черноплод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0" y="64296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Инструкционная кар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 flipH="1">
            <a:off x="500040" y="1643040"/>
            <a:ext cx="795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 растения. Обрати внимание на листья. Опиши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 стебель. Что можешь сказать о нё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  корни растений. Расскажи об их длине, количе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и внимание на цветы и, если есть, плоды. Опиши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акой группе относятся раст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й вывод, какую общую особенность имеют  степные растения, и как они  приспособились к жизни в степи. Приведит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5840" y="4287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астения имеют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узкие листь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ипчак, ковыль), чтобы меньше испарялось влаги, или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ясистые листь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читок, молодило), в которых накапливается 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некоторых растений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на листьях и стебля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ся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ло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як, шалфей), которые помогают снижать испарение вла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же растения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имеют на листьях и стеблях восковой н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ипчак, житняк), которых помогает экономно расходовать влаг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юльпаны, ирисы, таволга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запасают питательные вещества в луковиц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нство степных растений (ковыль, полынь, типчак) имеют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длинные ветвистые корн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ые помогают растениям добывать воду из глубоких слоёв почв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642960" y="2347920"/>
            <a:ext cx="7358040" cy="25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сновная часть степных животных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копытные живот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грызуны и зайцеобра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птиц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насеком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643040" y="12142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Животные степ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85880" y="50720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Многочисленную группу степных видов составляют хищник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8088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Копытные живот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609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ьше степи населяли многомиллионные стада копытных. Стадность в сочетании с кочевым образом жизни обеспечивали сохранность степного травостоя, и растения, за счет развитой подземной части, могли быстро  восстанови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85800" y="6095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00040" y="56437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тарп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у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истреблены человеком. Численност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йгак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жейран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меньшилась во много десятков раз – и этот процесс продолжается и в настоящее вре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9" descr="saigak.jpg"/>
          <p:cNvPicPr/>
          <p:nvPr/>
        </p:nvPicPr>
        <p:blipFill>
          <a:blip r:embed="rId1"/>
          <a:stretch/>
        </p:blipFill>
        <p:spPr>
          <a:xfrm>
            <a:off x="1785960" y="1714680"/>
            <a:ext cx="5680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80880" y="41148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айгак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единственный сохранившийся вид диких копытных в Прикаспийских и Казахстанских степях. Животное великолепно приспособлено к жизни в открытых пространствах. Компактное, плотное тело и стройные конечности позволяют развивать скорость до 60-80 км/ч. Большую часть времени эти кочевники проводят в постоянном движении. Специфическая форма носовых полостей, образующих мягкий, подвижный хоботок, позволяет эффективно фильтровать от пыли, согревать или охлаждать вдыхаемый воздух. Из-за такого «носа» даже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айгача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кольких дней от роду обладают густым бас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сайгак"/>
          <p:cNvPicPr/>
          <p:nvPr/>
        </p:nvPicPr>
        <p:blipFill>
          <a:blip r:embed="rId1"/>
          <a:stretch/>
        </p:blipFill>
        <p:spPr>
          <a:xfrm>
            <a:off x="228600" y="228600"/>
            <a:ext cx="5257800" cy="3517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5638680" y="76212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тысячные стад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йгак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ли историей. Для охраны редких животных, ежегодно мигрирующих на сотни километров и не признающих границ, подписано несколько межгосударственных природоохранных согла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380880"/>
            <a:ext cx="8534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Грызун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ебольшие размеры делают этих зверьков уязвимыми и зависимыми от климатических условий. 80% млекопитающих степной зоны живет в норах. Чтобы пережить суровую зиму эти оседлые животные отъедаются летом, накапливая толстые слои жира, запасают в норах корм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35720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урок обыкно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9" descr="сурок"/>
          <p:cNvPicPr/>
          <p:nvPr/>
        </p:nvPicPr>
        <p:blipFill>
          <a:blip r:embed="rId1"/>
          <a:stretch/>
        </p:blipFill>
        <p:spPr>
          <a:xfrm>
            <a:off x="4214880" y="4286160"/>
            <a:ext cx="4714920" cy="238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сурок2"/>
          <p:cNvPicPr/>
          <p:nvPr/>
        </p:nvPicPr>
        <p:blipFill>
          <a:blip r:embed="rId2"/>
          <a:stretch/>
        </p:blipFill>
        <p:spPr>
          <a:xfrm>
            <a:off x="285840" y="1714680"/>
            <a:ext cx="4647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000160" y="1522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услик  мал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500800" y="271476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ышовка Штра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0" descr="malyi_suslik"/>
          <p:cNvPicPr/>
          <p:nvPr/>
        </p:nvPicPr>
        <p:blipFill>
          <a:blip r:embed="rId1"/>
          <a:stretch/>
        </p:blipFill>
        <p:spPr>
          <a:xfrm>
            <a:off x="228600" y="609480"/>
            <a:ext cx="5105520" cy="329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Мышовка"/>
          <p:cNvPicPr/>
          <p:nvPr/>
        </p:nvPicPr>
        <p:blipFill>
          <a:blip r:embed="rId2"/>
          <a:stretch/>
        </p:blipFill>
        <p:spPr>
          <a:xfrm>
            <a:off x="3886200" y="3276720"/>
            <a:ext cx="507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Sasha\Рабочий стол\сканирование0019.jpg"/>
          <p:cNvPicPr/>
          <p:nvPr/>
        </p:nvPicPr>
        <p:blipFill>
          <a:blip r:embed="rId1"/>
          <a:stretch/>
        </p:blipFill>
        <p:spPr>
          <a:xfrm>
            <a:off x="285840" y="1000080"/>
            <a:ext cx="8643960" cy="544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500120" y="3571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риродные зоны Казахст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2" descr="Суслик в степи.jpg"/>
          <p:cNvPicPr/>
          <p:nvPr/>
        </p:nvPicPr>
        <p:blipFill>
          <a:blip r:embed="rId1"/>
          <a:stretch/>
        </p:blipFill>
        <p:spPr>
          <a:xfrm>
            <a:off x="4857840" y="571680"/>
            <a:ext cx="4000320" cy="60004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6072120" y="14292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услик  мал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C:\Documents and Settings\Sasha\Рабочий стол\степной хорёк, горностай.jpg"/>
          <p:cNvPicPr/>
          <p:nvPr/>
        </p:nvPicPr>
        <p:blipFill>
          <a:blip r:embed="rId2"/>
          <a:stretch/>
        </p:blipFill>
        <p:spPr>
          <a:xfrm>
            <a:off x="285840" y="714240"/>
            <a:ext cx="4295520" cy="587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357120" y="2142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ой хорё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380880" y="5335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Насекомы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Большая их часть живет под землей, а в травостое первую роль играют представители прямокрылы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саранча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2686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кобылка"/>
          <p:cNvPicPr/>
          <p:nvPr/>
        </p:nvPicPr>
        <p:blipFill>
          <a:blip r:embed="rId2"/>
          <a:stretch/>
        </p:blipFill>
        <p:spPr>
          <a:xfrm>
            <a:off x="4800600" y="2133720"/>
            <a:ext cx="4013280" cy="265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кузнечик"/>
          <p:cNvPicPr/>
          <p:nvPr/>
        </p:nvPicPr>
        <p:blipFill>
          <a:blip r:embed="rId3"/>
          <a:stretch/>
        </p:blipFill>
        <p:spPr>
          <a:xfrm>
            <a:off x="1676520" y="4191120"/>
            <a:ext cx="36320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Sasha\Рабочий стол\кобылка.jpg"/>
          <p:cNvPicPr/>
          <p:nvPr/>
        </p:nvPicPr>
        <p:blipFill>
          <a:blip r:embed="rId1"/>
          <a:stretch/>
        </p:blipFill>
        <p:spPr>
          <a:xfrm>
            <a:off x="285840" y="285840"/>
            <a:ext cx="5078160" cy="3333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-857160" y="38577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об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C:\Documents and Settings\Sasha\Рабочий стол\степная дыбка.jpg"/>
          <p:cNvPicPr/>
          <p:nvPr/>
        </p:nvPicPr>
        <p:blipFill>
          <a:blip r:embed="rId2"/>
          <a:stretch/>
        </p:blipFill>
        <p:spPr>
          <a:xfrm>
            <a:off x="4214880" y="3071880"/>
            <a:ext cx="4635360" cy="3473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3286080" y="250020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ая дыб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навозник"/>
          <p:cNvPicPr/>
          <p:nvPr/>
        </p:nvPicPr>
        <p:blipFill>
          <a:blip r:embed="rId1"/>
          <a:stretch/>
        </p:blipFill>
        <p:spPr>
          <a:xfrm>
            <a:off x="380880" y="228600"/>
            <a:ext cx="3953160" cy="2629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ЧернотелкаPimelia-sp"/>
          <p:cNvPicPr/>
          <p:nvPr/>
        </p:nvPicPr>
        <p:blipFill>
          <a:blip r:embed="rId2"/>
          <a:stretch/>
        </p:blipFill>
        <p:spPr>
          <a:xfrm>
            <a:off x="5357880" y="285840"/>
            <a:ext cx="3403440" cy="226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Documents and Settings\Sasha\Рабочий стол\мрачная моль.jpg"/>
          <p:cNvPicPr/>
          <p:nvPr/>
        </p:nvPicPr>
        <p:blipFill>
          <a:blip r:embed="rId3"/>
          <a:stretch/>
        </p:blipFill>
        <p:spPr>
          <a:xfrm>
            <a:off x="4572000" y="3714840"/>
            <a:ext cx="4319640" cy="2809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Documents and Settings\Sasha\Рабочий стол\божья коровка.jpg"/>
          <p:cNvPicPr/>
          <p:nvPr/>
        </p:nvPicPr>
        <p:blipFill>
          <a:blip r:embed="rId4"/>
          <a:stretch/>
        </p:blipFill>
        <p:spPr>
          <a:xfrm>
            <a:off x="428760" y="37148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1000080" y="2928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Жук - навоз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785880" y="32860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357880" y="2571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Жук - черноте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000760" y="32148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рачная м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28600" y="4343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Дрофа  – крупная птица (до 16 кг)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 типичной покровительственной окрас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928960" y="5072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репет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– похож по образу жизни на дрофу, но мельче по размер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28600" y="304920"/>
            <a:ext cx="8458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тиц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епи могут иметь самое разнообразное меню – питаться семенами растений, насекомыми, рептилиями, мелкими грызунами. Таковы, например, редкие и охраняемые птицы (Красная книга Казахстана) – дрофа, стрепет, журавль-красав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019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Журавль-красав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ZhuravKrasavka"/>
          <p:cNvPicPr/>
          <p:nvPr/>
        </p:nvPicPr>
        <p:blipFill>
          <a:blip r:embed="rId1"/>
          <a:stretch/>
        </p:blipFill>
        <p:spPr>
          <a:xfrm>
            <a:off x="6000840" y="3143160"/>
            <a:ext cx="2928960" cy="2594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Strepet_samec"/>
          <p:cNvPicPr/>
          <p:nvPr/>
        </p:nvPicPr>
        <p:blipFill>
          <a:blip r:embed="rId2"/>
          <a:stretch/>
        </p:blipFill>
        <p:spPr>
          <a:xfrm>
            <a:off x="3286080" y="2000160"/>
            <a:ext cx="2514600" cy="293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Documents and Settings\Sasha\Рабочий стол\дрофа.jpg"/>
          <p:cNvPicPr/>
          <p:nvPr/>
        </p:nvPicPr>
        <p:blipFill>
          <a:blip r:embed="rId3"/>
          <a:stretch/>
        </p:blipFill>
        <p:spPr>
          <a:xfrm>
            <a:off x="285840" y="1857240"/>
            <a:ext cx="2793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s6"/>
          <p:cNvPicPr/>
          <p:nvPr/>
        </p:nvPicPr>
        <p:blipFill>
          <a:blip r:embed="rId1"/>
          <a:stretch/>
        </p:blipFill>
        <p:spPr>
          <a:xfrm>
            <a:off x="3352680" y="1219320"/>
            <a:ext cx="5162760" cy="2514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457200" y="3808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травы и кустарников мож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тить множество мелких птиц, наполняющих степь многоголосьем весной. Взрослые питаются в основном семенами, птенцов они выкармливают насекомы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1" descr="Seraya_kuropatka1"/>
          <p:cNvPicPr/>
          <p:nvPr/>
        </p:nvPicPr>
        <p:blipFill>
          <a:blip r:embed="rId2"/>
          <a:stretch/>
        </p:blipFill>
        <p:spPr>
          <a:xfrm>
            <a:off x="304920" y="3352680"/>
            <a:ext cx="38862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rv2"/>
          <p:cNvPicPr/>
          <p:nvPr/>
        </p:nvPicPr>
        <p:blipFill>
          <a:blip r:embed="rId3"/>
          <a:stretch/>
        </p:blipFill>
        <p:spPr>
          <a:xfrm>
            <a:off x="5334120" y="3581280"/>
            <a:ext cx="3657600" cy="3056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785960" y="62118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рокопут-жул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928800" y="285768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ерая куропа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714240" y="13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д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685800" y="17524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пел, куропатка, жаворонки, уд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8" descr="Polevoi_zhavoronok_1"/>
          <p:cNvPicPr/>
          <p:nvPr/>
        </p:nvPicPr>
        <p:blipFill>
          <a:blip r:embed="rId1"/>
          <a:stretch/>
        </p:blipFill>
        <p:spPr>
          <a:xfrm>
            <a:off x="214200" y="357120"/>
            <a:ext cx="3899160" cy="2614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1071720" y="3048120"/>
            <a:ext cx="30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олевой жаворонок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500720" y="5857920"/>
            <a:ext cx="46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Черный жаворонок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929120" y="4724280"/>
            <a:ext cx="307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ой жаворонок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3" descr="Stepnoi_zhavoronok"/>
          <p:cNvPicPr/>
          <p:nvPr/>
        </p:nvPicPr>
        <p:blipFill>
          <a:blip r:embed="rId2"/>
          <a:stretch/>
        </p:blipFill>
        <p:spPr>
          <a:xfrm>
            <a:off x="4495680" y="16002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chernyi_zhavoronok"/>
          <p:cNvPicPr/>
          <p:nvPr/>
        </p:nvPicPr>
        <p:blipFill>
          <a:blip r:embed="rId3"/>
          <a:stretch/>
        </p:blipFill>
        <p:spPr>
          <a:xfrm>
            <a:off x="228600" y="3581280"/>
            <a:ext cx="42004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гадюка"/>
          <p:cNvPicPr/>
          <p:nvPr/>
        </p:nvPicPr>
        <p:blipFill>
          <a:blip r:embed="rId1"/>
          <a:stretch/>
        </p:blipFill>
        <p:spPr>
          <a:xfrm>
            <a:off x="5929200" y="414324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428760" y="285840"/>
            <a:ext cx="845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Хищные животн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яют особую группу в степи. Они могут принадлежать к разным размерным класс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лис"/>
          <p:cNvPicPr/>
          <p:nvPr/>
        </p:nvPicPr>
        <p:blipFill>
          <a:blip r:embed="rId2"/>
          <a:stretch/>
        </p:blipFill>
        <p:spPr>
          <a:xfrm>
            <a:off x="152280" y="17524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еж"/>
          <p:cNvPicPr/>
          <p:nvPr/>
        </p:nvPicPr>
        <p:blipFill>
          <a:blip r:embed="rId3"/>
          <a:stretch/>
        </p:blipFill>
        <p:spPr>
          <a:xfrm>
            <a:off x="5943600" y="1905120"/>
            <a:ext cx="2971800" cy="1976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304920" y="1371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упны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лк, лисица, корсак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04920" y="4952880"/>
            <a:ext cx="1371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елк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гомолы, пау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857920" y="1066680"/>
            <a:ext cx="307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пной хорь, барсук, ёж, степная гадюка, прыткая и зеленые ящер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0" descr="s8"/>
          <p:cNvPicPr/>
          <p:nvPr/>
        </p:nvPicPr>
        <p:blipFill>
          <a:blip r:embed="rId4"/>
          <a:stretch/>
        </p:blipFill>
        <p:spPr>
          <a:xfrm>
            <a:off x="2057400" y="3962520"/>
            <a:ext cx="2462040" cy="2666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ящерица"/>
          <p:cNvPicPr/>
          <p:nvPr/>
        </p:nvPicPr>
        <p:blipFill>
          <a:blip r:embed="rId5"/>
          <a:stretch/>
        </p:blipFill>
        <p:spPr>
          <a:xfrm>
            <a:off x="4643280" y="2143080"/>
            <a:ext cx="10400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Sasha\Рабочий стол\БАРСУКИ.jpg"/>
          <p:cNvPicPr/>
          <p:nvPr/>
        </p:nvPicPr>
        <p:blipFill>
          <a:blip r:embed="rId1"/>
          <a:stretch/>
        </p:blipFill>
        <p:spPr>
          <a:xfrm>
            <a:off x="4572000" y="3071880"/>
            <a:ext cx="4286160" cy="3571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4286160" y="2357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Барсу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C:\Documents and Settings\Sasha\Рабочий стол\степная гадюка.jpeg"/>
          <p:cNvPicPr/>
          <p:nvPr/>
        </p:nvPicPr>
        <p:blipFill>
          <a:blip r:embed="rId2"/>
          <a:stretch/>
        </p:blipFill>
        <p:spPr>
          <a:xfrm>
            <a:off x="214200" y="642960"/>
            <a:ext cx="5072040" cy="33796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857160" y="142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ая гадю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Sasha\Рабочий стол\518.jpg"/>
          <p:cNvPicPr/>
          <p:nvPr/>
        </p:nvPicPr>
        <p:blipFill>
          <a:blip r:embed="rId1"/>
          <a:stretch/>
        </p:blipFill>
        <p:spPr>
          <a:xfrm>
            <a:off x="285840" y="1071720"/>
            <a:ext cx="4762440" cy="4167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428760" y="428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ой хорё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3" descr="C:\Documents and Settings\Sasha\Рабочий стол\275px-Vulpes_corsac.jpg"/>
          <p:cNvPicPr/>
          <p:nvPr/>
        </p:nvPicPr>
        <p:blipFill>
          <a:blip r:embed="rId2"/>
          <a:stretch/>
        </p:blipFill>
        <p:spPr>
          <a:xfrm>
            <a:off x="5286240" y="1071720"/>
            <a:ext cx="3571920" cy="5262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5286240" y="4287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орс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214800" y="10000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42960" y="227484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Где расположена зона степе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2. Какую территорию она занимает по сравнению с другими зонам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105_Trip to Gobi_black vultures2"/>
          <p:cNvPicPr/>
          <p:nvPr/>
        </p:nvPicPr>
        <p:blipFill>
          <a:blip r:embed="rId1"/>
          <a:stretch/>
        </p:blipFill>
        <p:spPr>
          <a:xfrm>
            <a:off x="928800" y="1071720"/>
            <a:ext cx="7391160" cy="55432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380880" y="22860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Хищные птиц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численны в степи. Обладающие острым зрением, они парят высоко в небе, высматривая добыч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pustelga-samka"/>
          <p:cNvPicPr/>
          <p:nvPr/>
        </p:nvPicPr>
        <p:blipFill>
          <a:blip r:embed="rId1"/>
          <a:stretch/>
        </p:blipFill>
        <p:spPr>
          <a:xfrm>
            <a:off x="3657600" y="152280"/>
            <a:ext cx="3530520" cy="2436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Stepnoi_orel_samka"/>
          <p:cNvPicPr/>
          <p:nvPr/>
        </p:nvPicPr>
        <p:blipFill>
          <a:blip r:embed="rId2"/>
          <a:stretch/>
        </p:blipFill>
        <p:spPr>
          <a:xfrm>
            <a:off x="380880" y="3048120"/>
            <a:ext cx="4876920" cy="359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tepnoi_derbnik_samec_1"/>
          <p:cNvPicPr/>
          <p:nvPr/>
        </p:nvPicPr>
        <p:blipFill>
          <a:blip r:embed="rId3"/>
          <a:stretch/>
        </p:blipFill>
        <p:spPr>
          <a:xfrm>
            <a:off x="152280" y="152280"/>
            <a:ext cx="3353040" cy="2160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5638680" y="1371600"/>
            <a:ext cx="350532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устельг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ах крыльев 65-82 см, питается грызунами, изредка птицами и крупными насекомыми. Характерный охотничий прием – зависание над добычей с трепещущими крыльями, а затем пикирование вниз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410080" y="472428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тепной орел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ах крыльев до 2 м, охотится главным образом на сусликов. Внесен в Красную книгу Казахст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57120" y="2286000"/>
            <a:ext cx="53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Дербник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кий соко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отится на мелких птиц в воздухе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1857240" y="571680"/>
            <a:ext cx="90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Степной орё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C:\Documents and Settings\Sasha\Рабочий стол\степной орёл.jpg"/>
          <p:cNvPicPr/>
          <p:nvPr/>
        </p:nvPicPr>
        <p:blipFill>
          <a:blip r:embed="rId1"/>
          <a:stretch/>
        </p:blipFill>
        <p:spPr>
          <a:xfrm>
            <a:off x="4214880" y="15001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Sasha\Рабочий стол\пустельга.jpg"/>
          <p:cNvPicPr/>
          <p:nvPr/>
        </p:nvPicPr>
        <p:blipFill>
          <a:blip r:embed="rId2"/>
          <a:stretch/>
        </p:blipFill>
        <p:spPr>
          <a:xfrm>
            <a:off x="428760" y="1523880"/>
            <a:ext cx="3429000" cy="456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428760" y="57168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Пустель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2"/>
          <p:cNvSpPr/>
          <p:nvPr/>
        </p:nvSpPr>
        <p:spPr>
          <a:xfrm>
            <a:off x="571680" y="192888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мательно рассмотрите животных.  Охарактеризуйте по пла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животно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ровительственная окрас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невной или ночной образ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йте вывод, как животные приспособились к жизни в степи (открытая местность, засушливый климат, период бескормицы). Приведите примеры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2581560" y="71424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Инструкционная ка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571680" y="34524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степи приспособились к жизни в условиях открытой местности, засушливого климата, периодов бескормицы.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йга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ы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быстрому бе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это спасает их от преследования волков и позволяет пробегать большие расстояния в поисках воды и кормов.  Многие животны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т окраску под цвет сух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ы(степной жаворонок, сурки, суслики). Это им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гает спрятать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врагов, а такж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заметно подкрадывать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быче. Некоторые из них (сурки, суслики, хомяки, полевые мыши)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ют нор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ых они размножаются, спасаются от врагов, укрываются от жары и холода,  запасают корм. Степные птицы из-за отсутствия деревьев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аивают гнёзда на зем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аворонки, дрофы, перепела, степные орлы).  Некоторые животные на период зимних холодов, а также летней  бескормицы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падают в спяч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слики, сурки, черепахи и ящериц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14200" y="297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характеристике определите природную зо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печёт немилосердно. С вершины бархана, на котором мы стоим, во все стороны видны только одни сыпучие пески. Кажется, что нас окружают высокие волны внезапно застывшего моря. Правда, вдалеке, у горизонта, очертания барханов расплываются в горячем воздух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214200" y="308376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ерритория, где растут деревья, кустарники, травы, мхи и лишайники. В этой зоне выпадает довольно много осадков. Поэтому для роста и развития растений достаточно не только тепла, но и влаги. Животные, которые живут в этой зоне, могут найти достаточно корма, построить гнездо или нору, без труда спрятаться от вра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357120" y="100764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ближением лета с каждым днём становится жарче. Лучи горячего солнца выпивают последнюю воду из почвы и растений. Вот проносится горячий суховей. И вот уже нет цветов, нет яркой травы – пожелтела, выгорела, будто огонь спалил её: остались только травы с узкими лист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Цели урока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1. Сформировать представление о природной зоне степей; ознакомить с географическим положением зоны степей, её особенностями, животным и растительным мир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умение работать с картой, дополнительной литературой, гербарием;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умение устанавливать причинно-следственные связи между средой обитания и приспосабливаемостью живых организмов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; умение наблюдать, рассуждать,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равнивать, обобщать, делать вы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бережное отношение к природе, учить понимать  и ощущать её кра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Как приспособились растения к жизни в степ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ни-луковиц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линные корн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ни-пуч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зкие или мясистые листь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листьях и стеблях восковой налё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листьях и стеблях волос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крупные живот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щитная окрас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емный и подземный образ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Как приспособились к жизни в степи животны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7120" y="35719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4" descr="kovyl.jpg"/>
          <p:cNvPicPr/>
          <p:nvPr/>
        </p:nvPicPr>
        <p:blipFill>
          <a:blip r:embed="rId1"/>
          <a:stretch/>
        </p:blipFill>
        <p:spPr>
          <a:xfrm>
            <a:off x="857160" y="357120"/>
            <a:ext cx="7371000" cy="516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Характерная черта степи – безлесье огромных равнин, покрытых богатой травянистой раститель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85716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спользуя материал, полученный в ходе изучения новой темы, докажите как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тепной хорёк, корсак, барсук, степной орёл, степная гадю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способились к условиям жизни в пустыне. Для подготовки сообщения используйте пла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нешний вид, защита от враг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браз жизн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пит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размноже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) передви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оставьте 1-2 цепи питания, которые сложились в степ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делайте макет участка степ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ипы степ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04920" y="533520"/>
            <a:ext cx="8534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1. Разнотравная степ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тся в условиях хорошего увлажнения. Отличается большим видовым разнообразием: злаки представлены широколистными видами, в составе разнотравья много растений, свойственных лугам и лесным полянам. Высота растительного покрова может достигать более 1 м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004_1 copy"/>
          <p:cNvPicPr/>
          <p:nvPr/>
        </p:nvPicPr>
        <p:blipFill>
          <a:blip r:embed="rId1"/>
          <a:stretch/>
        </p:blipFill>
        <p:spPr>
          <a:xfrm>
            <a:off x="285840" y="2071800"/>
            <a:ext cx="8583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53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2. Типичная степ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много разнотравья, но их жизнедеятельность заканчивается в конце июня. Растительный покров бывает высотой не более 0,5 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001_2 copy"/>
          <p:cNvPicPr/>
          <p:nvPr/>
        </p:nvPicPr>
        <p:blipFill>
          <a:blip r:embed="rId1"/>
          <a:stretch/>
        </p:blipFill>
        <p:spPr>
          <a:xfrm>
            <a:off x="500040" y="1143000"/>
            <a:ext cx="81342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457200"/>
            <a:ext cx="8534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3. Сухая степ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щё более сухой вариант степи. Растительность представлена небольшими дерновинными злаками; среди разнотравья преобладают растения с розеточными побегами, сильно опушенные или с восковым налетом на листьях. Высота растений 10-20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р19"/>
          <p:cNvPicPr/>
          <p:nvPr/>
        </p:nvPicPr>
        <p:blipFill>
          <a:blip r:embed="rId1"/>
          <a:stretch/>
        </p:blipFill>
        <p:spPr>
          <a:xfrm>
            <a:off x="285840" y="1928880"/>
            <a:ext cx="85723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534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4. Пустынная степ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сухой вариант степи. Растительность низкорослая (5-8 см). Крупные злаки или кустарники имеют большую корневую систему, уходящую на несколько метров вглуб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3" descr="steppe.jpg"/>
          <p:cNvPicPr/>
          <p:nvPr/>
        </p:nvPicPr>
        <p:blipFill>
          <a:blip r:embed="rId1"/>
          <a:stretch/>
        </p:blipFill>
        <p:spPr>
          <a:xfrm>
            <a:off x="714240" y="1357200"/>
            <a:ext cx="778680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9:43:09Z</dcterms:created>
  <dc:creator>NN</dc:creator>
  <dc:description/>
  <dc:language>en-US</dc:language>
  <cp:lastModifiedBy>Ермек</cp:lastModifiedBy>
  <dcterms:modified xsi:type="dcterms:W3CDTF">2012-11-04T11:30:36Z</dcterms:modified>
  <cp:revision>110</cp:revision>
  <dc:subject/>
  <dc:title>Степи Северной Евразии ландшафты, экологические условия, растительный и животный мир</dc:title>
</cp:coreProperties>
</file>