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1C7-C83A-4763-887A-B6FE9723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014-8C47-423C-B3AF-28061159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5F1-274B-4BCF-8FEE-20DFB830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4F8-5606-46D3-A263-61218718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81CCF-79F0-4BA7-9BCB-600341A0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26A9-A624-4129-8C01-41962E2C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FDA72-A093-472E-B4BA-0F2C1B5E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20A9C-CF3A-4A40-AE7A-97ED66E4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623D3-7FCA-450E-9048-93AF8BDB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2BB6-382C-49E7-8A87-D505609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F051-E3E9-4DCA-A89B-1A22660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645-9B89-4028-B9C2-4214A56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D971-25F3-46C3-A19D-A7A2917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401E8-354E-4266-AF11-0370917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4685B-2AE2-4272-9BAB-109FD915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DBB6-5E09-463F-989A-343A902E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0C01F-AE48-45F3-BEA0-978C14AE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E7D-99BF-482F-B5EF-515E6EB9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368-599F-427D-A48E-B96BB5D5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D1B-B8C7-4FE6-9F40-A1434B7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08C-D179-4A9F-9788-6C32DB8E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1E4-F802-4B8B-8D89-BAB79C83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029-738A-46B9-A0B0-C5D4B6C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850-8F0B-42D1-87E1-B9624DF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F9CF-CE93-4D9E-B169-E2317700D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2B5-B93B-4B7D-86EA-B67DA7CC0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УРОК РУССКОГО ЯЗЫКА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3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оставила: Воробьё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Елена Валер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9600" spc="-1" strike="noStrike">
                <a:solidFill>
                  <a:srgbClr val="ff0066"/>
                </a:solidFill>
                <a:latin typeface="Tahoma"/>
              </a:rPr>
              <a:t>?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ЕЛ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СЕЛ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СЬЕЛ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СЙ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ЭЛ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9600" spc="-1" strike="noStrike">
                <a:solidFill>
                  <a:srgbClr val="ff0066"/>
                </a:solidFill>
                <a:latin typeface="Tahoma"/>
              </a:rPr>
              <a:t>?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ЕЛ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Tahoma"/>
              </a:rPr>
              <a:t>ъ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ВЪЕХ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Ъ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СЪЕХАЛ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95680" y="2362320"/>
            <a:ext cx="1676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895480"/>
            <a:ext cx="1600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04812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200400"/>
            <a:ext cx="17524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9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175248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81080" y="1143000"/>
            <a:ext cx="448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Мы проверили осанку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И свели лопатки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Мы походим на носках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А потом на пятках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Пойдём мягко, как лисята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И как мишка косолапый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И как заинька-трусишка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И как серый волк - волчишка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Вот свернулся ёж в клубок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Потому что он продрог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Лучик ёжика коснулся,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Ёжик сладко потянул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8" descr=""/>
          <p:cNvPicPr/>
          <p:nvPr/>
        </p:nvPicPr>
        <p:blipFill>
          <a:blip r:embed="rId3"/>
          <a:stretch/>
        </p:blipFill>
        <p:spPr>
          <a:xfrm>
            <a:off x="7086600" y="990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66068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"/>
          <p:cNvPicPr/>
          <p:nvPr/>
        </p:nvPicPr>
        <p:blipFill>
          <a:blip r:embed="rId5"/>
          <a:stretch/>
        </p:blipFill>
        <p:spPr>
          <a:xfrm>
            <a:off x="2666880" y="4724280"/>
            <a:ext cx="2895840" cy="191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"/>
          <p:cNvPicPr/>
          <p:nvPr/>
        </p:nvPicPr>
        <p:blipFill>
          <a:blip r:embed="rId6"/>
          <a:stretch/>
        </p:blipFill>
        <p:spPr>
          <a:xfrm>
            <a:off x="7386480" y="3573360"/>
            <a:ext cx="1663920" cy="2446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ишите пары слов, вставляя пропущенные буквы. Выделите приставки. Подчеркните разделительный Ъ и гласную после н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об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ятная стран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д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ём в гор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ёмка фильм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езд писателе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з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ярённый звер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об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ятная стран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д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ём в гор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ёмка фильм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езд писателе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з</a:t>
            </a: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ярённый звер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Алгоритм проверки слова с Ъ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слышится [й’] разъезд – нужен разделительный 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ить в слове кор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в корне пиши Ь, если между приставкой и корнем – 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значь орфограм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219320"/>
            <a:ext cx="77724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ДЕЛИТЕЛЬНЫЙ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ЁРДЫЙ ЗНАК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87520" y="2046240"/>
            <a:ext cx="4330440" cy="3262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181480" y="2184480"/>
            <a:ext cx="3407040" cy="383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68480" y="23209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362320" y="3429000"/>
            <a:ext cx="556236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рок окончен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1752480" cy="177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кинезиологические 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упражнен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800" spc="-1" strike="noStrike">
                <a:solidFill>
                  <a:srgbClr val="33ccff"/>
                </a:solidFill>
                <a:latin typeface="Monotype Corsiva"/>
              </a:rPr>
              <a:t>«Шапка размышлений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Растираем ладошки до образования «теплого комочка», одеваем комочек на голову, и пощипываем ушко с верху в низ, крутим  мочки ух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Упражнение выполняем 3 ра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«Ленивые восьмерк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Рисуем в воздухе в горизонтальной плоскости «восьмерки» по 3 раза каждой рукой, а затем выполним эти движения обеими руками одновремен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Замените одним словом и запишите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способление для си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 небольшого размера для журнала или газ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, без чего птица не уле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хняя женская одеж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мики для п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росли высокой сорной тра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 Black"/>
              </a:rPr>
              <a:t>Ск</a:t>
            </a: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амья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статья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крылья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платье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ульи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бурьян</a:t>
            </a: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Е  ,  Ё  , Ю  , Я , 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688356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пишите стихотворе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з не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пень я </a:t>
            </a:r>
            <a:r>
              <a:rPr b="0" lang="ru-RU" sz="4000" spc="-1" strike="noStrike">
                <a:solidFill>
                  <a:srgbClr val="cc3300"/>
                </a:solidFill>
                <a:latin typeface="Tahoma"/>
              </a:rPr>
              <a:t>се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н пришёл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пень я 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с?е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С?е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и удивил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нём не подавилс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сел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сьел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съел,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сйэ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GA</cp:lastModifiedBy>
  <dcterms:modified xsi:type="dcterms:W3CDTF">2010-10-25T16:36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