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FAA-4E3F-4C17-9CB8-2F2164CB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5EC-8336-47B7-B745-20D57FF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59B-EF69-4071-B9B1-AC813E01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8C7-ED07-4532-B307-0D9B4E2B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7CF-CAEB-42E9-B8E3-1AC9B740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1920-C071-4C5C-8717-44CCA36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AFD2-F0D3-4E73-8AC4-678CA5E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AD0B-6AD7-4B13-B551-5D2CB165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7F72-D65A-4790-BBB7-970A9C0A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6AE-6E94-4808-A1A4-15B25FF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651E-C926-42F0-9616-1BF92F4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A4B-A55C-477F-8D2E-4B2EFAC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625-CF98-47EB-8B78-281C4C9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6CB1-4191-406B-BB6D-579A448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D84-9506-4129-B4AD-2DBFF31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3F90-9CCE-481A-825D-58478A3B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4457-8B9F-4C7A-A934-E1C809D8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A3A-ED00-4852-9DE8-553521D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EBF-1E55-4E95-AC44-0C71458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4C9-44BD-40D0-82A5-2D3C3338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751-FF49-4F5C-B14C-D8105EDD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4C7-AF61-4AC3-8F41-53912E6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379-8B20-443B-B3FE-4F5EC7F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E9A-634C-4479-B674-822E898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252-27E3-4CC6-88E7-A34885938C9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BFAC-6BE2-41C4-9F59-ED3BED00BB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696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дительское собра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5640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дагогическая культура родителей и условия эффективного семейного воспита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емиренко Ирина Ивано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МБОУ «Богашевская СОШ им. А.И.Федоров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Томского райо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нкета для родителе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товите ли вы детей к самостоятельной жизн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ываете ли ответственность быть хозяином своего дома, самостоятельность и жизненную приспособленность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меет ли ваш ребенок выполнять элементарные домашние работы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гораживаете ли вы ребенка от своей трудовой деятельнос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12840"/>
            <a:ext cx="747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ближает ли вас труд по дому, на дачном участ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уководствуетесь ли вы принципом «лишь бы хорошо учился», а остальное берете на себ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учен ли ваш ребенок обслуживать себя са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едет ли самообслуживание  к дисциплинированнос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поощряете ребенка за выполнение трудовых поручени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просни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дает родителям знание педагогики и психологи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является трудным для вас в воспитании ребен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ие методы воздействия вы используете в воспитании ребен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чем состоит влияние отца на ребен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 вы организуете свободное время ребен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ши предложения  по улучшению работы с детьми в классе, школе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3141720"/>
            <a:ext cx="7476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кусство воспитания имеет ту особенность, что почти всем оно кажется делом знакомым и понятным, иным – делом легким, и тем понятнее и легче  кажется оно, чем менее человек с ним знаком, теоретически или практически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          К.Д.Ушински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ункции семьи и родителе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ние у детей интереса к научным и практическим знания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держка увлечений ребен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альнейшее развитие взаимоотношений в семье (открытость, откровенность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трудничество с родителями других школьников и учител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ункции ребен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лучение навыков, необходимых для школьного образо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тремление быть полноправным и готовым к сотрудничеству членом семь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степенный отход от родителей, осознание себя как личности, которую любят и уважают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ключение в группу сверстников, совместная с ними деятельность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Знакомство с правилами поведе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сширение словарного запаса и развитие речи, позволяющие четко излагать свои мысл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сознание значения причинно- следственных связей и формирование научной картины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26800"/>
            <a:ext cx="74451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 с ребенком старшего школьного возраста.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ункции родителе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2360520"/>
            <a:ext cx="738648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едача ответственности и свободы действий ребенку по мере взросления и развития его самостоятельности; подготовка к новому периоду жизни семь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пределение функций семьи, распределение обязанностей и разделение ответственности между членами семь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держка открытости во взаимоотношениях между разными поколениями в семь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ние взрослеющих детей на достойных образцах, на собственном пример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нимание и принятие индивидуальности ребенка, доверие и уважение к нему как уникальной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ункции подрост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ложительное отношение к собственному полу и происходящим физиологическим изменения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ояснение для себя роли мужчины и женщины; ощущение  принадлежности к своему поколению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остижение эмоциональной независимости, отход от родителе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ыбор профессии, стремление к материальной независимост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2268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готовка к дружбе со сверстником противоположного пола, браку и созданию семь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тепенное формирование собственного мировоззр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сто рождения и основная среда обитания ребенка (материального и духовног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сто, где рядом всегда близкие люд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сто, где ребенка принимают и любят таким, какой он е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Это школа отношений с людь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3:00:04Z</dcterms:created>
  <dc:creator>www.PHILka.RU</dc:creator>
  <dc:description/>
  <dc:language>en-US</dc:language>
  <cp:lastModifiedBy>www.PHILka.RU</cp:lastModifiedBy>
  <dcterms:modified xsi:type="dcterms:W3CDTF">2012-11-04T07:56:56Z</dcterms:modified>
  <cp:revision>3</cp:revision>
  <dc:subject/>
  <dc:title>Родительское собрание.</dc:title>
</cp:coreProperties>
</file>