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E60-96FE-4935-A250-D58722A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981-4127-4C23-91CD-F02DE88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E17-A3B0-42DE-9AEF-A7F5E4BE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E00-DA11-4750-B5C8-A8DD219F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2E37-EDE7-4EB9-9D42-E6610AFB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437-E06F-474F-95D2-8795739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F132-6BA2-478B-9466-386291A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598-81E5-418E-A933-48BF849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04C9-9FCA-40A9-9DEF-EA5A08DC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88E-B82A-4CF1-9871-4F5A85D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DF51-3B61-4B4C-9D07-16D00E6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FC1-A18F-4C47-B0E6-E968140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E6C-387F-47C4-89AF-89368EE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F7A-FA86-480D-B929-C17A5A7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C189-1C18-49DE-9C90-288932A8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077E-9CCB-4A0F-B3A2-25C548E3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6726-3A47-4E38-9675-5BBD92A6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73C-35B4-40B9-AF2F-E9302B4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EB4-1AA6-4094-8946-C4532A4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D6A-9A22-4B2A-8544-B33A5FE7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580-E9E8-43CD-BF48-FF835C2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346-CF80-4D68-9E85-CB2F54B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5FD-0DD0-44B9-A04B-340B8F5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66B-591B-4F26-A15E-D9DD9B0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149-FC3A-4F15-ADDD-8E3C5041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AE28-E9C2-408C-9218-23F34CCC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ОЛЕВСТВО ШВ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952880" cy="310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89548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80840" y="11430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г Шв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71240" y="114300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б Шв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35812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веция расположена в Скандинавии на восточном побережье Скандинавского полуострова: занимает большую его часть, а также острова Эланд и Готланд в Балтийском море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аничит с Норвегией на западе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нляндией на северо-востоке и Данией на юго-западе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мывается водами Ботнического залива и Балтийского мо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веция - государство в Северной Европе на Скандинавском полуострове, по площади (449 964 км) занимает третье место среди стран Западной Европы и пятое среди стран все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Швеция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нообразие климата в Швеции объясняется её большой протяжённостью с севера на юг. В северной части Швеции господствует климат континентального типа с холодными продолжительными зимами и коротким прохладным летом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ьеф северной и южной Швеции разнообразен. В северной и западной части страны раскинулись Скандинавские горы (высшая точка - г. Кебнекайсе 2123 м), представляющими сочетание хребтов с участками альпийского рельефа, плоскогорий и внутригорных впа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14520"/>
            <a:ext cx="7238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еверной Швеции располагается плоскогорье Норланд (высотой от 200 до 800 м), которое несколькими широкими ступенями, ограниченными уступами, понижается от Скандинавских гор к Ботническому заливу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просторах Швеции живут такие обитатели лесов, например бурый медведь, лось, рысь, куница, заяц-беляк, лисица, белка. Когда-то из Северной Америки сюда привезли ондатру и американскую но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629160"/>
            <a:ext cx="4647960" cy="303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4862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58164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1143000"/>
            <a:ext cx="46479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1-04T19:0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