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434-5C95-4CF1-B6A0-131351C8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162E-6363-4B41-8ECB-91010C95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90B-2A25-48C2-8B4B-7899B087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448F-2DA6-48A3-959F-E3FF4648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4175-2094-40D6-955E-2600AB69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2E2B-9CAE-48CB-8650-A0C51125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AD1B-FC44-4D0E-8D8C-1A8DE143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F55A-9BCA-4ABB-8A80-F4D31987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1F83-8C36-455D-B928-DE6A5EE0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B527-5D25-413A-9D47-6763A4D6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4FE2-3D7C-404B-BAB5-447800EF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12B-CBA0-4322-96D0-D9AF27F4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F936-3DC5-4AA8-917E-AFDECDA5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B48B-814A-4303-B7D8-DE3B135A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6017-57E9-4749-969E-46A7AB07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D44F-82B5-495B-A5B5-A83A88FC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BD8F-A63A-490E-8DDB-9BBA660D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34F-E846-41F7-BD20-1CD53502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FD58-DA68-46C6-9488-99B30699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4A9C-2F57-46B6-A073-7CB1311E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EB4-D0F5-4A40-B7F4-34BBAB35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902E-1516-403E-94A7-EB03FE21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A5D-8F1E-4927-BB1D-C29C1176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A69-D093-4E72-AF6E-CA31B1F3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FEDB-65AE-4D2F-837B-2AE0478C7B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FAD4-1B6A-4148-AA41-CDA1416B2F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селение составляет около 9 млн. человек. Кроме шведов (они составляют 91% от всего населения) в Швеции проживает более 17 тыс. саами, более 50 тыс. коренных финнов, а также более 450 тыс. этнических фин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473120"/>
            <a:ext cx="830592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еверное положение Швеции полностью определяет ее курортную специфику - курорты в Швеции только горнолыжные.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р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- очень большой горнолыжный курорт, самый большой и знаменитый в Шве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8487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304560"/>
            <a:ext cx="5562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стрид Лингрен – автор книг «Приключения Калле-сыщика», «Расмус-бродяга», «Пеппи Длинныйчулок», «Проделки сорванца», «Малыш и Карлсон». Всех этих героев можно встретить в парке Юнибак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3390840" cy="4524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3146400" cy="4496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27144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эти герои в Юнибакен живут в собственных домиках и каждый день готовы принять у себя в гостях любознательных детиш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952560"/>
            <a:ext cx="82296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5639040" cy="3581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5181840" cy="1514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ой валютой Швеции на сегодняшний момент является шведская крона. В международном обращении она имеет символику S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81480" y="838080"/>
            <a:ext cx="3657600" cy="1874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5181480" y="2819520"/>
            <a:ext cx="3581640" cy="190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181480" y="4800600"/>
            <a:ext cx="36198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токголь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- столица Швеции. Город по праву называют "красотой на воде". Он расположился на 14 островах, соединенных между собой кружевом мостов и переходов, с которых, находясь между небом и водой, можно любоваться его очаровательными видами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Фото 1. Город Стокгольм. Швеция"/>
          <p:cNvPicPr/>
          <p:nvPr/>
        </p:nvPicPr>
        <p:blipFill>
          <a:blip r:embed="rId1"/>
          <a:stretch/>
        </p:blipFill>
        <p:spPr>
          <a:xfrm>
            <a:off x="1143000" y="1671480"/>
            <a:ext cx="70866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Гётебор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второй крупный город в Швеции с более 600 тыс. жителей. В 1930 годах здесь был найден корабль X века, наиболее хорошо сохранившийся корабль викингов из когда-либо найденных кораблей в Скандинав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зей корабля «Вас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896760"/>
            <a:ext cx="868680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мок Скуклосте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Замок расположен на озере Меларен между городами Стокгольмом и Упсал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Фото 1. Замок Скуклостер. Окрестности Стокгольма, Швеция"/>
          <p:cNvPicPr/>
          <p:nvPr/>
        </p:nvPicPr>
        <p:blipFill>
          <a:blip r:embed="rId1"/>
          <a:stretch/>
        </p:blipFill>
        <p:spPr>
          <a:xfrm>
            <a:off x="228600" y="1400040"/>
            <a:ext cx="861048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ворец Мальмехау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Мальмё – самый древний в Скандинавии городской зам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92792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селение Бирк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расположено на острове Бьёркё озера Меларен, расстояние от Стокгольма до острова примерно 30 километров. Бирка была важным торговым перекрестком викин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Фото 1. Поселение Бирка. Окрестности Стокгольма, Швеция"/>
          <p:cNvPicPr/>
          <p:nvPr/>
        </p:nvPicPr>
        <p:blipFill>
          <a:blip r:embed="rId1"/>
          <a:stretch/>
        </p:blipFill>
        <p:spPr>
          <a:xfrm>
            <a:off x="609480" y="1371600"/>
            <a:ext cx="8001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Шведское железо - рудные месторождения относятся к богатейшим в мире, как по концентрации запасов руды, так и по содержанию в ней металла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861048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2-11-04T19:00:5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