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8.png" ContentType="image/png"/>
  <Override PartName="/ppt/media/carbrake.wav" ContentType="audio/x-wav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1CC-271B-4A88-B7DC-8E59F008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BD5-E506-4920-A7B1-48BCBCB3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C76-F946-4A66-A1CA-871EA4FA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F4B-BBB7-45B8-B340-A3F69396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F229-C76F-485A-9605-8E292D8E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15FF-9255-410B-A27E-F39A8CA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0EC7-4D66-4BEF-BB18-F8DB650D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601-A0B1-4DCF-ACCB-9218FA3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13A-0CF9-44B6-9BAB-45FFBA5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8D25-0D25-4C3F-87F0-BB765D12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7ABA-9FE1-4773-B122-0D2A61B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D01-A950-42BC-AA1C-B9A5A50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B52B-25B8-4324-A90D-A681B84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BC29-040B-44B6-BFF9-18167A8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258E-F080-43C0-A1BE-AC238F3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9A3-15BE-404D-9396-2C12F3E2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255F-C761-4A0E-861C-0D28FA01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696-DA80-4C96-9936-EFAA79AC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F70-8BA5-4582-B4DD-23AA47F0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198-7D1B-4A83-82B3-A52CA1BA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4B6-2F91-4CDE-8A7B-730CD0E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D6B-128B-4A82-A0FE-2FC689D1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F9F-ECB3-4992-AA92-63582B4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02-65CE-4CD0-95BB-6A7B9F9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F20-E35E-4ACA-ADA5-DEC5C656E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9AA-E840-4414-8FDA-EC0E2D8A1A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nsart.ru/picturecontent-pid-6e9-et-1bfa14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9/001/22564957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"/>
              </a:rPr>
              <a:t>«Сложение и вычитание десятичных дробей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620640"/>
            <a:ext cx="678168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843280" y="3716280"/>
            <a:ext cx="5473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виз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ния имей отличные по теме: «Дроби десятичны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072040" y="52149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2f64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2f64"/>
                </a:solidFill>
                <a:latin typeface="Arial"/>
              </a:rPr>
              <a:t>учитель ФГКОУ СОШ №1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2f64"/>
                </a:solidFill>
                <a:latin typeface="Arial"/>
              </a:rPr>
              <a:t>Новикова Еле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Ответ на задачу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«Угадай зашифрованное слово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5300640"/>
            <a:ext cx="8234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рмохеле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название черепахи, обитающей в Тихом оке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ее панциря делают украш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йца и мясо – употребляют в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Картинка 23 из 912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835280" y="1268280"/>
            <a:ext cx="540072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Мини-контрольна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1844640"/>
          <a:ext cx="4319640" cy="3100320"/>
        </p:xfrm>
        <a:graphic>
          <a:graphicData uri="http://schemas.openxmlformats.org/drawingml/2006/table">
            <a:tbl>
              <a:tblPr/>
              <a:tblGrid>
                <a:gridCol w="2160720"/>
                <a:gridCol w="2158920"/>
              </a:tblGrid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й 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ност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й 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юр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й 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гу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й 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ис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Picture 17" descr="Картинка 4 из 1297"/>
          <p:cNvPicPr/>
          <p:nvPr/>
        </p:nvPicPr>
        <p:blipFill>
          <a:blip r:embed="rId1"/>
          <a:stretch/>
        </p:blipFill>
        <p:spPr>
          <a:xfrm>
            <a:off x="324000" y="1413000"/>
            <a:ext cx="2020680" cy="19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Картинка 184 из 4309"/>
          <p:cNvPicPr/>
          <p:nvPr/>
        </p:nvPicPr>
        <p:blipFill>
          <a:blip r:embed="rId2"/>
          <a:stretch/>
        </p:blipFill>
        <p:spPr>
          <a:xfrm>
            <a:off x="324000" y="4809960"/>
            <a:ext cx="2592360" cy="182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Картинка 87 из 677"/>
          <p:cNvPicPr/>
          <p:nvPr/>
        </p:nvPicPr>
        <p:blipFill>
          <a:blip r:embed="rId3"/>
          <a:stretch/>
        </p:blipFill>
        <p:spPr>
          <a:xfrm>
            <a:off x="6659640" y="1125360"/>
            <a:ext cx="2333520" cy="162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Картинка 9 из 300"/>
          <p:cNvPicPr/>
          <p:nvPr/>
        </p:nvPicPr>
        <p:blipFill>
          <a:blip r:embed="rId4"/>
          <a:stretch/>
        </p:blipFill>
        <p:spPr>
          <a:xfrm>
            <a:off x="7380360" y="2924280"/>
            <a:ext cx="1628640" cy="196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Картинка 26 из 530"/>
          <p:cNvPicPr/>
          <p:nvPr/>
        </p:nvPicPr>
        <p:blipFill>
          <a:blip r:embed="rId5"/>
          <a:stretch/>
        </p:blipFill>
        <p:spPr>
          <a:xfrm>
            <a:off x="6227640" y="4508640"/>
            <a:ext cx="1681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Задача: «Ученики Пифагора»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3640" y="1484280"/>
            <a:ext cx="392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Пифагора было 28 учеников, среди которых были женщины, что в те времена было редк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ина учеников изучала математику, четверть – музыку, седьмая часть – философию, остальные были женщ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олько было женщин в числе учени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intere1"/>
          <p:cNvPicPr/>
          <p:nvPr/>
        </p:nvPicPr>
        <p:blipFill>
          <a:blip r:embed="rId1"/>
          <a:stretch/>
        </p:blipFill>
        <p:spPr>
          <a:xfrm>
            <a:off x="971640" y="1413000"/>
            <a:ext cx="3225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Картинка 4 из 1297"/>
          <p:cNvPicPr/>
          <p:nvPr/>
        </p:nvPicPr>
        <p:blipFill>
          <a:blip r:embed="rId1"/>
          <a:stretch/>
        </p:blipFill>
        <p:spPr>
          <a:xfrm>
            <a:off x="5076720" y="5557680"/>
            <a:ext cx="1008000" cy="947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Заповедник «Брянский  лес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Картинка 38 из 18280"/>
          <p:cNvPicPr/>
          <p:nvPr/>
        </p:nvPicPr>
        <p:blipFill>
          <a:blip r:embed="rId2"/>
          <a:stretch/>
        </p:blipFill>
        <p:spPr>
          <a:xfrm>
            <a:off x="611280" y="1125360"/>
            <a:ext cx="1152360" cy="865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213516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Картинка 13 из 29083"/>
          <p:cNvPicPr/>
          <p:nvPr/>
        </p:nvPicPr>
        <p:blipFill>
          <a:blip r:embed="rId3"/>
          <a:stretch/>
        </p:blipFill>
        <p:spPr>
          <a:xfrm>
            <a:off x="5003640" y="1104840"/>
            <a:ext cx="1224000" cy="897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Картинка 74 из 19370"/>
          <p:cNvPicPr/>
          <p:nvPr/>
        </p:nvPicPr>
        <p:blipFill>
          <a:blip r:embed="rId4"/>
          <a:stretch/>
        </p:blipFill>
        <p:spPr>
          <a:xfrm>
            <a:off x="611280" y="2205000"/>
            <a:ext cx="1028520" cy="917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0" y="213516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2" descr="Картинка 174 из 3034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5003640" y="2241720"/>
            <a:ext cx="1152720" cy="869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3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4" descr="Картинка 209 из 1455"/>
          <p:cNvPicPr/>
          <p:nvPr/>
        </p:nvPicPr>
        <p:blipFill>
          <a:blip r:embed="rId6"/>
          <a:stretch/>
        </p:blipFill>
        <p:spPr>
          <a:xfrm>
            <a:off x="755640" y="3284640"/>
            <a:ext cx="750960" cy="936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5"/>
          <p:cNvSpPr/>
          <p:nvPr/>
        </p:nvSpPr>
        <p:spPr>
          <a:xfrm>
            <a:off x="0" y="213516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6" descr="Картинка 100 из 2453"/>
          <p:cNvPicPr/>
          <p:nvPr/>
        </p:nvPicPr>
        <p:blipFill>
          <a:blip r:embed="rId7"/>
          <a:stretch/>
        </p:blipFill>
        <p:spPr>
          <a:xfrm>
            <a:off x="5076720" y="3301920"/>
            <a:ext cx="1008000" cy="960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7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8" descr="Картинка 15 из 1401"/>
          <p:cNvPicPr/>
          <p:nvPr/>
        </p:nvPicPr>
        <p:blipFill>
          <a:blip r:embed="rId8"/>
          <a:stretch/>
        </p:blipFill>
        <p:spPr>
          <a:xfrm>
            <a:off x="611280" y="4437000"/>
            <a:ext cx="1224000" cy="930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9"/>
          <p:cNvSpPr/>
          <p:nvPr/>
        </p:nvSpPr>
        <p:spPr>
          <a:xfrm>
            <a:off x="0" y="213516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0" descr="Картинка 266 из 6544"/>
          <p:cNvPicPr/>
          <p:nvPr/>
        </p:nvPicPr>
        <p:blipFill>
          <a:blip r:embed="rId9"/>
          <a:stretch/>
        </p:blipFill>
        <p:spPr>
          <a:xfrm>
            <a:off x="5003640" y="4511520"/>
            <a:ext cx="1152720" cy="88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1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2" descr="Картинка 111 из 927"/>
          <p:cNvPicPr/>
          <p:nvPr/>
        </p:nvPicPr>
        <p:blipFill>
          <a:blip r:embed="rId10"/>
          <a:stretch/>
        </p:blipFill>
        <p:spPr>
          <a:xfrm>
            <a:off x="684360" y="5589720"/>
            <a:ext cx="1079280" cy="912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3"/>
          <p:cNvSpPr/>
          <p:nvPr/>
        </p:nvSpPr>
        <p:spPr>
          <a:xfrm>
            <a:off x="0" y="213516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907920"/>
          <a:ext cx="8785440" cy="5761080"/>
        </p:xfrm>
        <a:graphic>
          <a:graphicData uri="http://schemas.openxmlformats.org/drawingml/2006/table">
            <a:tbl>
              <a:tblPr/>
              <a:tblGrid>
                <a:gridCol w="1979640"/>
                <a:gridCol w="2344680"/>
                <a:gridCol w="2232000"/>
                <a:gridCol w="22291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45,8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0,12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я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17,3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с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4,4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у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4,87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уб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0,027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0,3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с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1,1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,7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,5ты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56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аль-Каши Джемшид ибн Масуд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113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к и астроном, работавший в 1420 - 30 годы в Самаркандской обсерватории Улугб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боте "Ключ арифметики" (1427г.) изложил приемы извлечения корней, основанные на применении формулы бинома для натурального показа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вел в употребление десятичные дроби и описал правила действий над ни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"Трактате об окружности" (около 1427) вычислил значение числ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17-ю верными десятичными зна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hoton14"/>
          <p:cNvPicPr/>
          <p:nvPr/>
        </p:nvPicPr>
        <p:blipFill>
          <a:blip r:embed="rId1"/>
          <a:stretch/>
        </p:blipFill>
        <p:spPr>
          <a:xfrm>
            <a:off x="539640" y="1052640"/>
            <a:ext cx="2979720" cy="475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95280" y="587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од рождения неизвестен — умер около 1436— 14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Симон Стевин 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16000" y="1341360"/>
            <a:ext cx="6002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 фламандским  инженером и учен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л десятичные дроби занов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 то время европейцы еще не знали, что десятичные дроби открыл ал-Каш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ниге «Десятичная»  описал арифметические действия с десятичными дробями и ввел для них символ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о 24,56 выглядело так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4     5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Stevin_3"/>
          <p:cNvPicPr/>
          <p:nvPr/>
        </p:nvPicPr>
        <p:blipFill>
          <a:blip r:embed="rId1"/>
          <a:stretch/>
        </p:blipFill>
        <p:spPr>
          <a:xfrm>
            <a:off x="179280" y="1341360"/>
            <a:ext cx="2389320" cy="2808360"/>
          </a:xfrm>
          <a:prstGeom prst="rect">
            <a:avLst/>
          </a:prstGeom>
          <a:ln w="0">
            <a:noFill/>
          </a:ln>
        </p:spPr>
      </p:pic>
      <p:sp>
        <p:nvSpPr>
          <p:cNvPr id="109" name="Oval 7"/>
          <p:cNvSpPr/>
          <p:nvPr/>
        </p:nvSpPr>
        <p:spPr>
          <a:xfrm>
            <a:off x="3348000" y="4941720"/>
            <a:ext cx="36036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995640" y="4941720"/>
            <a:ext cx="36036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4572000" y="4941720"/>
            <a:ext cx="36036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95280" y="4437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(1548-16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Джон Неп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11280" y="1628280"/>
            <a:ext cx="44895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16 году ввел запятую в качестве разделительного знака, отделяющего целую часть от дробной  в десятичных дроб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Картинка 2 из 31"/>
          <p:cNvPicPr/>
          <p:nvPr/>
        </p:nvPicPr>
        <p:blipFill>
          <a:blip r:embed="rId1"/>
          <a:stretch/>
        </p:blipFill>
        <p:spPr>
          <a:xfrm>
            <a:off x="611280" y="1197000"/>
            <a:ext cx="3060720" cy="36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116000" y="51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550-1617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Магницкий Л.Ф.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(1669-1739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3759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подаватель математики в Школе математических и навигационных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к в Моск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первого печатного руководства "Арифметика» (1703) - свода математических знаний того врем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"Арифметике" Магницкий Л.Ф. изложил учение о десятичных дробя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82235_5"/>
          <p:cNvPicPr/>
          <p:nvPr/>
        </p:nvPicPr>
        <p:blipFill>
          <a:blip r:embed="rId1"/>
          <a:stretch/>
        </p:blipFill>
        <p:spPr>
          <a:xfrm>
            <a:off x="250920" y="1341360"/>
            <a:ext cx="4608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Задача: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«Узнай длину тела бобра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6" descr="Картинка 10 из 6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13000"/>
            <a:ext cx="2879640" cy="3368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47640" y="1557000"/>
            <a:ext cx="554364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,9; 6,3; 3,6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рать наименьшее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3; 2,7;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ыбрать наибольш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,7; 4,7; 1,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ыбрать ни наименьшее, ни наибольшее чи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ти сумму выбранных чис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4000" y="479736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б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рупный грызун, ведет полуводный образ жизни, обитает по лесным ре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276720" y="580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длина тела бобра – 10 д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Устные упражн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йте дроби: 2,7; 3,752; 40,00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 дроби: 3,4 и 5,01; 0,1 и 0,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ложить десятичные дроб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равнивают дроби по разряд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десятичные дроби используют чаще, чем обыкновен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b7"/>
                </a:solidFill>
                <a:latin typeface="Arial"/>
              </a:rPr>
              <a:t>Ответы на тест </a:t>
            </a:r>
            <a:br>
              <a:rPr sz="3000"/>
            </a:br>
            <a:r>
              <a:rPr b="1" lang="ru-RU" sz="3000" spc="-1" strike="noStrike">
                <a:solidFill>
                  <a:srgbClr val="ffffb7"/>
                </a:solidFill>
                <a:latin typeface="Arial"/>
              </a:rPr>
              <a:t>«Сложение и вычитание десятичных дробей»</a:t>
            </a:r>
            <a:br>
              <a:rPr sz="30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916280"/>
          <a:ext cx="8007120" cy="3974760"/>
        </p:xfrm>
        <a:graphic>
          <a:graphicData uri="http://schemas.openxmlformats.org/drawingml/2006/table">
            <a:tbl>
              <a:tblPr/>
              <a:tblGrid>
                <a:gridCol w="1144440"/>
                <a:gridCol w="1143000"/>
                <a:gridCol w="1144800"/>
                <a:gridCol w="1143000"/>
                <a:gridCol w="1144440"/>
                <a:gridCol w="1143000"/>
                <a:gridCol w="1144440"/>
              </a:tblGrid>
              <a:tr h="18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й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й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 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28640"/>
          <a:ext cx="8007120" cy="419112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1 + 7,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3 + 2,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,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 + 4,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 – 2,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8 – 0,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 – 0,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2 + 1,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7 + 9,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3,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39"/>
          <p:cNvSpPr/>
          <p:nvPr/>
        </p:nvSpPr>
        <p:spPr>
          <a:xfrm>
            <a:off x="324000" y="333360"/>
            <a:ext cx="838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Угадайте зашифрованное сло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7:30:28Z</dcterms:created>
  <dc:creator>1</dc:creator>
  <dc:description/>
  <dc:language>en-US</dc:language>
  <cp:lastModifiedBy>Новиков</cp:lastModifiedBy>
  <dcterms:modified xsi:type="dcterms:W3CDTF">2012-10-30T19:50:36Z</dcterms:modified>
  <cp:revision>10</cp:revision>
  <dc:subject/>
  <dc:title>аль-Каши Джемшид ибн Масуд</dc:title>
</cp:coreProperties>
</file>