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32D-9211-4B96-A2AC-DEC80D4F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DAB-A68D-41F6-AE64-B8D76234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29F-08AE-4BE2-8798-54360547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3ED-21A8-457F-A7C6-FADC3409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DCC-E445-42EB-8E33-0C4255F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3E37-0C55-490F-928A-16091822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452A-CE99-430E-91E4-F56103A8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B1B-5636-4197-93FE-830C4599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BFEE-6647-4609-B20F-60BBE669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0994-4145-46EE-BC30-8174D260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B89E-F26C-4607-B056-6E12C5D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973-90CA-4A9E-BEA0-66EC0A3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9C80-E42E-4EB4-97FA-A40DB76E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CB4-C036-4E34-B336-DFE4281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724C-9F08-4964-A47F-EC2A4A0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7B3-EE65-4203-BEBC-7CA91C45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EC0B-1736-46F0-A173-DC73F1ED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196-0519-4CEE-A706-6E61873F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254-EB74-4652-BDFF-3ABF610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F12-8494-4C58-B4A0-061266F2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394-7C69-4567-9E7C-36D9EED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0E4-79C2-4D78-9514-2860BCA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5D9-1928-465F-B7A9-4301362C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3E1-88C3-4D9B-9E1D-4DCC030F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95BB-7825-44B3-A064-0E30CE47BE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3D7A-DB34-4EBF-BDC9-336FFB5EDA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сследовательская работа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                 по теме</a:t>
            </a: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  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278136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Удивительные свойства воды»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images"/>
          <p:cNvPicPr/>
          <p:nvPr/>
        </p:nvPicPr>
        <p:blipFill>
          <a:blip r:embed="rId1"/>
          <a:stretch/>
        </p:blipFill>
        <p:spPr>
          <a:xfrm>
            <a:off x="3059280" y="4437000"/>
            <a:ext cx="280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jetAudio 2008-01-23 22-28-22-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jetAudio 2008-01-23 22-28-28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jetAudio 2008-01-23 22-28-53-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jetAudio 2008-01-23 22-29-01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jetAudio 2008-01-23 22-29-30-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69560" cy="1139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ffffff"/>
                </a:solidFill>
                <a:uFillTx/>
                <a:latin typeface="Constantia"/>
              </a:rPr>
              <a:t>уникальная память воды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да обладает способностью копировать и запоминать информацию. Данный факт недавно относится к разряду научных. Лаборатории РАН (профессор Константин Коротков), МГУ (профессор Владимир Воейнков), Японии (исследователь Массару Эмото) активно подтверждают данный факт, пытаясь объяснить его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да циркулирует вокруг земного шара, протекает через наши тела и разносится затем по всему миру. Если бы мы могли прочесть информацию, которая хранится в памяти воды, то узнали бы истори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своей работы мы пытались повторить некоторые опыты Э.Массар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того, чтобы узнать переносит ли вода информацию, мы взяли три стакана с водой и поместили в них одинаковое количество риса. Затем поставили их в комнату, где меньше всего посторонней информации. В течение месяца мы каждый день произносили слова «спасибо» над одним стаканом с рисом, слова «дурак» над другим стаканом с рисом, а над третьим стаканом мы ничего не произноси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м забродил рис в стакане (через семь дней), над которым  мы ничего не произносили. Он начал плохо пахнуть и немного потемнел. Вторым забродил рис в стакане, над которым мы произносили слово «дурак» (через двенадцать дней), рис потемнел и стал неприятно пахнуть, даже появился грязно-зеленый налет.  На девятнадцатый день рис в стакане, над которым мы говорили слова «спасибо»  тоже начал бродить, но не с таким резким неприятным запахом, а также на нем не появилось никакого налета. Таким образом, мы повторили опыт, описываемый Массару Эмото с тем же результат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Picture 2" descr="G:\1\IMG_1276.JPG"/>
          <p:cNvPicPr/>
          <p:nvPr/>
        </p:nvPicPr>
        <p:blipFill>
          <a:blip r:embed="rId1"/>
          <a:stretch/>
        </p:blipFill>
        <p:spPr>
          <a:xfrm>
            <a:off x="457200" y="214200"/>
            <a:ext cx="8329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щё одним подтверждением того, что вода – хранитель информации, является следующий опыт. В одну банку мы налили воду, принесённую из церкви, в другую – воду из-под крана. Плотно закрыли крышками. Через месяц мы открыли банки и обнаружили, что вода, принесённая из церкви, не потеряла своих органолептических свойств. Она была приятна на вкус и не имела никакого запаха. Вода же, налитая из-под крана, имела затхлый запах и была неприятна на вку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2" descr="G:\1\IMG_1279.JPG"/>
          <p:cNvPicPr/>
          <p:nvPr/>
        </p:nvPicPr>
        <p:blipFill>
          <a:blip r:embed="rId1"/>
          <a:stretch/>
        </p:blipFill>
        <p:spPr>
          <a:xfrm>
            <a:off x="2357280" y="3786120"/>
            <a:ext cx="4643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9636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Вода способна реагировать и распознавать десятки голосовых вариаций</a:t>
            </a:r>
            <a:r>
              <a:rPr b="0" lang="en-US" sz="3600" spc="-1" strike="noStrike">
                <a:solidFill>
                  <a:srgbClr val="dbf5f9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 запечатляя каждое слово</a:t>
            </a:r>
            <a:r>
              <a:rPr b="0" lang="en-US" sz="3600" spc="-1" strike="noStrike">
                <a:solidFill>
                  <a:srgbClr val="dbf5f9"/>
                </a:solidFill>
                <a:latin typeface="Arial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Ниже изображены некоторые формы кристаллов, полученные из воды, которую окружали различные звуки.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jetAudio 2008-01-23 22-20-26-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jetAudio 2008-01-23 22-20-47-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jetAudio 2008-01-23 22-21-00-50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9:43:32Z</dcterms:created>
  <dc:creator>User</dc:creator>
  <dc:description/>
  <dc:language>en-US</dc:language>
  <cp:lastModifiedBy>Loser76</cp:lastModifiedBy>
  <dcterms:modified xsi:type="dcterms:W3CDTF">2012-11-03T23:01:40Z</dcterms:modified>
  <cp:revision>74</cp:revision>
  <dc:subject/>
  <dc:title>Вода.</dc:title>
</cp:coreProperties>
</file>