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gif" ContentType="image/gif"/>
  <Override PartName="/ppt/media/image1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wmf" ContentType="image/x-wmf"/>
  <Override PartName="/ppt/media/image11.jpeg" ContentType="image/jpeg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2958-58BC-4CAD-90F7-A809CF6D4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DDF6-EB8B-4B4E-96DB-18B53A3F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6091-CCBA-42EE-BE64-BD804DC94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B0B1-C255-460B-B018-8342A08F5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D378-9B39-4746-9692-B2AD5B74D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7A48-2725-49CB-888B-949E336B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4C1E-AEFE-4B2A-BEB0-EB8715B8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0055-BC9F-4093-8E2B-35116026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23E2-1989-49C8-998C-64248FE4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0617-72F5-423E-A2BB-7E438DF5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F516-DA02-4E45-AC4A-92403DC0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505C-9EDA-416E-BA43-40AAE48C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2228-1DC4-47A7-BE87-8EB36D7E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2951-4DAA-4379-A6A0-10FA5F06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3659-F547-4CD6-9085-C403B476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61AC-CA6F-4577-8B2D-88AB0242F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5AFB-C309-4E2D-8B8F-6A956A530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C515-25B9-4E9E-9ACE-CB18EBBB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33B8-8D50-4FBA-AE3A-FF414E32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2140-491E-40AE-BE84-74D67377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D039-8B04-446D-9C6A-610E917A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26BA-BBE8-470D-BB3F-9631D256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F4D7-2717-4F10-B71F-51FCD63E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3758-F207-4EE0-9CCA-E66857E3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224B-F289-4287-ADE2-D769934AF8C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ED34-A525-42F2-8FD9-B22633C9E87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g1.liveinternet.ru/images/attach/c/0/35/989/35989322_albertsamuelanker3.jpg" TargetMode="External"/><Relationship Id="rId3" Type="http://schemas.openxmlformats.org/officeDocument/2006/relationships/hyperlink" Target="http://old.redstar.ru/2004/07/10_07/35.jpg" TargetMode="External"/><Relationship Id="rId4" Type="http://schemas.openxmlformats.org/officeDocument/2006/relationships/hyperlink" Target="http://cs601.vkontakte.ru/u10365370/108174428/x_b02a9533.jpg" TargetMode="External"/><Relationship Id="rId5" Type="http://schemas.openxmlformats.org/officeDocument/2006/relationships/hyperlink" Target="http://rudocs.exdat.com/pars_docs/tw_refs/141/140572/140572_html_m1bcc0060.png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907640" y="5445000"/>
            <a:ext cx="2521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 класс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84000" y="692280"/>
            <a:ext cx="7916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Monotype Corsiva"/>
              </a:rPr>
              <a:t>Изложение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"/>
          <p:cNvSpPr/>
          <p:nvPr/>
        </p:nvSpPr>
        <p:spPr>
          <a:xfrm>
            <a:off x="5256360" y="4869000"/>
            <a:ext cx="3887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Власова Н.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учитель  начальных 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МБУ  лицей  № 6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г.о. Тольят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43280" y="3127320"/>
            <a:ext cx="280836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Земляник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(По А. Жарикову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Интернет-ресурс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http://img1.liveinternet.ru/images/attach/c/0/35/989/35989322_albertsamuelanker3.jp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99"/>
                </a:solidFill>
                <a:uFillTx/>
                <a:latin typeface="Garamond"/>
                <a:hlinkClick r:id="rId3"/>
              </a:rPr>
              <a:t>http://old.redstar.ru/2004/07/10_07/35.jp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99"/>
                </a:solidFill>
                <a:uFillTx/>
                <a:latin typeface="Garamond"/>
                <a:hlinkClick r:id="rId4"/>
              </a:rPr>
              <a:t>http://cs601.vkontakte.ru/u10365370/108174428/x_b02a9533.jp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99"/>
                </a:solidFill>
                <a:uFillTx/>
                <a:latin typeface="Garamond"/>
                <a:hlinkClick r:id="rId5"/>
              </a:rPr>
              <a:t>http://rudocs.exdat.com/pars_docs/tw_refs/141/140572/140572_html_m1bcc0060.p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463680"/>
            <a:ext cx="53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Тема: Излож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79400" y="2205000"/>
            <a:ext cx="615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Цели  урока: </a:t>
            </a:r>
            <a:br>
              <a:rPr sz="2400"/>
            </a:br>
            <a:r>
              <a:rPr b="1" lang="en-US" sz="2400" spc="-1" strike="noStrike">
                <a:solidFill>
                  <a:srgbClr val="6ab475"/>
                </a:solidFill>
                <a:latin typeface="Tahoma"/>
              </a:rPr>
              <a:t>учиться  передавать  </a:t>
            </a:r>
            <a:br>
              <a:rPr sz="2400"/>
            </a:br>
            <a:r>
              <a:rPr b="1" lang="en-US" sz="2400" spc="-1" strike="noStrike">
                <a:solidFill>
                  <a:srgbClr val="6ab475"/>
                </a:solidFill>
                <a:latin typeface="Tahoma"/>
              </a:rPr>
              <a:t>содержание  текста  </a:t>
            </a:r>
            <a:br>
              <a:rPr sz="2400"/>
            </a:br>
            <a:r>
              <a:rPr b="1" lang="en-US" sz="2400" spc="-1" strike="noStrike">
                <a:solidFill>
                  <a:srgbClr val="6ab475"/>
                </a:solidFill>
                <a:latin typeface="Tahoma"/>
              </a:rPr>
              <a:t>по  плану; составлять  предложения  </a:t>
            </a:r>
            <a:br>
              <a:rPr sz="2400"/>
            </a:br>
            <a:r>
              <a:rPr b="1" lang="en-US" sz="2400" spc="-1" strike="noStrike">
                <a:solidFill>
                  <a:srgbClr val="6ab475"/>
                </a:solidFill>
                <a:latin typeface="Tahoma"/>
              </a:rPr>
              <a:t>и  правильно  их  оформлять  </a:t>
            </a:r>
            <a:br>
              <a:rPr sz="2400"/>
            </a:br>
            <a:r>
              <a:rPr b="1" lang="en-US" sz="2400" spc="-1" strike="noStrike">
                <a:solidFill>
                  <a:srgbClr val="6ab475"/>
                </a:solidFill>
                <a:latin typeface="Tahoma"/>
              </a:rPr>
              <a:t>на  письм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4920" y="1700280"/>
            <a:ext cx="7931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Была война. Девочки собирали землянику для госпиталя. Ася зашла в чащу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друг девочка услышала стон. В кустах лежал раненый летчик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Ася бегом помчалась в госпиталь. За летчиком выехали врачи. Ася в кабине указывала дорогу. Раненый был спасен.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Уже два дня искали этого летчика. Он сбил ночью над Москвой самолет врага. Сам выпрыгнул из горящей машины с парашютом. (58 слов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79280" y="5119560"/>
            <a:ext cx="1656000" cy="1560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7451640" y="5045040"/>
            <a:ext cx="1513080" cy="151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1440" y="2773440"/>
          <a:ext cx="9142560" cy="517320"/>
        </p:xfrm>
        <a:graphic>
          <a:graphicData uri="http://schemas.openxmlformats.org/drawingml/2006/table">
            <a:tbl>
              <a:tblPr/>
              <a:tblGrid>
                <a:gridCol w="4281480"/>
                <a:gridCol w="4281480"/>
                <a:gridCol w="5796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440" y="3290760"/>
          <a:ext cx="2090880" cy="793800"/>
        </p:xfrm>
        <a:graphic>
          <a:graphicData uri="http://schemas.openxmlformats.org/drawingml/2006/table">
            <a:tbl>
              <a:tblPr/>
              <a:tblGrid>
                <a:gridCol w="2090880"/>
              </a:tblGrid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3294000" y="474840"/>
            <a:ext cx="31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aramond"/>
              </a:rPr>
              <a:t>Земляника.</a:t>
            </a:r>
            <a:br>
              <a:rPr sz="3600"/>
            </a:br>
            <a:r>
              <a:rPr b="0" lang="ru-RU" sz="1800" spc="-1" strike="noStrike">
                <a:solidFill>
                  <a:srgbClr val="660000"/>
                </a:solidFill>
                <a:latin typeface="Garamond"/>
              </a:rPr>
              <a:t>По А. Жариков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95640" y="5445000"/>
            <a:ext cx="504036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"/>
          <p:cNvSpPr/>
          <p:nvPr/>
        </p:nvSpPr>
        <p:spPr>
          <a:xfrm>
            <a:off x="1042920" y="2349360"/>
            <a:ext cx="6626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Анализ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Что сделал летчик при защите Москвы от фашистов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-Почему он оказался в лес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-Зачем Ася пошла в лес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-Как Ася нашла раненог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- Как спасли летчика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700360" y="404640"/>
            <a:ext cx="35272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План для изложения и пересказа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7" descr="C:\Documents and Settings\nona\Мои документы\Мои рисунки\romash29.png"/>
          <p:cNvPicPr/>
          <p:nvPr/>
        </p:nvPicPr>
        <p:blipFill>
          <a:blip r:embed="rId2"/>
          <a:stretch/>
        </p:blipFill>
        <p:spPr>
          <a:xfrm>
            <a:off x="250920" y="5300640"/>
            <a:ext cx="1944720" cy="1339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181520" y="2706120"/>
            <a:ext cx="553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ак лётчик оказался в лесу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ак Ася нашла раненог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Что сделал советский летчик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ак спасли летчика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443640" y="2276640"/>
            <a:ext cx="247176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00"/>
                </a:solidFill>
                <a:uFillTx/>
                <a:latin typeface="Garamond"/>
              </a:rPr>
              <a:t>Словарно-орфографическая работа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с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о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б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и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рали, госп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и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таль, услыш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а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ла, п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о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мч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а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л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а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сь, ран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ен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ый, с п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а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р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а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ю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том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093080" y="4076640"/>
            <a:ext cx="1600200" cy="1752480"/>
            <a:chOff x="7093080" y="4076640"/>
            <a:chExt cx="1600200" cy="1752480"/>
          </a:xfrm>
        </p:grpSpPr>
        <p:sp>
          <p:nvSpPr>
            <p:cNvPr id="140" name=""/>
            <p:cNvSpPr txBox="1"/>
            <p:nvPr/>
          </p:nvSpPr>
          <p:spPr>
            <a:xfrm>
              <a:off x="7093080" y="4076640"/>
              <a:ext cx="1600200" cy="772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55625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0000ff"/>
                    </a:outerShdw>
                  </a:effectLst>
                  <a:latin typeface="Comic Sans MS"/>
                </a:rPr>
                <a:t>Запомни!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ff"/>
                  </a:outerShdw>
                </a:effectLst>
                <a:latin typeface="Comic Sans MS"/>
                <a:ea typeface="Comic Sans MS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7258320" y="4341600"/>
              <a:ext cx="1378800" cy="1487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800" spc="-1" strike="noStrike">
                <a:solidFill>
                  <a:srgbClr val="ff0000"/>
                </a:solidFill>
                <a:latin typeface="Garamond"/>
              </a:rPr>
              <a:t>Физминутка</a:t>
            </a:r>
            <a:endParaRPr b="1" lang="en-US" sz="5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35000" cy="1557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7596360" y="333360"/>
            <a:ext cx="1330200" cy="1803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684360" y="5877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2766960" y="1623960"/>
            <a:ext cx="361008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76199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0000"/>
                </a:solidFill>
                <a:latin typeface="Monotype Corsiva"/>
              </a:rPr>
              <a:t>Пишу по памяти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771640" y="1700280"/>
            <a:ext cx="309096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cc0000"/>
                </a:solidFill>
                <a:uFillTx/>
                <a:latin typeface="Garamond"/>
              </a:rPr>
              <a:t>Самопроверка: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100000"/>
              </a:lnSpc>
              <a:spcBef>
                <a:spcPts val="1100"/>
              </a:spcBef>
              <a:buClr>
                <a:srgbClr val="00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Ясно ли передал свою мысль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100000"/>
              </a:lnSpc>
              <a:spcBef>
                <a:spcPts val="1100"/>
              </a:spcBef>
              <a:buClr>
                <a:srgbClr val="00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Нет ли повторов одинаковых слов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100000"/>
              </a:lnSpc>
              <a:spcBef>
                <a:spcPts val="1100"/>
              </a:spcBef>
              <a:buClr>
                <a:srgbClr val="00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Все ли слова употреблены удачно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100000"/>
              </a:lnSpc>
              <a:spcBef>
                <a:spcPts val="1100"/>
              </a:spcBef>
              <a:buClr>
                <a:srgbClr val="00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Проверь орфограммы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093080" y="189000"/>
            <a:ext cx="17794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09:48:20Z</dcterms:created>
  <dc:creator>Иришка</dc:creator>
  <dc:description/>
  <dc:language>en-US</dc:language>
  <cp:lastModifiedBy>Виктор Викторов</cp:lastModifiedBy>
  <dcterms:modified xsi:type="dcterms:W3CDTF">2012-11-03T18:27:00Z</dcterms:modified>
  <cp:revision>19</cp:revision>
  <dc:subject/>
  <dc:title>Урок  русского  языка</dc:title>
</cp:coreProperties>
</file>