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wmf" ContentType="image/x-wmf"/>
  <Override PartName="/ppt/media/image22.png" ContentType="image/png"/>
  <Override PartName="/ppt/media/image21.jpeg" ContentType="image/jpeg"/>
  <Override PartName="/ppt/media/image16.jpeg" ContentType="image/jpeg"/>
  <Override PartName="/ppt/media/image5.png" ContentType="image/png"/>
  <Override PartName="/ppt/media/image28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8F98-3BDE-4F8E-B22E-2B76C7007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C304-7801-4EE2-A8B3-0BAECE64A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C48FAE-4B96-40B5-837D-B2932CA0A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5682F5-A781-4D8E-9E3C-31BA2FFB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8BA8E7-85CA-4D20-876F-173168811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AEBF43-A768-4FE8-903D-AE35ACDF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DDBA9B-DADB-4CDE-B7FA-FA54AF54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C64C43-0B17-4AB9-B174-01A3CA65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033422-A5C8-4449-9CD9-BA380C86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63D7CF-EB0F-47AB-AABC-068337F2F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0488F4-F47B-438B-B39F-593AF456A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78F3-067D-4F3F-9E39-EE175CFD0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EE78-0CCA-44EF-993E-FD85A0FC8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379E5-4CD2-47FF-8AC2-8ED2A7FAA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B242B-62A9-468F-873B-7F11EB215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6A86D-B0DD-424D-828C-39F9153A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8F78A-22CE-4E13-849A-9ABD41096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DA328-EB34-4057-9D32-30346F527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2920D-14BE-4E91-81B5-CFC71765E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16597-960D-418D-941D-EA6FCB6F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006D-04AA-42D2-93AE-A1EBF56B4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84804-1144-4BF2-8097-E6ECBC75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4A89F-87D6-4DC9-B045-137B5814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EA600-109B-4A3B-83E0-1C9E76CFA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6F68E-E3B1-4010-AEBC-E588B851D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7E933-D3FF-40F2-A195-956895EFE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3BEEE-ADA9-45CF-8C39-393165E88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A2CF9-7B58-4066-8CAC-AE69AECD0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45713-ED51-48A2-B2CA-BC9FF23AB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A6AFE-73B2-427E-8D05-0ADF910BA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DB2D6-2327-43EE-AFBE-8147B3B32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8918-4C07-4D36-B8E4-A6F3E915E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3B774-DA3C-47BE-BD69-92214C687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C4F0B-1CBA-4033-AF3B-ECA06DE6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6F241-93EC-479C-94F6-9DF7307C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0DC06-8DD5-4096-9B41-0B1AD150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3E851-4C32-404A-81D2-A21765927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DDC1F-EC1D-4DBF-B440-6BEC770AB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29ABB-3666-4E50-929A-F47C278DB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95DF3-4E33-4BCE-AFFF-B545B44B7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3A1E5-AAAD-445E-AFE5-6BFF1AF3D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58C1A-EB7D-4FF2-B976-164A079C4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D3A4-21DE-4856-B96D-ACFD2FBC2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77294-528A-472C-A387-6541662A2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EC11E-E90D-40AA-85A1-C27F1D8A1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00CE9-1D17-449B-8809-9ACB980D4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D3638-EE4F-4BF8-9D2A-10313D08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A4761-2F9C-4071-A231-EC1C892A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704AE-5B6D-4532-8DF7-2F65042B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1D45D-27B4-4E39-A2EE-ACE4E250B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EF3A5-0DF1-4A58-B339-5A8720AE5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6F033-0A94-4705-BB88-27F9688E3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D6948-A148-4A75-861B-11CAA5FBE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EF74-B0B5-4203-9222-FFF7800F2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D9441-86D8-473F-88D7-C894E6C68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11E79-F879-46E4-B135-578D445D3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64516-65CC-4E87-B4DA-C92CE89E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FBDE9-CFC7-4891-92E2-B2FFD9F15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D9427-27F8-469E-8FB8-58F8E9D0C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C1D8F-B92A-4455-8D2A-2EC0B8E3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9BAF2-A5F0-47D9-ADC4-1B2443BD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DB2B1-65DD-4E5C-92E0-80F4F2E1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DA033-2767-43C7-B5AC-27EDE7CDD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D7F9B-9163-4FF9-B664-47528F6A9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E33B-C6AA-4639-80BA-EB70E74B6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1DA79-C8EA-4120-98B0-360AA69F4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F420B-C5C0-4BA1-9403-225BDE285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A119B-CB12-4FAB-BF0B-E41A2B631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32E32-84F7-4D04-9822-3E99DC538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04C82-8E88-4626-A153-E1E63CDDA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0CE87-6595-4EB6-BEE5-ABDADF40B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41147-55BA-4B2C-8261-9B8B7D1CC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6C8B8-F557-4BDD-9331-F9A2718B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3EA5D-14D7-4C25-97C0-66741AB7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97044-FCAF-4C02-83B6-822F211F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0B70-E2C1-41B7-9E16-4CCDA225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912E5-A4E1-40EF-9722-EFB802A52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5F397-A54F-4D50-838C-EAF4FF0D6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15D026-7FE8-4A9C-9187-066B0E8E4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91743-54A3-4D00-B46D-AF0D319B5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AEA49-A7AC-44BF-AB9B-764C719EC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D8B1B-3982-41B3-8999-9B1439DC6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4E23CB-C519-4575-A5EA-65965D2F0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8D03F-8C2A-48CB-8EF9-A89D8BE2A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47E57-BE7E-4E07-8516-D2F21536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9EAE09-3702-4FE9-8DA3-82931377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DEDA-5AF8-477E-966E-60BE3FFC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F1D697-4141-47E1-BA01-B48D056E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71960-5A2C-4280-9C37-D95F61F9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7B8B8-1E6F-47EC-A48C-EB0C1D967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B2B557-F495-4F6D-8B65-21EA56FA0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711545-0D78-45D2-ABCB-C730DDD94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12B850-3853-41FA-8122-C71BC347C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43F0E3-06E3-42E7-B343-B3EE5AF8F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BD3BEE-0D36-430D-9191-FB7D45AE7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0DEA55-63F5-4934-B2C4-D8D6041C2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926EC-E567-42E8-A293-B069C8DCB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52F3-2462-4B60-A1A2-6EBE1E9F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7F8C2F-807E-44E8-913A-6847D816E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FB09B-E654-4204-AB0E-3B4EFC9B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81305D-17EC-486C-A52A-096556FF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214B9E-C8AA-46B6-803A-F59C6E03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E2C713-4CD4-4441-BB14-0FDE08849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92AAA7-F0FD-4A6D-B890-5E459FB5C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7E16F6-8ABC-4AEE-9AD9-DB244B06A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A9D075-A79F-4B0E-AD3A-5E345F244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1B2DCD-2DE5-4F9E-B066-30FB74B3C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CA3BC0-E9FF-4DB8-87A7-BB9A9CC8A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652E0-D908-4969-AB2A-75A84A28EEA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FB5CE-F874-4C00-B841-1818E0E7357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CDA1A-CC17-413D-A32A-1BBC3B4BC28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F1A87-7293-42A3-8627-632873AC591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82763-7D65-4900-B3C7-BC4BFE3DD07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2D018-A41D-4B63-BA0A-CE72C74E33A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61160-35D9-462B-A685-09483004389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CCBCB-68B2-4B69-A658-1C2A5A7E6E7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E7F83-15DE-4A3F-8352-794F70BD92E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9.png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28400" y="642600"/>
            <a:ext cx="8458200" cy="57150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beec9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beec9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beec9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beec9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beec9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beec9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beec9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beec9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ddd2b1"/>
                </a:solidFill>
                <a:latin typeface="Franklin Gothic Book"/>
              </a:rPr>
              <a:t> </a:t>
            </a:r>
            <a:endParaRPr b="0" lang="en-US" sz="1300" spc="-1" strike="noStrike">
              <a:solidFill>
                <a:srgbClr val="fbeec9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beec9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beec9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beec9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2060"/>
                </a:solidFill>
                <a:latin typeface="Franklin Gothic Book"/>
              </a:rPr>
              <a:t>           </a:t>
            </a:r>
            <a:endParaRPr b="0" lang="en-US" sz="2100" spc="-1" strike="noStrike">
              <a:solidFill>
                <a:srgbClr val="fbeec9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beec9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Franklin Gothic Book"/>
              </a:rPr>
              <a:t>                          </a:t>
            </a:r>
            <a:r>
              <a:rPr b="0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тематика. 4 класс.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</a:t>
            </a:r>
            <a:r>
              <a:rPr b="0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ма: «Умножение и деление чисел, 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</a:t>
            </a:r>
            <a:r>
              <a:rPr b="0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канчивающихся нулями»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beec9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beec9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beec9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beec9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beec9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beec9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beec9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beec9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beec9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beec9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298440" y="324000"/>
            <a:ext cx="8699400" cy="110808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beec9"/>
                </a:solidFill>
                <a:latin typeface="Franklin Gothic Book"/>
              </a:rPr>
              <a:t>  </a:t>
            </a:r>
            <a:r>
              <a:rPr b="0" lang="ru-RU" sz="3200" spc="-1" strike="noStrike">
                <a:solidFill>
                  <a:srgbClr val="fbeec9"/>
                </a:solidFill>
                <a:latin typeface="Times New Roman"/>
                <a:ea typeface="Times New Roman"/>
              </a:rPr>
              <a:t>Скорость машины 90 км/ час. Расстояние между городами 370км .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beec9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fbeec9"/>
                </a:solidFill>
                <a:latin typeface="Times New Roman"/>
                <a:ea typeface="Times New Roman"/>
              </a:rPr>
              <a:t>Можно ли доехать из одного города в другой 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beec9"/>
                </a:solidFill>
                <a:latin typeface="Times New Roman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fbeec9"/>
                </a:solidFill>
                <a:latin typeface="Times New Roman"/>
                <a:ea typeface="Times New Roman"/>
              </a:rPr>
              <a:t>за 4 часа?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pic>
        <p:nvPicPr>
          <p:cNvPr id="412" name="Picture 2" descr="D:\Documents and Settings\ALEX\Рабочий стол\SOFT\av-26290.jpg"/>
          <p:cNvPicPr/>
          <p:nvPr/>
        </p:nvPicPr>
        <p:blipFill>
          <a:blip r:embed="rId2"/>
          <a:stretch/>
        </p:blipFill>
        <p:spPr>
          <a:xfrm>
            <a:off x="2500200" y="1841400"/>
            <a:ext cx="227988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884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356760" y="1642680"/>
            <a:ext cx="8643960" cy="5000760"/>
          </a:xfrm>
          <a:prstGeom prst="rect">
            <a:avLst/>
          </a:prstGeom>
          <a:solidFill>
            <a:srgbClr val="f8e19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х4=360(км) ?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0-360=10(км) ?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10 км ?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pic>
        <p:nvPicPr>
          <p:cNvPr id="415" name="Picture 4" descr="Сова_большая Копировать"/>
          <p:cNvPicPr/>
          <p:nvPr/>
        </p:nvPicPr>
        <p:blipFill>
          <a:blip r:embed="rId2"/>
          <a:stretch/>
        </p:blipFill>
        <p:spPr>
          <a:xfrm>
            <a:off x="5929200" y="2357280"/>
            <a:ext cx="28846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07964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304920" y="1356840"/>
            <a:ext cx="8686800" cy="47228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  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дин кролик за сутки съедает 3 морковки. Сколько морковок нужно для 20 кроликов на неделю?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pic>
        <p:nvPicPr>
          <p:cNvPr id="418" name="Picture 2" descr="D:\Documents and Settings\ALEX\Мои документы\Раиса Валентиновна\Новая папка (2)\DSC03950.JPG"/>
          <p:cNvPicPr/>
          <p:nvPr/>
        </p:nvPicPr>
        <p:blipFill>
          <a:blip r:embed="rId2"/>
          <a:stretch/>
        </p:blipFill>
        <p:spPr>
          <a:xfrm>
            <a:off x="3000240" y="1785960"/>
            <a:ext cx="250056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1"/>
          <a:stretch/>
        </p:blipFill>
        <p:spPr>
          <a:xfrm>
            <a:off x="298440" y="15228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285840" y="1214280"/>
            <a:ext cx="8686800" cy="5429520"/>
          </a:xfrm>
          <a:prstGeom prst="rect">
            <a:avLst/>
          </a:prstGeom>
          <a:solidFill>
            <a:srgbClr val="f5e3d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х20=80(мор.) 20 кроликам на 1 день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х7=560(мор.) на неделю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560 мор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pic>
        <p:nvPicPr>
          <p:cNvPr id="421" name="Picture 5" descr="Ворона_обычная"/>
          <p:cNvPicPr/>
          <p:nvPr/>
        </p:nvPicPr>
        <p:blipFill>
          <a:blip r:embed="rId2"/>
          <a:stretch/>
        </p:blipFill>
        <p:spPr>
          <a:xfrm>
            <a:off x="6072120" y="1285920"/>
            <a:ext cx="2428920" cy="28573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61" descr="Незнайка 1"/>
          <p:cNvPicPr/>
          <p:nvPr/>
        </p:nvPicPr>
        <p:blipFill>
          <a:blip r:embed="rId3"/>
          <a:stretch/>
        </p:blipFill>
        <p:spPr>
          <a:xfrm>
            <a:off x="2714760" y="1571760"/>
            <a:ext cx="194472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884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304920" y="1553760"/>
            <a:ext cx="8686800" cy="4660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beec9"/>
                </a:solidFill>
                <a:latin typeface="Franklin Gothic Book"/>
              </a:rPr>
              <a:t>           </a:t>
            </a:r>
            <a:r>
              <a:rPr b="0" lang="ru-RU" sz="3200" spc="-1" strike="noStrike">
                <a:solidFill>
                  <a:srgbClr val="fbeec9"/>
                </a:solidFill>
                <a:latin typeface="Times New Roman"/>
                <a:ea typeface="Times New Roman"/>
              </a:rPr>
              <a:t>Бычок весит 4  центнера. 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beec9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3200" spc="-1" strike="noStrike">
                <a:solidFill>
                  <a:srgbClr val="fbeec9"/>
                </a:solidFill>
                <a:latin typeface="Times New Roman"/>
                <a:ea typeface="Times New Roman"/>
              </a:rPr>
              <a:t>Сколько весят 5 таких бычков?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beec9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3200" spc="-1" strike="noStrike">
                <a:solidFill>
                  <a:srgbClr val="fbeec9"/>
                </a:solidFill>
                <a:latin typeface="Times New Roman"/>
                <a:ea typeface="Times New Roman"/>
              </a:rPr>
              <a:t>Сколько тонн это будет?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pic>
        <p:nvPicPr>
          <p:cNvPr id="425" name="Picture 2" descr="D:\Documents and Settings\ALEX\Мои документы\Раиса Валентиновна\Новая папка (2)\DSC03948.JPG"/>
          <p:cNvPicPr/>
          <p:nvPr/>
        </p:nvPicPr>
        <p:blipFill>
          <a:blip r:embed="rId2"/>
          <a:stretch/>
        </p:blipFill>
        <p:spPr>
          <a:xfrm>
            <a:off x="2643120" y="1571760"/>
            <a:ext cx="300060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Заголовок 1" descr=""/>
          <p:cNvPicPr/>
          <p:nvPr/>
        </p:nvPicPr>
        <p:blipFill>
          <a:blip r:embed="rId1"/>
          <a:stretch/>
        </p:blipFill>
        <p:spPr>
          <a:xfrm>
            <a:off x="298440" y="189000"/>
            <a:ext cx="8699400" cy="115236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285840" y="1214280"/>
            <a:ext cx="8686800" cy="5500800"/>
          </a:xfrm>
          <a:prstGeom prst="rect">
            <a:avLst/>
          </a:prstGeom>
          <a:solidFill>
            <a:srgbClr val="f8e19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х5=20(ц) 5 бычков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ц=2т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х5=200(кг) 5 бычков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 кг=2 т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pic>
        <p:nvPicPr>
          <p:cNvPr id="428" name="Picture 61" descr="Незнайка 1"/>
          <p:cNvPicPr/>
          <p:nvPr/>
        </p:nvPicPr>
        <p:blipFill>
          <a:blip r:embed="rId2"/>
          <a:stretch/>
        </p:blipFill>
        <p:spPr>
          <a:xfrm>
            <a:off x="6000840" y="1571760"/>
            <a:ext cx="1944720" cy="226836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5" descr="AN00790_[1]"/>
          <p:cNvPicPr/>
          <p:nvPr/>
        </p:nvPicPr>
        <p:blipFill>
          <a:blip r:embed="rId3"/>
          <a:stretch/>
        </p:blipFill>
        <p:spPr>
          <a:xfrm>
            <a:off x="6215040" y="4429080"/>
            <a:ext cx="163656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Заголовок 1" descr=""/>
          <p:cNvPicPr/>
          <p:nvPr/>
        </p:nvPicPr>
        <p:blipFill>
          <a:blip r:embed="rId1"/>
          <a:stretch/>
        </p:blipFill>
        <p:spPr>
          <a:xfrm>
            <a:off x="298440" y="115920"/>
            <a:ext cx="8699400" cy="115236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304920" y="1285560"/>
            <a:ext cx="8686800" cy="47941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равли летят на высоте 8 км,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си поднимаются на высоту 7000 м.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летит выше и на сколько?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Заголовок 1" descr=""/>
          <p:cNvPicPr/>
          <p:nvPr/>
        </p:nvPicPr>
        <p:blipFill>
          <a:blip r:embed="rId1"/>
          <a:stretch/>
        </p:blipFill>
        <p:spPr>
          <a:xfrm>
            <a:off x="298440" y="115920"/>
            <a:ext cx="8699400" cy="115236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285840" y="1214280"/>
            <a:ext cx="8686800" cy="5429520"/>
          </a:xfrm>
          <a:prstGeom prst="rect">
            <a:avLst/>
          </a:prstGeom>
          <a:solidFill>
            <a:srgbClr val="f6c78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км=8000 м       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00-7000= 1000 (м) выше журавли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: на 1 км выше журавли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Заголовок 1" descr=""/>
          <p:cNvPicPr/>
          <p:nvPr/>
        </p:nvPicPr>
        <p:blipFill>
          <a:blip r:embed="rId1"/>
          <a:stretch/>
        </p:blipFill>
        <p:spPr>
          <a:xfrm>
            <a:off x="298440" y="122400"/>
            <a:ext cx="8699400" cy="103644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 txBox="1"/>
          <p:nvPr/>
        </p:nvSpPr>
        <p:spPr>
          <a:xfrm>
            <a:off x="304920" y="1142640"/>
            <a:ext cx="8686800" cy="5429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beec9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х4 =                           200х5=                             300:50=</a:t>
            </a:r>
            <a:endParaRPr b="0" lang="en-US" sz="1800" spc="-1" strike="noStrike">
              <a:solidFill>
                <a:srgbClr val="fbeec9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beec9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0х40=                    200х50 =                              4000х5=</a:t>
            </a:r>
            <a:endParaRPr b="0" lang="en-US" sz="1800" spc="-1" strike="noStrike">
              <a:solidFill>
                <a:srgbClr val="fbeec9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beec9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0х70=                      260х20 =                             140х50=</a:t>
            </a:r>
            <a:endParaRPr b="0" lang="en-US" sz="1800" spc="-1" strike="noStrike">
              <a:solidFill>
                <a:srgbClr val="fbeec9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beec9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0х500 =                  72000:60 =                           48000:30=</a:t>
            </a:r>
            <a:endParaRPr b="0" lang="en-US" sz="1800" spc="-1" strike="noStrike">
              <a:solidFill>
                <a:srgbClr val="fbeec9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beec9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000:130=                    68000:170=                           10000:50=</a:t>
            </a:r>
            <a:endParaRPr b="0" lang="en-US" sz="1800" spc="-1" strike="noStrike">
              <a:solidFill>
                <a:srgbClr val="fbeec9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beec9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0:1000=                       90000:90 =                            20000:40=</a:t>
            </a:r>
            <a:endParaRPr b="0" lang="en-US" sz="1800" spc="-1" strike="noStrike">
              <a:solidFill>
                <a:srgbClr val="fbeec9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beec9"/>
                </a:solidFill>
                <a:latin typeface="Franklin Gothic Book"/>
              </a:rPr>
              <a:t>             </a:t>
            </a:r>
            <a:endParaRPr b="0" lang="en-US" sz="1800" spc="-1" strike="noStrike">
              <a:solidFill>
                <a:srgbClr val="fbeec9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Picture 2" descr=""/>
          <p:cNvPicPr/>
          <p:nvPr/>
        </p:nvPicPr>
        <p:blipFill>
          <a:blip r:embed="rId1"/>
          <a:stretch/>
        </p:blipFill>
        <p:spPr>
          <a:xfrm>
            <a:off x="0" y="1020600"/>
            <a:ext cx="9144000" cy="41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285840" y="428760"/>
            <a:ext cx="8858160" cy="62863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beec9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beec9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 урока:</a:t>
            </a:r>
            <a:endParaRPr b="0" lang="en-US" sz="2400" spc="-1" strike="noStrike">
              <a:solidFill>
                <a:srgbClr val="fbeec9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</a:t>
            </a: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Закрепить умения умножения и деления </a:t>
            </a:r>
            <a:endParaRPr b="0" lang="en-US" sz="2400" spc="-1" strike="noStrike">
              <a:solidFill>
                <a:srgbClr val="fbeec9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</a:t>
            </a: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исел,    </a:t>
            </a:r>
            <a:endParaRPr b="0" lang="en-US" sz="2400" spc="-1" strike="noStrike">
              <a:solidFill>
                <a:srgbClr val="fbeec9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</a:t>
            </a: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канчивающихся нулями.</a:t>
            </a:r>
            <a:endParaRPr b="0" lang="en-US" sz="2400" spc="-1" strike="noStrike">
              <a:solidFill>
                <a:srgbClr val="fbeec9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</a:t>
            </a: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Развивать внимание, логическое мышление.</a:t>
            </a:r>
            <a:endParaRPr b="0" lang="en-US" sz="2400" spc="-1" strike="noStrike">
              <a:solidFill>
                <a:srgbClr val="fbeec9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</a:t>
            </a: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Воспитывать ответственность и  </a:t>
            </a:r>
            <a:endParaRPr b="0" lang="en-US" sz="2400" spc="-1" strike="noStrike">
              <a:solidFill>
                <a:srgbClr val="fbeec9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</a:t>
            </a: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ккуратность. </a:t>
            </a:r>
            <a:endParaRPr b="0" lang="en-US" sz="2400" spc="-1" strike="noStrike">
              <a:solidFill>
                <a:srgbClr val="fbeec9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beec9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Заголовок 1" descr=""/>
          <p:cNvPicPr/>
          <p:nvPr/>
        </p:nvPicPr>
        <p:blipFill>
          <a:blip r:embed="rId1"/>
          <a:stretch/>
        </p:blipFill>
        <p:spPr>
          <a:xfrm>
            <a:off x="298440" y="384120"/>
            <a:ext cx="8699400" cy="103680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 txBox="1"/>
          <p:nvPr/>
        </p:nvSpPr>
        <p:spPr>
          <a:xfrm>
            <a:off x="285840" y="1500120"/>
            <a:ext cx="8686800" cy="4929120"/>
          </a:xfrm>
          <a:prstGeom prst="rect">
            <a:avLst/>
          </a:prstGeom>
          <a:solidFill>
            <a:srgbClr val="f8e19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х40= 200            у : 200=50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Содержимое 5" descr="Безымянный.bmp"/>
          <p:cNvPicPr/>
          <p:nvPr/>
        </p:nvPicPr>
        <p:blipFill>
          <a:blip r:embed="rId1"/>
          <a:stretch/>
        </p:blipFill>
        <p:spPr>
          <a:xfrm>
            <a:off x="214200" y="428760"/>
            <a:ext cx="871560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3" descr=""/>
          <p:cNvPicPr/>
          <p:nvPr/>
        </p:nvPicPr>
        <p:blipFill>
          <a:blip r:embed="rId1"/>
          <a:stretch/>
        </p:blipFill>
        <p:spPr>
          <a:xfrm>
            <a:off x="428760" y="1643040"/>
            <a:ext cx="85834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"/>
          <p:cNvPicPr/>
          <p:nvPr/>
        </p:nvPicPr>
        <p:blipFill>
          <a:blip r:embed="rId1"/>
          <a:stretch/>
        </p:blipFill>
        <p:spPr>
          <a:xfrm>
            <a:off x="1309680" y="2500200"/>
            <a:ext cx="6676920" cy="18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"/>
          <p:cNvPicPr/>
          <p:nvPr/>
        </p:nvPicPr>
        <p:blipFill>
          <a:blip r:embed="rId1"/>
          <a:stretch/>
        </p:blipFill>
        <p:spPr>
          <a:xfrm>
            <a:off x="285840" y="2357280"/>
            <a:ext cx="864396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2" descr=""/>
          <p:cNvPicPr/>
          <p:nvPr/>
        </p:nvPicPr>
        <p:blipFill>
          <a:blip r:embed="rId1"/>
          <a:stretch/>
        </p:blipFill>
        <p:spPr>
          <a:xfrm>
            <a:off x="1000080" y="2857680"/>
            <a:ext cx="714384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298440" y="255600"/>
            <a:ext cx="8699400" cy="1517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8" name=""/>
          <p:cNvGraphicFramePr/>
          <p:nvPr/>
        </p:nvGraphicFramePr>
        <p:xfrm>
          <a:off x="285840" y="2357280"/>
          <a:ext cx="8553240" cy="1428840"/>
        </p:xfrm>
        <a:graphic>
          <a:graphicData uri="http://schemas.openxmlformats.org/drawingml/2006/table">
            <a:tbl>
              <a:tblPr/>
              <a:tblGrid>
                <a:gridCol w="1425600"/>
                <a:gridCol w="1425600"/>
                <a:gridCol w="1630080"/>
                <a:gridCol w="1220760"/>
                <a:gridCol w="1425600"/>
                <a:gridCol w="1425600"/>
              </a:tblGrid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428760" y="173160"/>
            <a:ext cx="8572320" cy="65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06:09:39Z</dcterms:created>
  <dc:creator>alex</dc:creator>
  <dc:description/>
  <dc:language>en-US</dc:language>
  <cp:lastModifiedBy>alex</cp:lastModifiedBy>
  <dcterms:modified xsi:type="dcterms:W3CDTF">2012-11-04T05:39:01Z</dcterms:modified>
  <cp:revision>37</cp:revision>
  <dc:subject/>
  <dc:title>Слайд 1</dc:title>
</cp:coreProperties>
</file>