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EF5-7ECE-4D6F-8353-F389CC76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7C3-62B0-424E-904A-2710C96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E5B-760A-4787-86C7-B85C1D8F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67D-B2F4-4995-BC11-E6DBB6B0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D808-8700-4E8F-B615-40C8C29E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C632-1A91-4DC7-811A-619411F2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75E7-6C1A-4B63-AEFC-8F4C2E00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1E2D-5976-4605-A82C-C8B6EA94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FA2C-0C9D-4D3B-8E6F-F0C5C7E8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FCA2-071B-449F-B331-F5F0130E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3B75-439D-405C-B83F-9ABA7359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715-CA79-48E2-956D-098BCA71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9E85-B5A6-4042-91E6-039D3DEA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F293-E8C9-44FA-BE7A-75AABE0F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3EF8-444D-4CCD-A637-E479B6F9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B96E-E375-41AF-86C3-65CE0534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7497-C31A-46E5-9EE9-40D2D574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2CB-CC6C-4AEC-B77E-6BB72154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70D-42A0-4EC9-83CC-D3F80094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92F-8E2E-4D32-B51F-E186EC8C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E70-5F1E-4515-BDBA-C5F69BBC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27B-3C6E-4DA0-AA7E-2E16FCC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1B7-F656-485E-9BDB-90CBD8DA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3DF-DEA2-4D28-85A1-AFFEC0F1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F5A2-67F2-4383-BE77-6B761CDFE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E6B3-1177-49BA-BE35-420E990A8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33.xml"/><Relationship Id="rId10" Type="http://schemas.openxmlformats.org/officeDocument/2006/relationships/slide" Target="slide34.xml"/><Relationship Id="rId11" Type="http://schemas.openxmlformats.org/officeDocument/2006/relationships/slide" Target="slide35.xml"/><Relationship Id="rId12" Type="http://schemas.openxmlformats.org/officeDocument/2006/relationships/slide" Target="slide36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ворческий проект по технологии по теме «Вышивка крестом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440" y="4051080"/>
            <a:ext cx="626256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Жерда Ангел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Калбазова Ирина Иван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одар- 2012го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AutoShape 8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9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12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вышив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иёмы древнерусского шитья 15 – 17 веков золотом и жемчугом на церковных облачениях начинают с 18 века применяться в вышивке на праздничном наряде русских крестьянок. Относительно постоянство основного набора мотивов в народной вышивке не исключало появления в ней новых сюжетов, подсказанных жизнью, и орнаментов, идущих из придворного или религиозного искусства. Но эти новые мотивы довольно скоро трансформировались трактовкой, присущей народному искусству той или иной страны, и органически включались в традиции композиц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 народной вышивке, обычно ограничивавшейся вначале 1-2 цветами нитей, каждый вновь вводимый цвет подчинялся прежним, отчего народная вышивка долго удерживала национальное своеобразие цветового строя и, став многоцветной, не впадала в пестрот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вышив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, в большинстве районов России в народной вышивке 18 и 19 веков (преимущественной счётной) доминирует огненно-яркий красный цвет с вкраплениями синего и чёрного – в смоленской вышивке, в сочетании с белым и синим – в тульской, с зелёным – в калужской, с чёрным – в тамбовской, с многоцветным дополнением – в каргопольской. В ней наряду с мотивами, восходящими к древним славянским культам (ромб – символ Солнца в вышивке центральных районов, 3-частные геральдические сцены с матерью-богиней или древом жизни посредине – в вышивке северных районов), уже в начале 19 века появляются изображения барсов и орлов, взятые с узоров привозных тканей и включаемые на Солнце в симметричные 3-частные композиции, а в центр, районах – в ряды 3-полосных фриз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вологодских вышивках часто встречаются цветы тюльпана и граната, листья аканта, идущие от тканей 17 века, сцены гулянья, поездок в карете, навеянные лубком; нередко они сочетаются со своеобразно трактованными барочными раковинами и рокайльными завитками; счётная вышивка постепенно сменяется «свободным» тамбурным шво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вышив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вышивке южных районов (главным образом в воронежской) со 2-й половины 19 века господствует яркая полихромия; плотное, «ковровое» шитьё поражает тонкой цветовой гармонией и энергией ритмических ударов чёрного. Ряд народных вышивных промыслов возник во 2-й половине 19 века в результате закрытия монастырских и помещичьих мастерских (мстёрское шитьё белой гладью, торжковское золотое шитьё и другие). Бывшие крепостные мастерицы, усвоившие приёмы и пластический строй вышивок для верхних слоев общества, при работе на рынок «от себя» постепенно сближают свои изделия по характеру и духу с народной вышивкой. Фигурные композиции приобретают обобщённость и ритмическую строгость симметричных построений, орнамент — плоскостно-силуэтную трактовк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68706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вышив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развитием фабричного производства во 2-й половины 19 века народная вышивка в промышленно развитых странах переживает упадок. Не выдерживая конкуренции с машинной вышивкой, она постепенно лишается своих художественных традиций и вырождается в подражание фабричным образцам. Новую жизнь народная вышивка обрела в СССР и в странах, идущих по социалистическому пути развития, где поддерживаются действующие и возрождаются угасавшие её центры как средоточие высокого мастерства и художественного вкуса, где к работе с объединёнными в производственные комбинаты мастерами привлекаются обученные в вузах художники. Возрождение народной вышивки благотворно сказалось и на художественном качестве машинной вышивки, например, саратовской, в которой осваиваются мотивы белой строчки поселка Крестцы (Новгородская обл.), вышивка Ивановской и Горьковской областей, гладьевой вышивкой Мстё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шивка является также одним из самых распространённых и популярных видов самодеятельного искусства и домашнего рукодел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вета для вышивк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7040" y="391968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14" descr="Image3"/>
          <p:cNvPicPr/>
          <p:nvPr/>
        </p:nvPicPr>
        <p:blipFill>
          <a:blip r:embed="rId1"/>
          <a:stretch/>
        </p:blipFill>
        <p:spPr>
          <a:xfrm>
            <a:off x="539640" y="2217600"/>
            <a:ext cx="3772080" cy="107028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7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18">
            <a:hlinkClick r:id="rId2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AutoShape 19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AutoShape 20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21" descr=""/>
          <p:cNvPicPr/>
          <p:nvPr/>
        </p:nvPicPr>
        <p:blipFill>
          <a:blip r:embed="rId3"/>
          <a:stretch/>
        </p:blipFill>
        <p:spPr>
          <a:xfrm>
            <a:off x="4919760" y="1700280"/>
            <a:ext cx="2965320" cy="2392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700000" y="51055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я вышив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6870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4160" y="1828440"/>
            <a:ext cx="798984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Organization Chart 6"/>
          <p:cNvGrpSpPr/>
          <p:nvPr/>
        </p:nvGrpSpPr>
        <p:grpSpPr>
          <a:xfrm>
            <a:off x="682560" y="1812960"/>
            <a:ext cx="7632360" cy="3600000"/>
            <a:chOff x="682560" y="1812960"/>
            <a:chExt cx="7632360" cy="3600000"/>
          </a:xfrm>
        </p:grpSpPr>
        <p:cxnSp>
          <p:nvCxnSpPr>
            <p:cNvPr id="240" name="_s1028"/>
            <p:cNvCxnSpPr>
              <a:stCxn id="241" idx="1"/>
              <a:endCxn id="242" idx="2"/>
            </p:cNvCxnSpPr>
            <p:nvPr/>
          </p:nvCxnSpPr>
          <p:spPr>
            <a:xfrm rot="10800000">
              <a:off x="5346000" y="3869280"/>
              <a:ext cx="424440" cy="128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1029"/>
            <p:cNvCxnSpPr>
              <a:stCxn id="244" idx="1"/>
              <a:endCxn id="245" idx="2"/>
            </p:cNvCxnSpPr>
            <p:nvPr/>
          </p:nvCxnSpPr>
          <p:spPr>
            <a:xfrm rot="10800000">
              <a:off x="1953720" y="3869280"/>
              <a:ext cx="424440" cy="128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1030"/>
            <p:cNvCxnSpPr>
              <a:stCxn id="247" idx="1"/>
              <a:endCxn id="242" idx="2"/>
            </p:cNvCxnSpPr>
            <p:nvPr/>
          </p:nvCxnSpPr>
          <p:spPr>
            <a:xfrm rot="10800000">
              <a:off x="5346000" y="3870000"/>
              <a:ext cx="424440" cy="51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1031"/>
            <p:cNvCxnSpPr>
              <a:stCxn id="249" idx="1"/>
              <a:endCxn id="245" idx="2"/>
            </p:cNvCxnSpPr>
            <p:nvPr/>
          </p:nvCxnSpPr>
          <p:spPr>
            <a:xfrm rot="10800000">
              <a:off x="1953720" y="3870000"/>
              <a:ext cx="424440" cy="51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1032"/>
            <p:cNvCxnSpPr>
              <a:stCxn id="242" idx="0"/>
              <a:endCxn id="251" idx="2"/>
            </p:cNvCxnSpPr>
            <p:nvPr/>
          </p:nvCxnSpPr>
          <p:spPr>
            <a:xfrm flipV="1" rot="16200000">
              <a:off x="4369320" y="2378520"/>
              <a:ext cx="257760" cy="1696680"/>
            </a:xfrm>
            <a:prstGeom prst="bentConnector3">
              <a:avLst>
                <a:gd name="adj1" fmla="val 443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1033"/>
            <p:cNvCxnSpPr>
              <a:stCxn id="245" idx="0"/>
              <a:endCxn id="251" idx="2"/>
            </p:cNvCxnSpPr>
            <p:nvPr/>
          </p:nvCxnSpPr>
          <p:spPr>
            <a:xfrm flipH="1" flipV="1" rot="5400000">
              <a:off x="2673360" y="2378520"/>
              <a:ext cx="257760" cy="1696680"/>
            </a:xfrm>
            <a:prstGeom prst="bentConnector3">
              <a:avLst>
                <a:gd name="adj1" fmla="val 443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" name="_s1034"/>
            <p:cNvCxnSpPr>
              <a:stCxn id="254" idx="0"/>
              <a:endCxn id="255" idx="2"/>
            </p:cNvCxnSpPr>
            <p:nvPr/>
          </p:nvCxnSpPr>
          <p:spPr>
            <a:xfrm flipV="1" rot="16200000">
              <a:off x="5747760" y="1713240"/>
              <a:ext cx="257760" cy="1484280"/>
            </a:xfrm>
            <a:prstGeom prst="bentConnector3">
              <a:avLst>
                <a:gd name="adj1" fmla="val 443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1035"/>
            <p:cNvCxnSpPr>
              <a:stCxn id="251" idx="0"/>
              <a:endCxn id="255" idx="2"/>
            </p:cNvCxnSpPr>
            <p:nvPr/>
          </p:nvCxnSpPr>
          <p:spPr>
            <a:xfrm flipH="1" flipV="1" rot="5400000">
              <a:off x="4263480" y="1712880"/>
              <a:ext cx="257760" cy="1485000"/>
            </a:xfrm>
            <a:prstGeom prst="bentConnector3">
              <a:avLst>
                <a:gd name="adj1" fmla="val 443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5" name="_s1036"/>
            <p:cNvSpPr/>
            <p:nvPr/>
          </p:nvSpPr>
          <p:spPr>
            <a:xfrm>
              <a:off x="3862800" y="1812960"/>
              <a:ext cx="2544120" cy="514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ВОЛОКНА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_s1037"/>
            <p:cNvSpPr/>
            <p:nvPr/>
          </p:nvSpPr>
          <p:spPr>
            <a:xfrm>
              <a:off x="2378520" y="2584440"/>
              <a:ext cx="2544120" cy="514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Натуральные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_s1038"/>
            <p:cNvSpPr/>
            <p:nvPr/>
          </p:nvSpPr>
          <p:spPr>
            <a:xfrm>
              <a:off x="5346720" y="2584440"/>
              <a:ext cx="2544120" cy="514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Химические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_s1039"/>
            <p:cNvSpPr/>
            <p:nvPr/>
          </p:nvSpPr>
          <p:spPr>
            <a:xfrm>
              <a:off x="682560" y="3355920"/>
              <a:ext cx="2544120" cy="514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Растительного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происхождения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_s1040"/>
            <p:cNvSpPr/>
            <p:nvPr/>
          </p:nvSpPr>
          <p:spPr>
            <a:xfrm>
              <a:off x="4074480" y="3355920"/>
              <a:ext cx="2544120" cy="514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Животного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происхождения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_s1041"/>
            <p:cNvSpPr/>
            <p:nvPr/>
          </p:nvSpPr>
          <p:spPr>
            <a:xfrm>
              <a:off x="2378520" y="4127400"/>
              <a:ext cx="2544120" cy="514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Хлопок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_s1042"/>
            <p:cNvSpPr/>
            <p:nvPr/>
          </p:nvSpPr>
          <p:spPr>
            <a:xfrm>
              <a:off x="5770800" y="4127400"/>
              <a:ext cx="2544120" cy="514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Шерсть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_s1043"/>
            <p:cNvSpPr/>
            <p:nvPr/>
          </p:nvSpPr>
          <p:spPr>
            <a:xfrm>
              <a:off x="2378520" y="4898880"/>
              <a:ext cx="2544120" cy="514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Лен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_s1044"/>
            <p:cNvSpPr/>
            <p:nvPr/>
          </p:nvSpPr>
          <p:spPr>
            <a:xfrm>
              <a:off x="5770800" y="4898880"/>
              <a:ext cx="2544120" cy="514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Шелк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7" name="AutoShape 26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27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AutoShape 28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AutoShape 29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3771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олокно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это тонкие, гибкие и прочные тел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локно → Нити → Ткан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Хлопок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многолетний кустарник, родина – Индия, произрастает в регионах с жарким климатом – Узбекистания, Туркмении, Таджикистания. Плод – коробочка, внутри которой располагается волокно. Волокно белое, длиной около 5 сантиметров, тонкое, извилистое, легкое, мягкое, пушистое, не блестит (матовое), горит хорошо ярким пламенем, остаток – серый пепел, запах – жженой бумаг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15" descr="Хлопок"/>
          <p:cNvPicPr/>
          <p:nvPr/>
        </p:nvPicPr>
        <p:blipFill>
          <a:blip r:embed="rId1"/>
          <a:stretch/>
        </p:blipFill>
        <p:spPr>
          <a:xfrm>
            <a:off x="5462640" y="193356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8" descr="Хлопок 2"/>
          <p:cNvPicPr/>
          <p:nvPr/>
        </p:nvPicPr>
        <p:blipFill>
          <a:blip r:embed="rId2"/>
          <a:stretch/>
        </p:blipFill>
        <p:spPr>
          <a:xfrm>
            <a:off x="5464080" y="3716280"/>
            <a:ext cx="2055960" cy="22878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9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20">
            <a:hlinkClick r:id="rId3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AutoShape 21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AutoShape 22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68706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Лен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– однолетняя трава, произрастает в регионах с умеренным климатом (Украина, Белоруссия, Прибалтика, центральная полоса России). Волокно находится в стебле. Длина волокна около 70 сантиметров, волокно прямое, ровное, жесткое, грубое. По цвету серое, не блестит (матовое), горит хорошо, быстро, остаток – серый пепел, запах – жженой бумаг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Я использовала натуральные волокна, так как они экологически чисты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187596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Comic Sans MS"/>
              </a:rPr>
              <a:t>Основная часть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549440" y="4051080"/>
            <a:ext cx="626256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68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68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68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68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авила техники безопасности при работе с иголками и булавкам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Иголки и булавки хранить в специальном месте (подушечки, игольниц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Нельзя пользоваться погнутыми или ржавыми иголка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Нельзя иголку брать в рот или втыкать в одежд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Если игла упадет, её обязательно нужно найт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осле работы желательно оставлять небольшую ниточк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о окончании работы убедиться, что все иглы и булавки на месте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вед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Мотивация выбор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История вышивк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   Материаловеден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mic Sans MS"/>
              </a:rPr>
              <a:t>Цвета для вышивк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Техника безопасност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Эскиз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Техника выполн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Самоконтрол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1" action="ppaction://hlinksldjump"/>
              </a:rPr>
              <a:t>Экономическое обоснован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2" action="ppaction://hlinksldjump"/>
              </a:rPr>
              <a:t>Используемая литератур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5">
            <a:hlinkClick r:id="rId13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35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6870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хника безопас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авила техники безопасности при работе с ножницам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ередавать кольцами вперед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е класть на край стол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Не делать резких движени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Не держать острием вверх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В нерабочем положении концы должны быть сомкну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о окончании работы убрать на мест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ски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AutoShape 10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AutoShape 11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AutoShape 12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AutoShape 13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ожья коров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" name="Picture 15" descr=""/>
          <p:cNvPicPr/>
          <p:nvPr/>
        </p:nvPicPr>
        <p:blipFill>
          <a:blip r:embed="rId2"/>
          <a:stretch/>
        </p:blipFill>
        <p:spPr>
          <a:xfrm>
            <a:off x="218448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хника выпол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Счетный крест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ожалуй, самый старинный и, бесспорно, самый простой в исполнении вышивальный шов – это счетный крест, с помощью которого рукодельницы всех стран мира выполняют причудливые узоры на салфетках, скатертях и одежд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четный крест используется по-разному. Им можно оформить кайму или «заполнить» детали, обведенные контуром. Шов крестиком особенно подходит для вышивки букв и повторяющихся узоров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хника выпол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Ткань для вышивки кресто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рестом обычно вышивают на тканях с равномерным переплетением нитей, таких, например, как «Аида», либо по канве – так гораздо проще считать нитки. Каждый крестик должен образовывать идеальный квадрат, то есть оба стежка должны выполняться с захватом равного количества ните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хника выпол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Использование схе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исунки для вышивки крестом всегда представлены в виде схем, где одна клетка обозначает один вышитый крестик. Подобные схемы – большое подспорье, ведь с их помощью можно буквально поштучно подсчитать количество крестиков в готовом узоре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хника выпол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ышивание крестико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уществуют разные способы вышивки крестом. Выполняя несколько отдельных крестиков, лучше всего, прежде чем переходить к следующему крестику, закончить предыдущий. Если же вы вышиваете крестики рядами или работаете на ткани с равномерным переплетением нитей, сначала выполните ряд диагональных стежков в одном направлении, а затем «накройте» их диагональными стежками в другом направлении. Тогда у вас получатся ровные ряды аккуратных крестиков с одинаковым натяжением нит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еобходимо, чтобы верхние диагональные стежки крестиков были выполнены в одном направлении. В противном случае они будут смотреться как ошибочны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хника выпол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Контуры и детал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бъемные узоры или декоративные линейные детали вышивают крестиком в комбинации со швом «назад иглу». При выполнении этого шва, так же как и крестика, необходимо подсчитывать нити ткани. Только в этом случае получится аккуратный 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традиции такие узоры выполняют в одно сложение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хника выпол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НА ЗАМЕТКУ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ед началом работы нужно провести на схеме вертикальную и горизонтальную линии по центру и выполнить эти же линии на ткани наметочными стежками. Вышивать начинают от точки пересечения лини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хника выполн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3733920"/>
            <a:ext cx="331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полните диагональный стежок справа налево и вниз, протяните иглу с ниткой на изнаночную сторону, а затем вколите в ту точку, которая будет вершиной левого верхнего уголка крестика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5148360" y="3692520"/>
            <a:ext cx="3089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Закончите крестик, выполнив второй диагональный стежок, пересекающий первый, и вколите иглу в правый нижний угол крест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Picture 11" descr="1_1"/>
          <p:cNvPicPr/>
          <p:nvPr/>
        </p:nvPicPr>
        <p:blipFill>
          <a:blip r:embed="rId1"/>
          <a:stretch/>
        </p:blipFill>
        <p:spPr>
          <a:xfrm>
            <a:off x="1635120" y="1828800"/>
            <a:ext cx="1873080" cy="1752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1_2"/>
          <p:cNvPicPr/>
          <p:nvPr/>
        </p:nvPicPr>
        <p:blipFill>
          <a:blip r:embed="rId2"/>
          <a:stretch/>
        </p:blipFill>
        <p:spPr>
          <a:xfrm>
            <a:off x="5559480" y="1828800"/>
            <a:ext cx="1873080" cy="175248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13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14">
            <a:hlinkClick r:id="rId3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AutoShape 15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AutoShape 16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5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хника выполн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98560" y="3733920"/>
            <a:ext cx="28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полните диагональный стежок из верхнего правого угла в нижний левый. Выведите иглу на лицевую сторону и сделайте параллельный стежок. Продолжайте до завершения ряда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5148360" y="3692520"/>
            <a:ext cx="28083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Затем выполните второй ряд диагональных стежков в противоположном направлении, то есть двигаясь от верхнего левого угла к нижнему правому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8" name="Picture 13" descr="2_1"/>
          <p:cNvPicPr/>
          <p:nvPr/>
        </p:nvPicPr>
        <p:blipFill>
          <a:blip r:embed="rId1"/>
          <a:stretch/>
        </p:blipFill>
        <p:spPr>
          <a:xfrm>
            <a:off x="1623960" y="1828800"/>
            <a:ext cx="1893960" cy="1752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4" descr="2_2"/>
          <p:cNvPicPr/>
          <p:nvPr/>
        </p:nvPicPr>
        <p:blipFill>
          <a:blip r:embed="rId2"/>
          <a:stretch/>
        </p:blipFill>
        <p:spPr>
          <a:xfrm>
            <a:off x="5546880" y="1828800"/>
            <a:ext cx="1898640" cy="175248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15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AutoShape 16">
            <a:hlinkClick r:id="rId3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AutoShape 17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AutoShape 18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Comic Sans MS"/>
              </a:rPr>
              <a:t>Введение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49440" y="4051080"/>
            <a:ext cx="626256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хника выполн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8560" y="3644640"/>
            <a:ext cx="3168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ведите иглу на лицевую сторону ткани, потом вколите ее в ткань, отступив вправо на несколько нитей (или на один квадрат ткани). Выведите нитку на лицевую сторону, вколов иглу перед начальной точкой стежка и отсчитав столько же нитей, как и первый раз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4716360" y="3645000"/>
            <a:ext cx="338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отягивайте иглу одним движением через обе точки или выполняйте два действия по отдельности, если ткань натянута на пяльцах. Таким же образом выполните в ряд последующие стежки, причем они должны быть одинаковой длины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7" name="Picture 13" descr="3_1"/>
          <p:cNvPicPr/>
          <p:nvPr/>
        </p:nvPicPr>
        <p:blipFill>
          <a:blip r:embed="rId1"/>
          <a:stretch/>
        </p:blipFill>
        <p:spPr>
          <a:xfrm>
            <a:off x="1341360" y="1828800"/>
            <a:ext cx="2460600" cy="1752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3_2"/>
          <p:cNvPicPr/>
          <p:nvPr/>
        </p:nvPicPr>
        <p:blipFill>
          <a:blip r:embed="rId2"/>
          <a:stretch/>
        </p:blipFill>
        <p:spPr>
          <a:xfrm>
            <a:off x="5283360" y="1828800"/>
            <a:ext cx="2423880" cy="175248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5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AutoShape 16">
            <a:hlinkClick r:id="rId3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AutoShape 17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AutoShape 18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5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хника выпол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Ткани с равномерным переплетением ните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известная хлопчатобумажная ткань с равномерным переплетением нитей называется «Аида». Три образца, приведенные на рисунке внизу, вышиты именно на «Аиде», а четвертый - на самой тонкой хлопчатобумажной ткани «Хардангер». В каждом образце свой «счет», то есть на каждые 10 см приходится определенное количество дырочек (достаточно больших, чтобы протянуть иголку с ниткой). Между дырочками всегда находится одинаковое число нитей утка и основ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хника выпол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09800" y="2579760"/>
            <a:ext cx="3771720" cy="20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ак показано на рисунке, фактура ткани влияет на размер каждого крестика, а следовательно, и на размер готового рисунк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3" descr="4"/>
          <p:cNvPicPr/>
          <p:nvPr/>
        </p:nvPicPr>
        <p:blipFill>
          <a:blip r:embed="rId1"/>
          <a:stretch/>
        </p:blipFill>
        <p:spPr>
          <a:xfrm>
            <a:off x="685800" y="2166840"/>
            <a:ext cx="3772080" cy="298152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1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AutoShape 15">
            <a:hlinkClick r:id="rId2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AutoShape 1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AutoShape 1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амоконтроль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о время вышивания работы я следила за тем, чтобы количество крестиков совпадало со схемо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Comic Sans MS"/>
              </a:rPr>
              <a:t>Заключение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549440" y="4051080"/>
            <a:ext cx="626256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768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7" dur="768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9" dur="768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1" dur="768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кономическое обоснова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абор (ткань + иголка + нитки) = 50руб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яльцы – 20 руб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Итого: 70 руб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Журнал «Креативное рукоделие» 2007 год №2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Большая Советская Энциклопедия, том 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отивация выб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Я выбрала творческий проект по теме «Вышивка крестом», так как мне нравится вышивать. Это очень интересное и увлекательное занятие, потому что из белого полотна ткани и ниток получается произведение искусств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шивать я научилась сама. Первые крестики у меня были не ровными, кривыми, «фальшивыми» (т.е. было разное направление нитей). Но потом со временем начали получаться ровные, красивые крестик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вышив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озникновение вышивки относится к древнейшим временам и связано с появлением стежка, шва на одеждах из шкур животных. Усовершенствование её техники обусловлено переходом от каменного и костяного шила к костяной игле, затем – к бронзовой и позднее – к стальной, а также развитием прядения, ткачества, красильного дела и т. д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Её эволюция прослеживается по изображениям вышивок в памятниках искусства древних цивилизаций Азии, Европы, Америки, по литературным источникам, а также по сохранившимся образцам вышивок разных времён и народов. Сложившиеся в давние века у отдельных народностей и этнических групп традиции узорной вышивки (с характерными для них местными композициями и техническими приёмами, орнаментальными и изобразительными мотивами, цветовым строем и т. д.)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6870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стория вышив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ольше всего сохраняются и развиваются в украшении бытовых предметов и в особенности одежды, удерживаясь в ряде стран до наших дней в народном творчестве. Эти традиции проступают и в узорной вышивке для верхушечных слоев общества (например, в шитье испанского придворного костюма 16 века), более подверженной воздействию общей стилевой эволюции искусств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снее связана с развитием современного ей изобразительного искусства сюжетная вышивка. Яркими её образцами являются и самые ранние из сохранившихся вышивок – седельные покрышки с типичными для скифо-сибирского «звериного стиля» фигурами животных, и расшитые стилизованными фигурами человека-ягуара древнеперуанские мантии из некрополя в Паракас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радиционные для Китая вышитые панно, в особенности известные с 14 века «сюхуа» («живопись иглой»), стилистически близки к китайской пейзажной живописи тушью на шёлке. Древнерусская сюжетная вышивка (шитьё) на церковных облачениях, покрывалах и прочих в ранних образцах (сохранились с 12 века) связана с византийской иконописной традицией и отличается идущей от Византии тягой к богатой цветовой игре естественного материала (шёлк фона, золотые нити, жемчуг)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8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9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11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стория вышив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шитья 14 – 17 веков характерны свойственные русской иконе выразительность общего силуэта фигур (нередко усиленная контурной линией из жемчуга) и чистота изысканных цветовых сочетаний. Присущие романской миниатюре плоскостность и подчёркнутая экспрессия контура своеобразно преломились в вышитом фризе – так называемом ковре из Байё (около 1080, Музей королевы Матильды, Байё), на котором с наивной непосредственностью сплошными рядами размещены изображения эпизодов из истории завоевания Англии норманна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ихромная готическая вышивка с применением золотых нитей и жемчуга соединила в себе идущую от эмали яркость, стрельчатые обрамления отдельных фигур и сцен, сближающие вышивку с витражом, и распространённый в миниатюре приём объединения сцен в повествовательные циклы. Ажурной монохромностью фасада готического собора навеяна вышивкой «белым по белому», появившаяся в 13 – 14 веках в Германии и в Англии. Она достигла в 15 – 16 веках высшего расцвета в венецианском кружеве (вид вышивки крючком)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68706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вышив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эпоху Возрождения вышивка отличается высоким техническим совершенством и художественной тонкостью. Картоны для вышивки выполняют видные живописцы (Перуджино, Боттичелли и другие). Во Фландрии появляются вышитые алтарные пелены с заключёнными в широкие орнаментальные полосы самостоятельными многофигурными композициями. Вышивка сближается с алтарным образом, со станковой картиной. В эпоху барокко и раннего классицизма сюжетная вышивка всё чаще имитирует шпалеры или гротесковые настенные росписи дворцов, и, хотя в этот период создаются такие первоклассные ансамбли вышивок, как отделка стеклярусного кабинета Китайского дворца в Ораниенбауме (ныне город Ломоносов), вышивка постепенно деградирует, становясь к середине 19 века главным образом средством воспроизведения популярных картин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вышив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остижения сюжетной вышивки быстро усваивались и перерабатывались в узорной вышивке (шитьё парадных костюмов, особенно сложное и изысканное в 17 – 18 вв.). В преображённом виде новые приёмы выступали как органический элемент народной вышивки, которая вбирала в себя из нового лишь то, что было созвучно её традициям и поддавалось переработке в близком им духе. Так, в Германии, Франции, Швеции, Норвегии, Дании характерные для народного искусства этих стран узоры стали с 18 века вышиваться на одежде крестьян гладью «белым по белому», а в скандинавских странах, кроме того, в технике, навеянной английской церковью шитьём 16 века и сочетавшей шерсть, шёлк, золотые и серебряные нит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4">
            <a:hlinkClick r:id="" action="ppaction://hlinkshowjump?jump=previousslide"/>
          </p:cNvPr>
          <p:cNvSpPr/>
          <p:nvPr/>
        </p:nvSpPr>
        <p:spPr>
          <a:xfrm>
            <a:off x="76690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5">
            <a:hlinkClick r:id="rId1" action="ppaction://hlinksldjump"/>
          </p:cNvPr>
          <p:cNvSpPr/>
          <p:nvPr/>
        </p:nvSpPr>
        <p:spPr>
          <a:xfrm>
            <a:off x="80280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6">
            <a:hlinkClick r:id="" action="ppaction://hlinkshowjump?jump=nextslide"/>
          </p:cNvPr>
          <p:cNvSpPr/>
          <p:nvPr/>
        </p:nvSpPr>
        <p:spPr>
          <a:xfrm>
            <a:off x="83883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7">
            <a:hlinkClick r:id="" action="ppaction://hlinkshowjump?jump=firstslide"/>
          </p:cNvPr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36" h="21600">
                <a:moveTo>
                  <a:pt x="11923" y="14281"/>
                </a:moveTo>
                <a:lnTo>
                  <a:pt x="11923" y="12323"/>
                </a:lnTo>
                <a:cubicBezTo>
                  <a:pt x="11923" y="11496"/>
                  <a:pt x="12254" y="10800"/>
                  <a:pt x="12855" y="10800"/>
                </a:cubicBezTo>
                <a:cubicBezTo>
                  <a:pt x="13986" y="10800"/>
                  <a:pt x="14883" y="9434"/>
                  <a:pt x="14883" y="7849"/>
                </a:cubicBezTo>
                <a:cubicBezTo>
                  <a:pt x="14883" y="5534"/>
                  <a:pt x="13029" y="3794"/>
                  <a:pt x="10818" y="3794"/>
                </a:cubicBezTo>
                <a:cubicBezTo>
                  <a:pt x="8607" y="3794"/>
                  <a:pt x="6936" y="5534"/>
                  <a:pt x="6936" y="7849"/>
                </a:cubicBezTo>
                <a:lnTo>
                  <a:pt x="8790" y="7849"/>
                </a:lnTo>
                <a:cubicBezTo>
                  <a:pt x="8790" y="6709"/>
                  <a:pt x="9713" y="5821"/>
                  <a:pt x="10818" y="5821"/>
                </a:cubicBezTo>
                <a:cubicBezTo>
                  <a:pt x="11923" y="5821"/>
                  <a:pt x="12855" y="6709"/>
                  <a:pt x="12855" y="7849"/>
                </a:cubicBezTo>
                <a:cubicBezTo>
                  <a:pt x="12855" y="8589"/>
                  <a:pt x="12385" y="9320"/>
                  <a:pt x="11923" y="9320"/>
                </a:cubicBezTo>
                <a:cubicBezTo>
                  <a:pt x="10818" y="9320"/>
                  <a:pt x="9713" y="10800"/>
                  <a:pt x="9713" y="12323"/>
                </a:cubicBezTo>
                <a:lnTo>
                  <a:pt x="97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03:53:03Z</dcterms:created>
  <dc:creator>Александр</dc:creator>
  <dc:description/>
  <dc:language>en-US</dc:language>
  <cp:lastModifiedBy>Lu</cp:lastModifiedBy>
  <dcterms:modified xsi:type="dcterms:W3CDTF">2012-11-04T19:03:39Z</dcterms:modified>
  <cp:revision>60</cp:revision>
  <dc:subject/>
  <dc:title>Творческий проект по технологии по теме «Вышивка крестом»</dc:title>
</cp:coreProperties>
</file>