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6C2-51AE-422F-B4CE-024A527E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BB1-DFE5-415B-AAE7-D87EA4C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624-E2B9-4CC7-A048-33C86B58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1E4-451E-451C-AE78-754F565F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3B3-41EF-49F7-8B67-6F2E0A86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16F-D1F7-4AE4-AD25-77432BB0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EA4-AEB0-4A28-B7EE-FA5343D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A6-4152-4AF3-8340-B88F1FA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2E6-A273-408B-9004-B70EDF4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BEE-B9C1-43FC-B934-55DF641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19B-403A-4A89-B98D-FDAC99A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8EC-09D3-4EE1-B06C-8FD1717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0396-FFF3-4C56-B5B6-9A1CDB138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ути ведут к зн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ь размышления – это путь самый благород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ь подражания – это путь самый лег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ь опыта – это путь самый гор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итайский философ и мудрец Конфу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571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22928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12"/>
          <p:cNvPicPr/>
          <p:nvPr/>
        </p:nvPicPr>
        <p:blipFill>
          <a:blip r:embed="rId2"/>
          <a:stretch/>
        </p:blipFill>
        <p:spPr>
          <a:xfrm>
            <a:off x="685800" y="1600200"/>
            <a:ext cx="3811680" cy="179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42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АХУН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4260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ник состоит из 223 больших кам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067200" cy="2200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934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685800" y="22860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а карте прямыми линиями соединить деревни: Ангехакот, Брун, Карахундж и Брнакот друг с другом, то получится точный параллелограмм. При этом, на большой диагонали последней окажется памятник Карахундж грифа и будет делить диагональ в отношении ¼ и 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точке пересечения диагоналей полученного параллелограмма есть большое захоронение. Этот удивительный параллелограмм еще ждет своего объяс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983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сно поддерживает ребенка, комфорт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е врез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завяз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у, что у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шены концы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полу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алень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81360" y="1600200"/>
            <a:ext cx="4562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ма велосип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505320" cy="649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4470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медной проволоки, длиной 30 см, изготовить параллелограмм, стороны которого относятся как 2 :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01"/>
          <p:cNvPicPr/>
          <p:nvPr/>
        </p:nvPicPr>
        <p:blipFill>
          <a:blip r:embed="rId1"/>
          <a:srcRect l="0" t="0" r="0" b="22856"/>
          <a:stretch/>
        </p:blipFill>
        <p:spPr>
          <a:xfrm>
            <a:off x="990720" y="1981080"/>
            <a:ext cx="286200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рить ширину озера?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4354560" cy="4267440"/>
          </a:xfrm>
          <a:prstGeom prst="rect">
            <a:avLst/>
          </a:prstGeom>
          <a:ln w="0">
            <a:noFill/>
          </a:ln>
        </p:spPr>
      </p:pic>
      <p:sp>
        <p:nvSpPr>
          <p:cNvPr id="86" name="Полилиния 7"/>
          <p:cNvSpPr/>
          <p:nvPr/>
        </p:nvSpPr>
        <p:spPr>
          <a:xfrm>
            <a:off x="1454040" y="2824200"/>
            <a:ext cx="2005200" cy="1131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иагональная полоса 12"/>
          <p:cNvSpPr/>
          <p:nvPr/>
        </p:nvSpPr>
        <p:spPr>
          <a:xfrm rot="13054200">
            <a:off x="3080880" y="1253520"/>
            <a:ext cx="4038840" cy="19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вести через пункт С дорогу, параллельную дороге, соединяющие пункты А и 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6242040" y="2743200"/>
            <a:ext cx="2901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ни А,  В,  С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расположены в вершинах параллелограмма. В каком месте следует построить мост через реку, чтобы он был одинаково удален от всех дерев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590920" y="52578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6781680" y="4191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8"/>
          <p:cNvSpPr/>
          <p:nvPr/>
        </p:nvSpPr>
        <p:spPr>
          <a:xfrm flipV="1">
            <a:off x="2666880" y="3381480"/>
            <a:ext cx="2438640" cy="885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4495680" y="4800240"/>
            <a:ext cx="2286000" cy="80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1"/>
          <p:cNvSpPr/>
          <p:nvPr/>
        </p:nvSpPr>
        <p:spPr>
          <a:xfrm>
            <a:off x="2666880" y="4238640"/>
            <a:ext cx="1828800" cy="1400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3"/>
          <p:cNvSpPr/>
          <p:nvPr/>
        </p:nvSpPr>
        <p:spPr>
          <a:xfrm>
            <a:off x="5105520" y="3381480"/>
            <a:ext cx="1752480" cy="1419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3351960" y="2971800"/>
            <a:ext cx="2057400" cy="289548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7"/>
          <p:cNvSpPr/>
          <p:nvPr/>
        </p:nvSpPr>
        <p:spPr>
          <a:xfrm>
            <a:off x="3885480" y="2666880"/>
            <a:ext cx="2057400" cy="28958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1066680" y="12193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ешение задач по тем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ллелограммы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вокруг на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вести через пункт N дорогу, чтобы  расстояние по ней от этого пункта до железной дороги и до канала были рав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343400" cy="332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04"/>
          <p:cNvPicPr/>
          <p:nvPr/>
        </p:nvPicPr>
        <p:blipFill>
          <a:blip r:embed="rId2"/>
          <a:srcRect l="17150" t="0" r="0" b="0"/>
          <a:stretch/>
        </p:blipFill>
        <p:spPr>
          <a:xfrm>
            <a:off x="6141960" y="2906640"/>
            <a:ext cx="20638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151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нтре площади расположен фонтан, около которого надо разбить четыре клумбы с розами. Как рассадить 36 кустов роз – по 10 кустов на каждой клумбе – с таким расчетом, чтобы фонтан был одинаково удален от всех клум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торонам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3581280" y="2514600"/>
            <a:ext cx="3733560" cy="3419280"/>
            <a:chOff x="3581280" y="2514600"/>
            <a:chExt cx="3733560" cy="3419280"/>
          </a:xfrm>
        </p:grpSpPr>
        <p:sp>
          <p:nvSpPr>
            <p:cNvPr id="112" name="AutoShape 24"/>
            <p:cNvSpPr/>
            <p:nvPr/>
          </p:nvSpPr>
          <p:spPr>
            <a:xfrm>
              <a:off x="3581280" y="2514600"/>
              <a:ext cx="3733560" cy="34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3891960" y="2824200"/>
              <a:ext cx="3114720" cy="279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2"/>
            <p:cNvSpPr/>
            <p:nvPr/>
          </p:nvSpPr>
          <p:spPr>
            <a:xfrm>
              <a:off x="5447160" y="2824200"/>
              <a:ext cx="0" cy="27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3891960" y="4380120"/>
              <a:ext cx="31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5447160" y="3446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V="1">
              <a:off x="5067720" y="3445920"/>
              <a:ext cx="69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 flipH="1">
              <a:off x="6069960" y="4068000"/>
              <a:ext cx="31068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4514760" y="4068000"/>
              <a:ext cx="309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H="1">
              <a:off x="5135760" y="5002200"/>
              <a:ext cx="623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4988880" y="3821040"/>
              <a:ext cx="916200" cy="9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Овал 27"/>
          <p:cNvSpPr/>
          <p:nvPr/>
        </p:nvSpPr>
        <p:spPr>
          <a:xfrm>
            <a:off x="373392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8"/>
          <p:cNvSpPr/>
          <p:nvPr/>
        </p:nvSpPr>
        <p:spPr>
          <a:xfrm>
            <a:off x="411480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9"/>
          <p:cNvSpPr/>
          <p:nvPr/>
        </p:nvSpPr>
        <p:spPr>
          <a:xfrm>
            <a:off x="441972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0"/>
          <p:cNvSpPr/>
          <p:nvPr/>
        </p:nvSpPr>
        <p:spPr>
          <a:xfrm>
            <a:off x="472428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1"/>
          <p:cNvSpPr/>
          <p:nvPr/>
        </p:nvSpPr>
        <p:spPr>
          <a:xfrm>
            <a:off x="510552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32"/>
          <p:cNvSpPr/>
          <p:nvPr/>
        </p:nvSpPr>
        <p:spPr>
          <a:xfrm>
            <a:off x="541008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3"/>
          <p:cNvSpPr/>
          <p:nvPr/>
        </p:nvSpPr>
        <p:spPr>
          <a:xfrm>
            <a:off x="579132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34"/>
          <p:cNvSpPr/>
          <p:nvPr/>
        </p:nvSpPr>
        <p:spPr>
          <a:xfrm>
            <a:off x="617220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5"/>
          <p:cNvSpPr/>
          <p:nvPr/>
        </p:nvSpPr>
        <p:spPr>
          <a:xfrm>
            <a:off x="655308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6"/>
          <p:cNvSpPr/>
          <p:nvPr/>
        </p:nvSpPr>
        <p:spPr>
          <a:xfrm>
            <a:off x="6934320" y="2666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37"/>
          <p:cNvSpPr/>
          <p:nvPr/>
        </p:nvSpPr>
        <p:spPr>
          <a:xfrm>
            <a:off x="7010280" y="29718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38"/>
          <p:cNvSpPr/>
          <p:nvPr/>
        </p:nvSpPr>
        <p:spPr>
          <a:xfrm>
            <a:off x="7010280" y="3352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39"/>
          <p:cNvSpPr/>
          <p:nvPr/>
        </p:nvSpPr>
        <p:spPr>
          <a:xfrm>
            <a:off x="7010280" y="373392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40"/>
          <p:cNvSpPr/>
          <p:nvPr/>
        </p:nvSpPr>
        <p:spPr>
          <a:xfrm>
            <a:off x="7010280" y="40384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41"/>
          <p:cNvSpPr/>
          <p:nvPr/>
        </p:nvSpPr>
        <p:spPr>
          <a:xfrm>
            <a:off x="7010280" y="43434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2"/>
          <p:cNvSpPr/>
          <p:nvPr/>
        </p:nvSpPr>
        <p:spPr>
          <a:xfrm>
            <a:off x="7010280" y="45720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43"/>
          <p:cNvSpPr/>
          <p:nvPr/>
        </p:nvSpPr>
        <p:spPr>
          <a:xfrm>
            <a:off x="7010280" y="487692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4"/>
          <p:cNvSpPr/>
          <p:nvPr/>
        </p:nvSpPr>
        <p:spPr>
          <a:xfrm>
            <a:off x="7010280" y="52578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5"/>
          <p:cNvSpPr/>
          <p:nvPr/>
        </p:nvSpPr>
        <p:spPr>
          <a:xfrm>
            <a:off x="3657600" y="29718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46"/>
          <p:cNvSpPr/>
          <p:nvPr/>
        </p:nvSpPr>
        <p:spPr>
          <a:xfrm>
            <a:off x="3657600" y="42670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47"/>
          <p:cNvSpPr/>
          <p:nvPr/>
        </p:nvSpPr>
        <p:spPr>
          <a:xfrm>
            <a:off x="3657600" y="396252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48"/>
          <p:cNvSpPr/>
          <p:nvPr/>
        </p:nvSpPr>
        <p:spPr>
          <a:xfrm>
            <a:off x="701028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9"/>
          <p:cNvSpPr/>
          <p:nvPr/>
        </p:nvSpPr>
        <p:spPr>
          <a:xfrm>
            <a:off x="670572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50"/>
          <p:cNvSpPr/>
          <p:nvPr/>
        </p:nvSpPr>
        <p:spPr>
          <a:xfrm>
            <a:off x="632448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1"/>
          <p:cNvSpPr/>
          <p:nvPr/>
        </p:nvSpPr>
        <p:spPr>
          <a:xfrm>
            <a:off x="594360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52"/>
          <p:cNvSpPr/>
          <p:nvPr/>
        </p:nvSpPr>
        <p:spPr>
          <a:xfrm>
            <a:off x="563868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53"/>
          <p:cNvSpPr/>
          <p:nvPr/>
        </p:nvSpPr>
        <p:spPr>
          <a:xfrm>
            <a:off x="373392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4"/>
          <p:cNvSpPr/>
          <p:nvPr/>
        </p:nvSpPr>
        <p:spPr>
          <a:xfrm>
            <a:off x="419112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55"/>
          <p:cNvSpPr/>
          <p:nvPr/>
        </p:nvSpPr>
        <p:spPr>
          <a:xfrm>
            <a:off x="480060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56"/>
          <p:cNvSpPr/>
          <p:nvPr/>
        </p:nvSpPr>
        <p:spPr>
          <a:xfrm>
            <a:off x="5257800" y="5638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57"/>
          <p:cNvSpPr/>
          <p:nvPr/>
        </p:nvSpPr>
        <p:spPr>
          <a:xfrm>
            <a:off x="3657600" y="33526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58"/>
          <p:cNvSpPr/>
          <p:nvPr/>
        </p:nvSpPr>
        <p:spPr>
          <a:xfrm>
            <a:off x="3657600" y="36576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59"/>
          <p:cNvSpPr/>
          <p:nvPr/>
        </p:nvSpPr>
        <p:spPr>
          <a:xfrm>
            <a:off x="3657600" y="457200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60"/>
          <p:cNvSpPr/>
          <p:nvPr/>
        </p:nvSpPr>
        <p:spPr>
          <a:xfrm>
            <a:off x="3657600" y="4952880"/>
            <a:ext cx="22860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61"/>
          <p:cNvSpPr/>
          <p:nvPr/>
        </p:nvSpPr>
        <p:spPr>
          <a:xfrm>
            <a:off x="3657600" y="5334120"/>
            <a:ext cx="22860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одина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ёт поршневых гидроцилиндров на пр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14680" y="1709640"/>
            <a:ext cx="651492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ллелограмм Уат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96216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541044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990720" y="3733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(практически) исключает уход моста в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685800" y="1219320"/>
            <a:ext cx="38671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амый обычный параллелограмм, стороны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ены не жестко, а с помощью шарни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те на рисунок – когда тяга пытается задрать хв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асная стрелк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362320" y="3319560"/>
            <a:ext cx="43974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397400" cy="3157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457200" y="1371600"/>
            <a:ext cx="60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чаги в это время тянут всю систему в другую сторону, компенсируя разжимающий момент (синяя стрелка). Параллельные рычаги переносят точку P в бесконечность, таким образом подвеска ведет себя так, как будто маятник у нее бесконечной длины. Аналогичным образом устроены автомобильные подвески, только там параллелограммы расположены поперек машины и призваны бороться с опрокидывающим эффектом в повор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нтограф - приспособление в виде шарнирного параллелограмма д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еречерчивания планов, чертежей, географических карт или декоративных элементов, увеличивая или уменьшая их масштаб в 1,5, 2 и 3 ра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6229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666880" y="0"/>
            <a:ext cx="3429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намент - отпечаток души на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рнамент тем и хорош, что сохраняет следы своего происхождения, как разыгранный кусок природы, животный, растительный, степной, скифский, египетский — какой угодно, национальный или варварский, —  он всегда говорящ, видящ, деятеле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 Мандельш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ntasia</dc:creator>
  <dc:description/>
  <dc:language>en-US</dc:language>
  <cp:lastModifiedBy>User</cp:lastModifiedBy>
  <dcterms:modified xsi:type="dcterms:W3CDTF">2012-11-04T14:19:1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