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160-0B44-4EDE-8062-93B137D1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902-5971-4668-8961-52DABAEC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FC4-E29C-42CA-BBF2-60967332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4CD-AD8F-4579-B4D2-FAEA9B5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BA4D-BC61-4375-965C-07E5ADEB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CD2B-3730-4163-8952-B04D2AA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4A29-DCAC-45D3-97F0-0352A2BE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481D-4893-45B3-814E-FB636DAE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F1F4-248E-4777-837D-301D53D4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A388-1B54-47A4-A3BD-6E38C6E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1714-BF73-4DE6-BA6C-60E9E93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AE6-5313-46F9-86A5-40B15A02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7090-B18F-4435-B8C4-C3F0053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3931-1553-4F7E-AAF9-66EFB8E3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9E98-9A33-428D-A01A-91D5FC8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9696-CEC9-49F3-A403-74D6775E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A8E4-7725-4C18-86AB-844A14DD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0016-CEC0-4912-8336-A7BC8BCA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D8A7-3D45-4581-AD65-8163875B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067A-8677-4FF5-B2A3-AD51CE0C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C8E2-27B4-49BA-9C55-926CBCB3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A9CD-1470-4977-93EC-90EAAB93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3E7-43F4-4FFC-BD43-33B615E3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F93A-EF23-4C2D-B251-50391077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81C4-045D-4EB5-96B6-1F4340F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0F68-4584-4CAC-9D00-EE32BE78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8893-4883-4423-985C-2B32B1C8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AC03-8225-48F1-A886-4C6EE39F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D56E-33DB-4F48-93D9-3917C6E6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35B5-F24C-4941-84D4-23F71F2A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975A-46B7-4EFF-8F08-0A0DB31F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6FC5-37DC-4EA6-9A56-8A3CB929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BF230-6CD1-41B8-90D4-C694A412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3DB-C553-44D8-9EB6-6EC2FEF5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5E1E-BD61-45BE-927F-ACF88C94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4019-647B-4E4D-A753-36E9A71B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0F121-53B2-4002-9D12-2BCF182C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990C-25FF-46AB-9217-68A95EC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0C43-B84A-4BEC-9680-C7E5310B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9302-CA00-43E3-A6D4-9D405BDB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FB3B-FAAA-49E5-AF11-B0BF8478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6D90-E382-43E5-BE1B-191060E3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69F8-9137-4F60-8DE7-42B43433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5F85-4270-4EF7-B24F-01629E48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B96-8B1B-4462-BCE9-E1AD5AAB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1D5C-4F00-431E-9A5F-0A28C764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D045-9A48-4FA0-B612-11D8643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241DF-8589-4DE4-AE4F-A405158E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9A27-CD7D-4494-96C1-9BE94355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8DCF-B10F-4850-8650-4E0A6ED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27A83-DFB1-47A7-9627-4F8F347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6A87-9D55-405E-9279-BAE3965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CEF4-D44F-4188-8F50-262F1F0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8F0F-0F9A-47A3-8CC1-E8223F94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8A9E-6885-4E51-B4FC-CF6F5F0C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368-C9C9-4349-ACFF-D197AC15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C5A4-656A-4194-99BF-7789DBDA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D7A-53F9-4DEE-B3AF-BC928AB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5CD-0826-48D7-9395-2F7B222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E73-A836-4E49-A399-4C6872E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5995-8775-4D36-BCED-B8D5D17E58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CAF4-B766-4320-9130-F4444148399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9038-834B-48E4-9C52-3095A7A08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79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0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1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2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0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3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4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6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7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0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1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3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7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8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9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0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1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2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3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4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5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6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7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8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9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0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1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2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3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4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5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6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7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8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9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0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1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232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99A-6C02-429B-AEC5-96C9061D01B8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EBC3-1FCC-40E9-97FC-2AC28E20951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684360" y="1484280"/>
            <a:ext cx="67672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dab7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Быстрый счет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dab7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dab7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без калькулятор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dab7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042920" y="5373720"/>
            <a:ext cx="6842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</a:rPr>
              <a:t>Автор работы: Зинович Анастасия, 9 класс МОУ СОШ № 12 «Центр образования г. Серпухов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</a:rPr>
              <a:t>Руководитель проекта; Крайнова Ю.А., зам.директора по НМР, учитель математики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1042920" y="5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Умножение и деление на 4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971640" y="1125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4, его дважды удваивают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258920" y="1989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971640" y="2997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разделить на 4, его дважды делят на 2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2"/>
              <p:cNvSpPr txBox="1"/>
              <p:nvPr/>
            </p:nvSpPr>
            <p:spPr>
              <a:xfrm>
                <a:off x="1619280" y="2205000"/>
                <a:ext cx="648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6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4"/>
              <p:cNvSpPr txBox="1"/>
              <p:nvPr/>
            </p:nvSpPr>
            <p:spPr>
              <a:xfrm>
                <a:off x="1042920" y="4292640"/>
                <a:ext cx="5616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16"/>
          <p:cNvSpPr/>
          <p:nvPr/>
        </p:nvSpPr>
        <p:spPr>
          <a:xfrm>
            <a:off x="1116000" y="5300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Предложите свой пример!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250920" y="5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Умножение и деление на 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50920" y="1125360"/>
            <a:ext cx="76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5,   нужно    умножить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его  на        , т.е. умножить его на 10 и разделить на 2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50920" y="342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разделить число  на 5, нужно умножить его на 0,2, т.н. в удвоенном исходном числе отделить запятой последнюю цифру.                                     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403280" y="1484280"/>
                <a:ext cx="331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250920" y="2708280"/>
                <a:ext cx="7416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0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1187280" y="5084640"/>
                <a:ext cx="4608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3"/>
              <p:cNvSpPr txBox="1"/>
              <p:nvPr/>
            </p:nvSpPr>
            <p:spPr>
              <a:xfrm>
                <a:off x="1403280" y="5805360"/>
                <a:ext cx="4176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1042920" y="1125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Умножение на 2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826920" y="184464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25,   нужно    умножить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его  на        , т.е. умножить его на 100 и разделить на 4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1835280" y="2133720"/>
                <a:ext cx="458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1116000" y="3789360"/>
                <a:ext cx="5472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800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250920" y="260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Умножение на 1,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50920" y="907920"/>
            <a:ext cx="79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1,5, нужно к исходному числу прибавить его половину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6"/>
              <p:cNvSpPr txBox="1"/>
              <p:nvPr/>
            </p:nvSpPr>
            <p:spPr>
              <a:xfrm>
                <a:off x="826920" y="2565360"/>
                <a:ext cx="6480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8"/>
              <p:cNvSpPr txBox="1"/>
              <p:nvPr/>
            </p:nvSpPr>
            <p:spPr>
              <a:xfrm>
                <a:off x="179280" y="4149720"/>
                <a:ext cx="7777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1042920" y="692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Умножение на 9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826920" y="1628640"/>
            <a:ext cx="792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9, к нему приписывают 0 и отнимают исходное число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684360" y="3357720"/>
                <a:ext cx="61927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324000" y="476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Умножение на 11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9280" y="98100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11, к нему приписывают 0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и прибавляют исходное число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6"/>
              <p:cNvSpPr txBox="1"/>
              <p:nvPr/>
            </p:nvSpPr>
            <p:spPr>
              <a:xfrm>
                <a:off x="539640" y="4365720"/>
                <a:ext cx="698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5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539640" y="2924280"/>
                <a:ext cx="648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826920" y="692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Возведение в квадрат числа, оканчивающегося цифрой 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900000" y="1628640"/>
            <a:ext cx="7921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возвести в квадрат число, оканчивающееся цифрой 5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например, 65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, умножают число его десятк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6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на число десятков, увеличенное на 1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на 6+1 = 7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, и к полученному числу приписывают 25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твет: 4225)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1116000" y="3284640"/>
                <a:ext cx="14889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2340000" y="4221000"/>
                <a:ext cx="20160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</m:groupChr>
                      </m:e>
                      <m:li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0"/>
              <p:cNvSpPr txBox="1"/>
              <p:nvPr/>
            </p:nvSpPr>
            <p:spPr>
              <a:xfrm>
                <a:off x="2268360" y="5373720"/>
                <a:ext cx="2160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6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4"/>
          <p:cNvSpPr txBox="1"/>
          <p:nvPr/>
        </p:nvSpPr>
        <p:spPr>
          <a:xfrm>
            <a:off x="2124000" y="1341360"/>
            <a:ext cx="505152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ссийская Федер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сков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Серпу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5"/>
          <p:cNvSpPr txBox="1"/>
          <p:nvPr/>
        </p:nvSpPr>
        <p:spPr>
          <a:xfrm>
            <a:off x="2843280" y="2852640"/>
            <a:ext cx="406728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л.Пушкина, д.40-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У СОШ № 1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Центр образова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WordArt 6"/>
          <p:cNvSpPr txBox="1"/>
          <p:nvPr/>
        </p:nvSpPr>
        <p:spPr>
          <a:xfrm>
            <a:off x="2340000" y="4437000"/>
            <a:ext cx="5219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л/факс (4967)37-02-7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-mail: SoshTwelff@mail.r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41:19Z</dcterms:created>
  <dc:creator>Krainova</dc:creator>
  <dc:description/>
  <dc:language>en-US</dc:language>
  <cp:lastModifiedBy>Customer</cp:lastModifiedBy>
  <dcterms:modified xsi:type="dcterms:W3CDTF">2012-11-05T10:27:59Z</dcterms:modified>
  <cp:revision>4</cp:revision>
  <dc:subject/>
  <dc:title>Слайд 1</dc:title>
</cp:coreProperties>
</file>