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8888-0786-4469-AF32-C45529CB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F570-84B6-4548-BB65-DFFD3415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D6C4-ACD4-4AF2-8662-E7C6CE24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16EB-1874-446F-A561-AADE0BD2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15D6-6920-46AE-B058-007524A4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D802-A221-432F-B7FC-5B220BF7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68BA-3705-453E-99A4-AAEEA492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387C-AE5D-46FA-AE64-CBBEEA92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33BD-F2E7-41E2-B11D-C544B451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F275-ABC2-4A3E-BE72-A2FDE144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3F14-3868-4299-BE24-7F5476F9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EA61-360E-4D41-87AC-456BB38D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b00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A706-9465-4B6E-833F-9C32CB8AF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hyperlink" Target="file:///&#1055;&#1086;&#1083;&#1077;&#1079;&#1085;&#1072;&#1103;%20&#1082;&#1072;&#1096;&#1072;.ppt" TargetMode="External"/><Relationship Id="rId10" Type="http://schemas.openxmlformats.org/officeDocument/2006/relationships/image" Target="../media/image3.jpeg"/><Relationship Id="rId11" Type="http://schemas.openxmlformats.org/officeDocument/2006/relationships/hyperlink" Target="file:///&#1054;&#1074;&#1086;&#1097;&#1080;%20&#1080;%20&#1092;&#1088;&#1091;&#1082;&#1090;&#1099;%20-%20&#1074;&#1080;&#1090;&#1072;&#1084;&#1080;&#1085;&#1085;&#1099;&#1077;%20&#1087;&#1088;&#1086;&#1076;&#1091;&#1082;&#1090;&#1099;..ppt" TargetMode="External"/><Relationship Id="rId12" Type="http://schemas.openxmlformats.org/officeDocument/2006/relationships/image" Target="../media/image3.jpeg"/><Relationship Id="rId13" Type="http://schemas.openxmlformats.org/officeDocument/2006/relationships/hyperlink" Target="file:///&#1050;&#1072;&#1082;%20&#1091;&#1090;&#1086;&#1083;&#1080;&#1090;&#1100;%20&#1078;&#1072;&#1078;&#1076;&#1091;..ppt" TargetMode="External"/><Relationship Id="rId14" Type="http://schemas.openxmlformats.org/officeDocument/2006/relationships/image" Target="../media/image3.jpeg"/><Relationship Id="rId1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hyperlink" Target="file:///&#1050;&#1088;&#1080;&#1090;&#1077;&#1088;&#1080;&#1080;%20&#1086;&#1094;&#1077;&#1085;&#1080;&#1074;&#1072;&#1085;&#1080;&#1103;.doc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b00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8713800" cy="489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2411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едметная об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89080" cy="1461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2421000"/>
            <a:ext cx="158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частники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озраст, клас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924280"/>
            <a:ext cx="19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Цели и зада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371628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пис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5084640"/>
            <a:ext cx="6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544500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лючевые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5734080"/>
            <a:ext cx="12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в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6165720"/>
            <a:ext cx="28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полнительна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2060640"/>
            <a:ext cx="58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84360" y="2060640"/>
            <a:ext cx="547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Окружающий мир, литературное чтение, изобразите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искус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060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4360" y="2565360"/>
            <a:ext cx="48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6 – 11 лет,  1 – 4 классы.  Учителя, род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852640"/>
            <a:ext cx="575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Пропаганда правильного питания; формирование  желания и готовности заботиться о своем здоровье; получение знания о старинных народных кулинарных традиц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3573360"/>
            <a:ext cx="640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Проект является коллективным творчеством учащихся 2 класса. В процессе работы ребятами собран обширный материал о пользе завтрака, из какой крупы какую кашу варят и в чем ее польза, какие обряды связаны с кашей. Собрали загадки, стихи об овощах и фруктах, сведения о пользе витаминов. Проведено интервью с работниками школьной столовой и школьным врачом о правильном питании. Узнали, чем лучше утолять жажду и почему нельзя пить газированные напи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87640" y="522936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5013360"/>
            <a:ext cx="42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Microsoft Office Word, Microsoft Office PowerPoint,  Microsoft Internet Explo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5445000"/>
            <a:ext cx="489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Сильным, здоровым, полезная, витаминные, обрядов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5734080"/>
            <a:ext cx="66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Жиделева Елена Валентиновна, школа № 31 г.Санкт-Петербур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43280" y="260280"/>
            <a:ext cx="4276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надо есть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бы быть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льным и здоровым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Document"/>
          <p:cNvSpPr/>
          <p:nvPr/>
        </p:nvSpPr>
        <p:spPr>
          <a:xfrm>
            <a:off x="7380360" y="189000"/>
            <a:ext cx="1584360" cy="2592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80360" y="26028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1. Аннотация        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51640" y="692280"/>
            <a:ext cx="16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ланирование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451640" y="1125360"/>
            <a:ext cx="15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Учебно-методические материа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451640" y="1700280"/>
            <a:ext cx="11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Оценка и станд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04000" y="213372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Об авто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843280" y="260280"/>
            <a:ext cx="4276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надо есть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бы быть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льным и здоровым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843280" y="260280"/>
            <a:ext cx="4276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надо есть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бы быть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льным и здоровым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916360" y="623736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2916360" y="623736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916360" y="623736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780000" y="623736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643280" y="6237360"/>
            <a:ext cx="287640" cy="28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b00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30200" y="1341360"/>
            <a:ext cx="8713800" cy="5516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2556000" y="260280"/>
            <a:ext cx="50608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надо есть,чтобы быть 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льным и здоровым?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1341360"/>
            <a:ext cx="633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200" spc="-1" strike="noStrike">
                <a:solidFill>
                  <a:srgbClr val="000099"/>
                </a:solidFill>
                <a:latin typeface="Arial"/>
              </a:rPr>
              <a:t>У младших школьников отсутствует культура правильного питания. Это выражается в частом отсутствии завтрака перед школой, предпочтении буфетной продукции перед горячим завтраком в школьной столовой.      Любимые продукты чипсы, сухарики, сладкие газированные напитки предпочитаются горячей каше.  Работая над проектом дети получают новые и интересные сведения и с удовольствием делятся ими друг с другом. Они понимают важность своей работы принимая на себя роль корреспондента, художника, издателя газеты, брошю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14130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ктуальность и оригиналь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4000" y="2781360"/>
            <a:ext cx="6551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99"/>
                </a:solidFill>
                <a:latin typeface="Arial"/>
              </a:rPr>
              <a:t>развитие способности к самостоятельному усвоению новых знан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99"/>
                </a:solidFill>
                <a:latin typeface="Arial"/>
              </a:rPr>
              <a:t>приобщение к истории, культуре, традициям русского наро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en-US" sz="1200" spc="-1" strike="noStrike">
                <a:solidFill>
                  <a:srgbClr val="000099"/>
                </a:solidFill>
                <a:latin typeface="Arial"/>
              </a:rPr>
              <a:t>навыки работы по составленному план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en-US" sz="1200" spc="-1" strike="noStrike">
                <a:solidFill>
                  <a:srgbClr val="000099"/>
                </a:solidFill>
                <a:latin typeface="Arial"/>
              </a:rPr>
              <a:t>навыки работы в групп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99"/>
                </a:solidFill>
                <a:latin typeface="Arial"/>
              </a:rPr>
              <a:t>умение самостоятельно отбирать учебный матери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99"/>
                </a:solidFill>
                <a:latin typeface="Arial"/>
              </a:rPr>
              <a:t>формирование вкусовых предпочтений дете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99"/>
                </a:solidFill>
                <a:latin typeface="Arial"/>
              </a:rPr>
              <a:t>увеличение числа детей, соблюдающих режим пит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99"/>
                </a:solidFill>
                <a:latin typeface="Arial"/>
              </a:rPr>
              <a:t>формирование  понимания  необходимости заботы о своем здоровь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300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99"/>
                </a:solidFill>
                <a:latin typeface="Arial"/>
              </a:rPr>
              <a:t>расширение кругозора де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306864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жидаемые результ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4724280"/>
            <a:ext cx="122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грамма про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24000" y="4724280"/>
            <a:ext cx="6624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В проект вошли следующие тем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300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«Полезная каш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300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«Овощи и фрукты – витаминные продукт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300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«Как утолить жажду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При работе были использованы программы </a:t>
            </a:r>
            <a:r>
              <a:rPr b="1" i="1" lang="en-US" sz="1200" spc="-1" strike="noStrike">
                <a:solidFill>
                  <a:srgbClr val="000099"/>
                </a:solidFill>
                <a:latin typeface="Arial"/>
              </a:rPr>
              <a:t>Microsoft Office</a:t>
            </a: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99"/>
                </a:solidFill>
                <a:latin typeface="Arial"/>
              </a:rPr>
              <a:t>PowerPoint,</a:t>
            </a: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 MS Ex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79640" y="1557360"/>
            <a:ext cx="71280" cy="49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5734080"/>
            <a:ext cx="183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разовательная     сре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634032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полнительная информ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1908000" cy="1335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5"/>
          <a:stretch/>
        </p:blipFill>
        <p:spPr>
          <a:xfrm>
            <a:off x="3851280" y="587700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6"/>
          <a:stretch/>
        </p:blipFill>
        <p:spPr>
          <a:xfrm>
            <a:off x="2268360" y="630864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140360" y="5734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Классн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комна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6237360"/>
            <a:ext cx="93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Матрица проек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b00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843280" y="260280"/>
            <a:ext cx="4276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надо есть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бы быть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льным и здоровым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7200" y="32457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MS Exe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8424720" cy="4680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89080" cy="1461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8360" y="1916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спользуем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чебные материа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3284640"/>
            <a:ext cx="28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етодические материа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422100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уководство для учащих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544500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полнительная информ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1989000"/>
            <a:ext cx="51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32000" y="1916280"/>
            <a:ext cx="532764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Интернет-ресурсы: иллюстрации, сведения о кашах, овощах, фруктах, напитках на разных сай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Загадки об овощах и фрукт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Пословицы о кашах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Стихи о полезных каш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19640" y="3346560"/>
            <a:ext cx="468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.В.Изушина «Азбука правильного питания», изд. «Учитель», Волгоград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276720" y="429264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435640" y="429264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7236000" y="0"/>
            <a:ext cx="1019160" cy="1019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3276720" y="501336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780000" y="436572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рточка работы в групп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4365720"/>
            <a:ext cx="180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Задание для работы в групп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5084640"/>
            <a:ext cx="144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дборка стихов о каш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7236000" y="0"/>
            <a:ext cx="1019160" cy="1019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5435640" y="501336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940360" y="501336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Загадки об овощах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b00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843280" y="260280"/>
            <a:ext cx="4276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надо есть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бы быть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льным и здоровым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30200" y="1727280"/>
            <a:ext cx="8029440" cy="4510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89080" cy="1461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89080" cy="14619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19280" y="5280120"/>
            <a:ext cx="5894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1989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итерии оценивания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2916360" y="1989000"/>
            <a:ext cx="574560" cy="57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2916360" y="306864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42920" y="306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меры оцени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2916360" y="1989000"/>
            <a:ext cx="574560" cy="574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116000" y="450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астие в виктор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2843280" y="436572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b00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843280" y="260280"/>
            <a:ext cx="4276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надо есть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бы быть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льным и здоровым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87640" y="5373720"/>
            <a:ext cx="525636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Проект является коллективным творчеством учащихся 2 класса. Был представлен  учащимся 1 – 4 классов, на родительском собрании, на Дне открытых дверей для родителей будущих первоклассников, на районном семинаре завучей «Проектная деятельность в начальной школе».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89080" cy="1461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627280" y="2133720"/>
            <a:ext cx="590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делева Елена Валентиновна, учитель высшей квалификационной категории, стаж работы 28 лет. Заместитель директора по УВР в начальных классах. Проектной деятельностью занимаемся с детьми на протяжении 2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62164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полнительная инфор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56000" y="3860640"/>
            <a:ext cx="590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осударственное общеобразовательное учреждение средняя общеобразовательная школа № 31 с углубленным изучением английского языка Василеостровского района Санкт-Петербур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50920" y="3645000"/>
            <a:ext cx="2017440" cy="1514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7236000" y="189000"/>
            <a:ext cx="172872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7:38:55Z</dcterms:created>
  <dc:creator>home</dc:creator>
  <dc:description/>
  <dc:language>en-US</dc:language>
  <cp:lastModifiedBy>home</cp:lastModifiedBy>
  <dcterms:modified xsi:type="dcterms:W3CDTF">2012-11-05T09:25:17Z</dcterms:modified>
  <cp:revision>28</cp:revision>
  <dc:subject/>
  <dc:title>Слайд 1</dc:title>
</cp:coreProperties>
</file>