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3.wmf" ContentType="image/x-wmf"/>
  <Override PartName="/ppt/media/image2.gif" ContentType="image/gif"/>
  <Override PartName="/ppt/media/image20.gif" ContentType="image/gif"/>
  <Override PartName="/ppt/media/image3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17.jpeg" ContentType="image/jpeg"/>
  <Override PartName="/ppt/media/image5.gif" ContentType="image/gif"/>
  <Override PartName="/ppt/media/image16.jpeg" ContentType="image/jpeg"/>
  <Override PartName="/ppt/media/image14.gif" ContentType="image/gif"/>
  <Override PartName="/ppt/media/image18.png" ContentType="image/png"/>
  <Override PartName="/ppt/media/image15.gif" ContentType="image/gif"/>
  <Override PartName="/ppt/media/image10.gif" ContentType="image/gi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691-EC62-43E8-A5D5-2694A2C4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CFA-C3D7-4F1B-8167-58E6751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43D-4C16-4359-8733-3A0D94C7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1CE-A913-476F-9D42-A63E6A88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5FC-D62D-488F-8917-EC0539FD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56E-8A82-4EB1-8397-70F43ED0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032-60A2-4083-B226-C3FFB52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CDB-E856-4BE4-84A1-3436BA0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6DA-23C1-4C92-9727-41D159D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1B7-83B1-4D35-A50D-B45CE8C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665-6751-40C4-B7DB-58AE91E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D7F-3FAE-4DA9-9D7B-473DB27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D45B-A0A4-4D69-9C96-74895CF7A8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3.gif"/><Relationship Id="rId6" Type="http://schemas.openxmlformats.org/officeDocument/2006/relationships/slide" Target="slide11.xml"/><Relationship Id="rId7" Type="http://schemas.openxmlformats.org/officeDocument/2006/relationships/image" Target="../media/image3.gif"/><Relationship Id="rId8" Type="http://schemas.openxmlformats.org/officeDocument/2006/relationships/slide" Target="slide20.xml"/><Relationship Id="rId9" Type="http://schemas.openxmlformats.org/officeDocument/2006/relationships/image" Target="../media/image3.gif"/><Relationship Id="rId10" Type="http://schemas.openxmlformats.org/officeDocument/2006/relationships/slide" Target="slide31.xml"/><Relationship Id="rId11" Type="http://schemas.openxmlformats.org/officeDocument/2006/relationships/image" Target="../media/image3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1280" y="549360"/>
            <a:ext cx="835344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ое сопровождение к урокам математики 5 класса по т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сятичные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4797360"/>
            <a:ext cx="87138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а : Михайлова ОМ, учитель математики и информа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 10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ыбо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comp1"/>
          <p:cNvPicPr/>
          <p:nvPr/>
        </p:nvPicPr>
        <p:blipFill>
          <a:blip r:embed="rId1"/>
          <a:stretch/>
        </p:blipFill>
        <p:spPr>
          <a:xfrm>
            <a:off x="3633840" y="2421000"/>
            <a:ext cx="2144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259560"/>
            <a:ext cx="7993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м дробям соответствуют точки на числовом луч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20"/>
          <p:cNvGrpSpPr/>
          <p:nvPr/>
        </p:nvGrpSpPr>
        <p:grpSpPr>
          <a:xfrm>
            <a:off x="327240" y="3068640"/>
            <a:ext cx="8565480" cy="1068840"/>
            <a:chOff x="327240" y="3068640"/>
            <a:chExt cx="8565480" cy="1068840"/>
          </a:xfrm>
        </p:grpSpPr>
        <p:sp>
          <p:nvSpPr>
            <p:cNvPr id="184" name="Text Box 21"/>
            <p:cNvSpPr/>
            <p:nvPr/>
          </p:nvSpPr>
          <p:spPr>
            <a:xfrm>
              <a:off x="327240" y="3304800"/>
              <a:ext cx="392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чка К с координат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5652720" y="3068640"/>
              <a:ext cx="64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23"/>
            <p:cNvSpPr/>
            <p:nvPr/>
          </p:nvSpPr>
          <p:spPr>
            <a:xfrm>
              <a:off x="5005080" y="3284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4644720" y="3068640"/>
              <a:ext cx="50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25"/>
            <p:cNvSpPr/>
            <p:nvPr/>
          </p:nvSpPr>
          <p:spPr>
            <a:xfrm>
              <a:off x="6229080" y="3284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6588000" y="328428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,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7235640" y="328428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К(1,2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4356000" y="328428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5364000" y="328428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37"/>
          <p:cNvGrpSpPr/>
          <p:nvPr/>
        </p:nvGrpSpPr>
        <p:grpSpPr>
          <a:xfrm>
            <a:off x="255240" y="4221000"/>
            <a:ext cx="8564400" cy="1068840"/>
            <a:chOff x="255240" y="4221000"/>
            <a:chExt cx="8564400" cy="1068840"/>
          </a:xfrm>
        </p:grpSpPr>
        <p:sp>
          <p:nvSpPr>
            <p:cNvPr id="194" name="Text Box 38"/>
            <p:cNvSpPr/>
            <p:nvPr/>
          </p:nvSpPr>
          <p:spPr>
            <a:xfrm>
              <a:off x="255240" y="4457520"/>
              <a:ext cx="39740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чка С с координат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39"/>
            <p:cNvSpPr/>
            <p:nvPr/>
          </p:nvSpPr>
          <p:spPr>
            <a:xfrm>
              <a:off x="5579640" y="4221000"/>
              <a:ext cx="64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4932000" y="443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41"/>
            <p:cNvSpPr/>
            <p:nvPr/>
          </p:nvSpPr>
          <p:spPr>
            <a:xfrm>
              <a:off x="4571640" y="4221000"/>
              <a:ext cx="50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42"/>
            <p:cNvSpPr/>
            <p:nvPr/>
          </p:nvSpPr>
          <p:spPr>
            <a:xfrm>
              <a:off x="6156000" y="443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43"/>
            <p:cNvSpPr/>
            <p:nvPr/>
          </p:nvSpPr>
          <p:spPr>
            <a:xfrm>
              <a:off x="6514920" y="443700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,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7162560" y="443700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(1,4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45"/>
            <p:cNvSpPr/>
            <p:nvPr/>
          </p:nvSpPr>
          <p:spPr>
            <a:xfrm>
              <a:off x="4282920" y="4437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5290920" y="4437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47"/>
          <p:cNvGrpSpPr/>
          <p:nvPr/>
        </p:nvGrpSpPr>
        <p:grpSpPr>
          <a:xfrm>
            <a:off x="254880" y="5445000"/>
            <a:ext cx="8564760" cy="1068840"/>
            <a:chOff x="254880" y="5445000"/>
            <a:chExt cx="8564760" cy="1068840"/>
          </a:xfrm>
        </p:grpSpPr>
        <p:sp>
          <p:nvSpPr>
            <p:cNvPr id="204" name="Text Box 48"/>
            <p:cNvSpPr/>
            <p:nvPr/>
          </p:nvSpPr>
          <p:spPr>
            <a:xfrm>
              <a:off x="254880" y="5681520"/>
              <a:ext cx="3958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чка Д с координат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49"/>
            <p:cNvSpPr/>
            <p:nvPr/>
          </p:nvSpPr>
          <p:spPr>
            <a:xfrm>
              <a:off x="5579640" y="5445000"/>
              <a:ext cx="64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50"/>
            <p:cNvSpPr/>
            <p:nvPr/>
          </p:nvSpPr>
          <p:spPr>
            <a:xfrm>
              <a:off x="4932000" y="566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51"/>
            <p:cNvSpPr/>
            <p:nvPr/>
          </p:nvSpPr>
          <p:spPr>
            <a:xfrm>
              <a:off x="4571640" y="5445000"/>
              <a:ext cx="50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52"/>
            <p:cNvSpPr/>
            <p:nvPr/>
          </p:nvSpPr>
          <p:spPr>
            <a:xfrm>
              <a:off x="6156000" y="566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53"/>
            <p:cNvSpPr/>
            <p:nvPr/>
          </p:nvSpPr>
          <p:spPr>
            <a:xfrm>
              <a:off x="6514920" y="566100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,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54"/>
            <p:cNvSpPr/>
            <p:nvPr/>
          </p:nvSpPr>
          <p:spPr>
            <a:xfrm>
              <a:off x="7162560" y="566100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(1,8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55"/>
            <p:cNvSpPr/>
            <p:nvPr/>
          </p:nvSpPr>
          <p:spPr>
            <a:xfrm>
              <a:off x="4282920" y="566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56"/>
            <p:cNvSpPr/>
            <p:nvPr/>
          </p:nvSpPr>
          <p:spPr>
            <a:xfrm>
              <a:off x="5290920" y="566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3" name="Picture 58" descr="звезда"/>
          <p:cNvPicPr/>
          <p:nvPr/>
        </p:nvPicPr>
        <p:blipFill>
          <a:blip r:embed="rId1"/>
          <a:stretch/>
        </p:blipFill>
        <p:spPr>
          <a:xfrm>
            <a:off x="7956720" y="404640"/>
            <a:ext cx="11872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60"/>
          <p:cNvGrpSpPr/>
          <p:nvPr/>
        </p:nvGrpSpPr>
        <p:grpSpPr>
          <a:xfrm>
            <a:off x="250920" y="1773360"/>
            <a:ext cx="8642160" cy="879480"/>
            <a:chOff x="250920" y="1773360"/>
            <a:chExt cx="8642160" cy="879480"/>
          </a:xfrm>
        </p:grpSpPr>
        <p:pic>
          <p:nvPicPr>
            <p:cNvPr id="215" name="Picture 3" descr="G:\Оленька\математика\30.files\img1.jpg"/>
            <p:cNvPicPr/>
            <p:nvPr/>
          </p:nvPicPr>
          <p:blipFill>
            <a:blip r:embed="rId2"/>
            <a:stretch/>
          </p:blipFill>
          <p:spPr>
            <a:xfrm>
              <a:off x="250920" y="1773360"/>
              <a:ext cx="86421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59"/>
            <p:cNvSpPr/>
            <p:nvPr/>
          </p:nvSpPr>
          <p:spPr>
            <a:xfrm>
              <a:off x="8459640" y="1844640"/>
              <a:ext cx="43344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1187280" y="476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ЕНИЕ ДЕСЯТИЧНЫХ ДРОБ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268360" y="1125360"/>
            <a:ext cx="51850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,86   и    9,31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276720" y="3068640"/>
            <a:ext cx="9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2916360" y="32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877000" y="31417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5435640" y="3357720"/>
            <a:ext cx="5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4643280" y="3284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3132000" y="4221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,8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&lt;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9,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56"/>
          <p:cNvSpPr/>
          <p:nvPr/>
        </p:nvSpPr>
        <p:spPr>
          <a:xfrm>
            <a:off x="3492360" y="479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57"/>
          <p:cNvSpPr/>
          <p:nvPr/>
        </p:nvSpPr>
        <p:spPr>
          <a:xfrm>
            <a:off x="5651640" y="4797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2340000" y="530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9"/>
          <p:cNvSpPr/>
          <p:nvPr/>
        </p:nvSpPr>
        <p:spPr>
          <a:xfrm>
            <a:off x="5148360" y="530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0"/>
          <p:cNvSpPr/>
          <p:nvPr/>
        </p:nvSpPr>
        <p:spPr>
          <a:xfrm>
            <a:off x="755640" y="5877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1"/>
          <p:cNvSpPr/>
          <p:nvPr/>
        </p:nvSpPr>
        <p:spPr>
          <a:xfrm>
            <a:off x="574560" y="566100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: меньше та десятичная дробь, у которой целая час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2050920" y="260280"/>
            <a:ext cx="51850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,86   и    7,31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060720" y="1844640"/>
            <a:ext cx="9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700360" y="20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661000" y="19177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19640" y="2133720"/>
            <a:ext cx="5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427640" y="2060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70036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,86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&gt;    7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5796000" y="378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2700360" y="4365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508720" y="4365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755640" y="5877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574560" y="515772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: если целые чисти равны, то больше та десятичная дробь, у которой дробная часть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3276720" y="364500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558000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3635280" y="378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979640" y="260280"/>
            <a:ext cx="51847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,37   и    6,299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413080" y="1844640"/>
            <a:ext cx="1294920" cy="1068840"/>
            <a:chOff x="2413080" y="1844640"/>
            <a:chExt cx="1294920" cy="1068840"/>
          </a:xfrm>
        </p:grpSpPr>
        <p:sp>
          <p:nvSpPr>
            <p:cNvPr id="248" name="Text Box 5"/>
            <p:cNvSpPr/>
            <p:nvPr/>
          </p:nvSpPr>
          <p:spPr>
            <a:xfrm>
              <a:off x="2773080" y="1844640"/>
              <a:ext cx="934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6"/>
            <p:cNvSpPr/>
            <p:nvPr/>
          </p:nvSpPr>
          <p:spPr>
            <a:xfrm>
              <a:off x="2413080" y="2060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4932360" y="1917720"/>
            <a:ext cx="1584000" cy="1068840"/>
            <a:chOff x="4932360" y="1917720"/>
            <a:chExt cx="1584000" cy="1068840"/>
          </a:xfrm>
        </p:grpSpPr>
        <p:sp>
          <p:nvSpPr>
            <p:cNvPr id="251" name="Text Box 8"/>
            <p:cNvSpPr/>
            <p:nvPr/>
          </p:nvSpPr>
          <p:spPr>
            <a:xfrm>
              <a:off x="5373000" y="1917720"/>
              <a:ext cx="114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2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4932360" y="213336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826920" y="3141720"/>
            <a:ext cx="1295640" cy="1068840"/>
            <a:chOff x="826920" y="3141720"/>
            <a:chExt cx="1295640" cy="1068840"/>
          </a:xfrm>
        </p:grpSpPr>
        <p:sp>
          <p:nvSpPr>
            <p:cNvPr id="254" name="Text Box 11"/>
            <p:cNvSpPr/>
            <p:nvPr/>
          </p:nvSpPr>
          <p:spPr>
            <a:xfrm>
              <a:off x="1187280" y="3141720"/>
              <a:ext cx="935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826920" y="33573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13"/>
          <p:cNvGrpSpPr/>
          <p:nvPr/>
        </p:nvGrpSpPr>
        <p:grpSpPr>
          <a:xfrm>
            <a:off x="2627280" y="3068640"/>
            <a:ext cx="1584000" cy="1068840"/>
            <a:chOff x="2627280" y="3068640"/>
            <a:chExt cx="1584000" cy="1068840"/>
          </a:xfrm>
        </p:grpSpPr>
        <p:sp>
          <p:nvSpPr>
            <p:cNvPr id="257" name="Text Box 14"/>
            <p:cNvSpPr/>
            <p:nvPr/>
          </p:nvSpPr>
          <p:spPr>
            <a:xfrm>
              <a:off x="3067920" y="3068640"/>
              <a:ext cx="114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2627280" y="328428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 Box 16"/>
          <p:cNvSpPr/>
          <p:nvPr/>
        </p:nvSpPr>
        <p:spPr>
          <a:xfrm>
            <a:off x="3132000" y="3213000"/>
            <a:ext cx="93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2197080" y="3284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18"/>
          <p:cNvGrpSpPr/>
          <p:nvPr/>
        </p:nvGrpSpPr>
        <p:grpSpPr>
          <a:xfrm>
            <a:off x="4427640" y="3068640"/>
            <a:ext cx="1584000" cy="1068840"/>
            <a:chOff x="4427640" y="3068640"/>
            <a:chExt cx="1584000" cy="1068840"/>
          </a:xfrm>
        </p:grpSpPr>
        <p:sp>
          <p:nvSpPr>
            <p:cNvPr id="262" name="Text Box 19"/>
            <p:cNvSpPr/>
            <p:nvPr/>
          </p:nvSpPr>
          <p:spPr>
            <a:xfrm>
              <a:off x="4868280" y="3068640"/>
              <a:ext cx="114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0"/>
            <p:cNvSpPr/>
            <p:nvPr/>
          </p:nvSpPr>
          <p:spPr>
            <a:xfrm>
              <a:off x="4427640" y="328428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21"/>
          <p:cNvGrpSpPr/>
          <p:nvPr/>
        </p:nvGrpSpPr>
        <p:grpSpPr>
          <a:xfrm>
            <a:off x="6516720" y="3141720"/>
            <a:ext cx="1584000" cy="1068840"/>
            <a:chOff x="6516720" y="3141720"/>
            <a:chExt cx="1584000" cy="1068840"/>
          </a:xfrm>
        </p:grpSpPr>
        <p:sp>
          <p:nvSpPr>
            <p:cNvPr id="265" name="Text Box 22"/>
            <p:cNvSpPr/>
            <p:nvPr/>
          </p:nvSpPr>
          <p:spPr>
            <a:xfrm>
              <a:off x="6957360" y="3141720"/>
              <a:ext cx="114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2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23"/>
            <p:cNvSpPr/>
            <p:nvPr/>
          </p:nvSpPr>
          <p:spPr>
            <a:xfrm>
              <a:off x="6516720" y="335736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24"/>
          <p:cNvSpPr/>
          <p:nvPr/>
        </p:nvSpPr>
        <p:spPr>
          <a:xfrm>
            <a:off x="4140360" y="2060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601200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414036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8028000" y="3284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971640" y="4365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.к. 6,370=6,37  и  6,370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6,299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1979640" y="53737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   6,37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6,29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258920" y="2062080"/>
            <a:ext cx="1294920" cy="1068840"/>
            <a:chOff x="1258920" y="2062080"/>
            <a:chExt cx="1294920" cy="1068840"/>
          </a:xfrm>
        </p:grpSpPr>
        <p:sp>
          <p:nvSpPr>
            <p:cNvPr id="274" name="Text Box 5"/>
            <p:cNvSpPr/>
            <p:nvPr/>
          </p:nvSpPr>
          <p:spPr>
            <a:xfrm>
              <a:off x="1618920" y="2062080"/>
              <a:ext cx="934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6"/>
            <p:cNvSpPr/>
            <p:nvPr/>
          </p:nvSpPr>
          <p:spPr>
            <a:xfrm>
              <a:off x="1258920" y="2277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059280" y="1989000"/>
            <a:ext cx="1583640" cy="1068840"/>
            <a:chOff x="3059280" y="1989000"/>
            <a:chExt cx="1583640" cy="1068840"/>
          </a:xfrm>
        </p:grpSpPr>
        <p:sp>
          <p:nvSpPr>
            <p:cNvPr id="277" name="Text Box 8"/>
            <p:cNvSpPr/>
            <p:nvPr/>
          </p:nvSpPr>
          <p:spPr>
            <a:xfrm>
              <a:off x="3499560" y="1989000"/>
              <a:ext cx="114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7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3059280" y="220464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Rectangle 10"/>
          <p:cNvSpPr/>
          <p:nvPr/>
        </p:nvSpPr>
        <p:spPr>
          <a:xfrm>
            <a:off x="2628720" y="2205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1258920" y="765000"/>
            <a:ext cx="360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мет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4716360" y="2276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4643280" y="213372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.е  6,37 = 6,3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324000" y="3429000"/>
            <a:ext cx="849600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в конце десятичной дроби приписать нуль или отбросить, то получится дробь, равная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979640" y="260280"/>
            <a:ext cx="51847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,34   и    2,159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132000" y="3213000"/>
            <a:ext cx="93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1258920" y="1989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к как  2,34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2,340 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349236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>
            <a:off x="572436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2124000" y="4005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обная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4861080" y="400536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обная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3059280" y="5013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40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159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3492360" y="450864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35"/>
          <p:cNvSpPr/>
          <p:nvPr/>
        </p:nvSpPr>
        <p:spPr>
          <a:xfrm>
            <a:off x="5724360" y="450864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2411280" y="299736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,340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2,1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1187280" y="580536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начит    2,34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2,1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9"/>
          <p:cNvSpPr/>
          <p:nvPr/>
        </p:nvSpPr>
        <p:spPr>
          <a:xfrm>
            <a:off x="6297480" y="5805360"/>
            <a:ext cx="2846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eorgi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2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80"/>
                            </p:stCondLst>
                            <p:childTnLst>
                              <p:par>
                                <p:cTn id="4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468360" y="692280"/>
            <a:ext cx="8424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Чтобы сравнить две дроби у которых равные целые части, над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начала уровнять у них число десятичных знаков, приписа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одной из них справа нул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а потом сравнить дробные ча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539640" y="2060640"/>
          <a:ext cx="8353440" cy="1920960"/>
        </p:xfrm>
        <a:graphic>
          <a:graphicData uri="http://schemas.openxmlformats.org/drawingml/2006/table">
            <a:tbl>
              <a:tblPr/>
              <a:tblGrid>
                <a:gridCol w="3979800"/>
                <a:gridCol w="4373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37   и   6,299 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01   и   7,0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,1   и   10,99 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,004   и   9,0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,18   и   9,1798 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,028   и   28,02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6"/>
          <p:cNvSpPr/>
          <p:nvPr/>
        </p:nvSpPr>
        <p:spPr>
          <a:xfrm>
            <a:off x="1763640" y="765000"/>
            <a:ext cx="518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2"/>
          <p:cNvSpPr/>
          <p:nvPr/>
        </p:nvSpPr>
        <p:spPr>
          <a:xfrm>
            <a:off x="1765800" y="335772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1837440" y="206064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6302880" y="335772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 flipH="1">
            <a:off x="6088320" y="270828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 flipH="1">
            <a:off x="5726160" y="206064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 flipH="1">
            <a:off x="1765440" y="2637000"/>
            <a:ext cx="476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1187280" y="5013360"/>
            <a:ext cx="511344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9" descr="космонавт на луне"/>
          <p:cNvPicPr/>
          <p:nvPr/>
        </p:nvPicPr>
        <p:blipFill>
          <a:blip r:embed="rId1"/>
          <a:stretch/>
        </p:blipFill>
        <p:spPr>
          <a:xfrm>
            <a:off x="6804000" y="4005360"/>
            <a:ext cx="1792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5 0.014 -0.02803 0.021 -0.04672 C 0.04 -0.10012 0.045 -0.15218 0.031 -0.16019 C 0.017 -0.16953 -0.01 -0.13215 -0.029 -0.07876 C -0.039 -0.05073 -0.045 -0.02403 -0.047 -0.004 C -0.05 0.01201 -0.051 0.02803 -0.051 0.04672 C -0.051 0.10679 -0.038 0.15618 -0.023 0.15618 C -0.008 0.15618 0.005 0.10679 0.005 0.04672 C 0.005 0.01869 0.002 -0.00801 -0.003 -0.0267 C -0.005 -0.04272 -0.01 -0.06007 -0.016 -0.07742 C -0.036 -0.13215 -0.063 -0.16953 -0.077 -0.16019 C -0.091 -0.15084 -0.086 -0.10012 -0.066 -0.04539 C -0.058 -0.02002 -0.047 0.00133 -0.036 0.01602 C -0.028 0.02937 -0.019 0.04138 -0.007 0.0534 C 0.029 0.09211 0.065 0.10946 0.075 0.09344 C 0.084 0.07742 0.064 0.03337 0.028 -0.004 C 0.013 -0.02002 -0.003 -0.03204 -0.016 -0.04005 C -0.028 -0.04806 -0.043 -0.05473 -0.059 -0.05873 C -0.103 -0.07208 -0.141 -0.06808 -0.144 -0.04672 C -0.148 -0.0267 -0.115 0 -0.071 0.01335 C -0.051 0.01869 -0.032 0.02136 -0.017 0.02002 C -0.004 0.02002 0.01 0.01735 0.025 0.01335 C 0.069 0 0.102 -0.02803 0.098 -0.04806 C 0.095 -0.06808 0.057 -0.07342 0.013 -0.06007 C -0.008 -0.0534 -0.027 -0.04405 -0.04 -0.03337 C -0.051 -0.02536 -0.062 -0.01602 -0.074 -0.004 C -0.109 0.03471 -0.13 0.07742 -0.12 0.09344 C -0.111 0.10946 -0.074 0.09211 -0.039 0.05473 C -0.022 0.03604 -0.008 0.01735 0 0 Z">
                                      <p:cBhvr>
                                        <p:cTn id="54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40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179280" y="333360"/>
            <a:ext cx="878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Вспом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916720" y="29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(0,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56360" y="29973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(0,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933080" y="2997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6733080" y="29973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(1,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463680" y="3789360"/>
            <a:ext cx="8103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чка М(0,2) лежит левее точки К(1,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,2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чка А(0,6) лежит правее точки М(0,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,6 &gt; 0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5724360" y="5950080"/>
            <a:ext cx="2846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eorgi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250920" y="1413000"/>
            <a:ext cx="8642160" cy="879480"/>
            <a:chOff x="250920" y="1413000"/>
            <a:chExt cx="8642160" cy="879480"/>
          </a:xfrm>
        </p:grpSpPr>
        <p:pic>
          <p:nvPicPr>
            <p:cNvPr id="316" name="Picture 4" descr="G:\Оленька\математика\30.files\img1.jpg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86421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14"/>
            <p:cNvSpPr/>
            <p:nvPr/>
          </p:nvSpPr>
          <p:spPr>
            <a:xfrm>
              <a:off x="8532720" y="1484280"/>
              <a:ext cx="28728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755640" y="260280"/>
            <a:ext cx="77058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еньшая десятичная дробь лежит на координатном луче левее большей, а большая – правее меньш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11280" y="299736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из точек лежит левее на координатном луч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(3,3) или К(3,25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55640" y="494172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из точек лежит правее на координатном луч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(5,12) или М(6,1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900000" y="3933720"/>
            <a:ext cx="792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Точка К(3,25) лежит левее точки Е(3,3), т.к. 3,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25&lt;3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68360" y="6165720"/>
            <a:ext cx="813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Точка М(6,1) лежит правее точки С(5,12)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т.к.6,1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&gt;5,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луна"/>
          <p:cNvPicPr/>
          <p:nvPr/>
        </p:nvPicPr>
        <p:blipFill>
          <a:blip r:embed="rId1"/>
          <a:stretch/>
        </p:blipFill>
        <p:spPr>
          <a:xfrm>
            <a:off x="738036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звёздочка"/>
          <p:cNvPicPr/>
          <p:nvPr/>
        </p:nvPicPr>
        <p:blipFill>
          <a:blip r:embed="rId2"/>
          <a:stretch/>
        </p:blipFill>
        <p:spPr>
          <a:xfrm>
            <a:off x="900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звезда"/>
          <p:cNvPicPr/>
          <p:nvPr/>
        </p:nvPicPr>
        <p:blipFill>
          <a:blip r:embed="rId3"/>
          <a:stretch/>
        </p:blipFill>
        <p:spPr>
          <a:xfrm>
            <a:off x="7956720" y="5229360"/>
            <a:ext cx="1187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240"/>
                            </p:stCondLst>
                            <p:childTnLst>
                              <p:par>
                                <p:cTn id="5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403280" y="404640"/>
            <a:ext cx="6840720" cy="173988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ff"/>
                </a:solidFill>
                <a:latin typeface="Franklin Gothic Medium"/>
              </a:rPr>
              <a:t>ДЕСЯТИЧНЫЕ ДРОБ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71640" y="1773360"/>
            <a:ext cx="734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ИСТОРИЧЕСКАЯ СПРА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ДЕСЯТИЧНАЯ ЗАПИСЬ ДРОБНЫХ ЧИС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СРАВНЕНИЕ ДЕСЯТИЧНЫХ ДРОБ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СЛОЖЕНИЕ И ВЫЧИТАНИЕ ДЕСЯТИЧНЫХ ДРОБ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0" action="ppaction://hlinksldjump"/>
              </a:rPr>
              <a:t>ПРИБЛИЖЕННЫЕ ЗНАЧЕНИЯ ЧИСЕЛ. ОКРУГЛЕНИЕ ЧИС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nlo22"/>
          <p:cNvPicPr/>
          <p:nvPr/>
        </p:nvPicPr>
        <p:blipFill>
          <a:blip r:embed="rId12"/>
          <a:stretch/>
        </p:blipFill>
        <p:spPr>
          <a:xfrm>
            <a:off x="6877080" y="1700280"/>
            <a:ext cx="158436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nlo46"/>
          <p:cNvPicPr/>
          <p:nvPr/>
        </p:nvPicPr>
        <p:blipFill>
          <a:blip r:embed="rId13"/>
          <a:stretch/>
        </p:blipFill>
        <p:spPr>
          <a:xfrm>
            <a:off x="1258920" y="4005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nlo55"/>
          <p:cNvPicPr/>
          <p:nvPr/>
        </p:nvPicPr>
        <p:blipFill>
          <a:blip r:embed="rId14"/>
          <a:stretch/>
        </p:blipFill>
        <p:spPr>
          <a:xfrm>
            <a:off x="6372360" y="4365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nlo59"/>
          <p:cNvPicPr/>
          <p:nvPr/>
        </p:nvPicPr>
        <p:blipFill>
          <a:blip r:embed="rId15"/>
          <a:stretch/>
        </p:blipFill>
        <p:spPr>
          <a:xfrm>
            <a:off x="4788000" y="1341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nlo59"/>
          <p:cNvPicPr/>
          <p:nvPr/>
        </p:nvPicPr>
        <p:blipFill>
          <a:blip r:embed="rId16"/>
          <a:stretch/>
        </p:blipFill>
        <p:spPr>
          <a:xfrm>
            <a:off x="324000" y="40464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nlo59"/>
          <p:cNvPicPr/>
          <p:nvPr/>
        </p:nvPicPr>
        <p:blipFill>
          <a:blip r:embed="rId17"/>
          <a:stretch/>
        </p:blipFill>
        <p:spPr>
          <a:xfrm>
            <a:off x="3851280" y="4653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nlo59"/>
          <p:cNvPicPr/>
          <p:nvPr/>
        </p:nvPicPr>
        <p:blipFill>
          <a:blip r:embed="rId18"/>
          <a:stretch/>
        </p:blipFill>
        <p:spPr>
          <a:xfrm>
            <a:off x="6443640" y="57340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nlo59"/>
          <p:cNvPicPr/>
          <p:nvPr/>
        </p:nvPicPr>
        <p:blipFill>
          <a:blip r:embed="rId19"/>
          <a:stretch/>
        </p:blipFill>
        <p:spPr>
          <a:xfrm>
            <a:off x="971640" y="57340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nlo59"/>
          <p:cNvPicPr/>
          <p:nvPr/>
        </p:nvPicPr>
        <p:blipFill>
          <a:blip r:embed="rId20"/>
          <a:stretch/>
        </p:blipFill>
        <p:spPr>
          <a:xfrm>
            <a:off x="8280360" y="6922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614520" y="549360"/>
            <a:ext cx="80294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СЛОЖЕНИЕ И ВЫЧИТАНИЕ ДЕСЯТИЧНЫХ Д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68360" y="5300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какие еще числа умеете складывать? и вычита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7" descr="img2"/>
          <p:cNvPicPr/>
          <p:nvPr/>
        </p:nvPicPr>
        <p:blipFill>
          <a:blip r:embed="rId1"/>
          <a:stretch/>
        </p:blipFill>
        <p:spPr>
          <a:xfrm>
            <a:off x="3851280" y="3716280"/>
            <a:ext cx="1417680" cy="1440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img1"/>
          <p:cNvPicPr/>
          <p:nvPr/>
        </p:nvPicPr>
        <p:blipFill>
          <a:blip r:embed="rId2"/>
          <a:stretch/>
        </p:blipFill>
        <p:spPr>
          <a:xfrm>
            <a:off x="3924360" y="1916280"/>
            <a:ext cx="1201680" cy="9363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9"/>
          <p:cNvSpPr/>
          <p:nvPr/>
        </p:nvSpPr>
        <p:spPr>
          <a:xfrm>
            <a:off x="900000" y="98100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числа умеете складывать и вычита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вайте повторим. Сложите числа 356 + 12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желает? Объясните принцип реш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2843280" y="3284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так можно сложи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2" descr="img86"/>
          <p:cNvPicPr/>
          <p:nvPr/>
        </p:nvPicPr>
        <p:blipFill>
          <a:blip r:embed="rId3"/>
          <a:srcRect l="0" t="0" r="23957" b="0"/>
          <a:stretch/>
        </p:blipFill>
        <p:spPr>
          <a:xfrm>
            <a:off x="2916360" y="5734080"/>
            <a:ext cx="2519280" cy="873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3"/>
          <p:cNvSpPr/>
          <p:nvPr/>
        </p:nvSpPr>
        <p:spPr>
          <a:xfrm>
            <a:off x="5076720" y="5805360"/>
            <a:ext cx="86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3924360" y="2852640"/>
            <a:ext cx="11523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6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6" descr="img86"/>
          <p:cNvPicPr/>
          <p:nvPr/>
        </p:nvPicPr>
        <p:blipFill>
          <a:blip r:embed="rId4"/>
          <a:srcRect l="71706" t="0" r="0" b="0"/>
          <a:stretch/>
        </p:blipFill>
        <p:spPr>
          <a:xfrm>
            <a:off x="5364000" y="5734080"/>
            <a:ext cx="9385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1547640" y="1052640"/>
            <a:ext cx="640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зряды десятичного чис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843280" y="5877000"/>
            <a:ext cx="54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2484000" y="2997360"/>
            <a:ext cx="71640" cy="100800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3203640" y="3068640"/>
            <a:ext cx="0" cy="151272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3924360" y="2997360"/>
            <a:ext cx="0" cy="201600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5076360" y="2997360"/>
            <a:ext cx="71640" cy="100800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5796000" y="2924280"/>
            <a:ext cx="71280" cy="158436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6516720" y="2997360"/>
            <a:ext cx="214200" cy="2016000"/>
          </a:xfrm>
          <a:prstGeom prst="line">
            <a:avLst/>
          </a:prstGeom>
          <a:ln w="44280">
            <a:solidFill>
              <a:srgbClr val="66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2268360" y="213372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  2  3  ,  4  5  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69236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т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4211640" y="386064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деся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2268360" y="44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ес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5219640" y="4365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со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3059280" y="494172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ди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6012000" y="49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тыся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687600" y="33336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СЛОЖЕНИЕ И ВЫЧИТАНИЕ ДЕСЯТИЧНЫХ Д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85"/>
          <p:cNvGrpSpPr/>
          <p:nvPr/>
        </p:nvGrpSpPr>
        <p:grpSpPr>
          <a:xfrm>
            <a:off x="1979640" y="1989000"/>
            <a:ext cx="1728720" cy="1068840"/>
            <a:chOff x="1979640" y="1989000"/>
            <a:chExt cx="1728720" cy="1068840"/>
          </a:xfrm>
        </p:grpSpPr>
        <p:sp>
          <p:nvSpPr>
            <p:cNvPr id="353" name="Text Box 43"/>
            <p:cNvSpPr/>
            <p:nvPr/>
          </p:nvSpPr>
          <p:spPr>
            <a:xfrm>
              <a:off x="1979640" y="2133720"/>
              <a:ext cx="83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4"/>
            <p:cNvSpPr/>
            <p:nvPr/>
          </p:nvSpPr>
          <p:spPr>
            <a:xfrm>
              <a:off x="2340000" y="1989000"/>
              <a:ext cx="136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430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88"/>
          <p:cNvGrpSpPr/>
          <p:nvPr/>
        </p:nvGrpSpPr>
        <p:grpSpPr>
          <a:xfrm>
            <a:off x="5219640" y="1989000"/>
            <a:ext cx="1727280" cy="1068840"/>
            <a:chOff x="5219640" y="1989000"/>
            <a:chExt cx="1727280" cy="1068840"/>
          </a:xfrm>
        </p:grpSpPr>
        <p:sp>
          <p:nvSpPr>
            <p:cNvPr id="356" name="Text Box 47"/>
            <p:cNvSpPr/>
            <p:nvPr/>
          </p:nvSpPr>
          <p:spPr>
            <a:xfrm>
              <a:off x="5219640" y="213372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48"/>
            <p:cNvSpPr/>
            <p:nvPr/>
          </p:nvSpPr>
          <p:spPr>
            <a:xfrm>
              <a:off x="5506920" y="1989000"/>
              <a:ext cx="14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26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87"/>
          <p:cNvGrpSpPr/>
          <p:nvPr/>
        </p:nvGrpSpPr>
        <p:grpSpPr>
          <a:xfrm>
            <a:off x="1692360" y="2133720"/>
            <a:ext cx="6192720" cy="2219760"/>
            <a:chOff x="1692360" y="2133720"/>
            <a:chExt cx="6192720" cy="2219760"/>
          </a:xfrm>
        </p:grpSpPr>
        <p:sp>
          <p:nvSpPr>
            <p:cNvPr id="359" name="Text Box 45"/>
            <p:cNvSpPr/>
            <p:nvPr/>
          </p:nvSpPr>
          <p:spPr>
            <a:xfrm>
              <a:off x="4211640" y="21337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49"/>
            <p:cNvSpPr/>
            <p:nvPr/>
          </p:nvSpPr>
          <p:spPr>
            <a:xfrm>
              <a:off x="7093080" y="21337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ahoma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1692360" y="3284640"/>
              <a:ext cx="143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53"/>
            <p:cNvSpPr/>
            <p:nvPr/>
          </p:nvSpPr>
          <p:spPr>
            <a:xfrm>
              <a:off x="2916360" y="33559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6"/>
            <p:cNvSpPr/>
            <p:nvPr/>
          </p:nvSpPr>
          <p:spPr>
            <a:xfrm>
              <a:off x="3492360" y="3284640"/>
              <a:ext cx="223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430+26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57"/>
            <p:cNvSpPr/>
            <p:nvPr/>
          </p:nvSpPr>
          <p:spPr>
            <a:xfrm>
              <a:off x="5472000" y="335592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ahoma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Rectangle 62"/>
          <p:cNvSpPr/>
          <p:nvPr/>
        </p:nvSpPr>
        <p:spPr>
          <a:xfrm>
            <a:off x="1909800" y="404640"/>
            <a:ext cx="5066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СЛОЖИМ ДЕСЯТИЧНЫЕ 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4"/>
          <p:cNvSpPr/>
          <p:nvPr/>
        </p:nvSpPr>
        <p:spPr>
          <a:xfrm>
            <a:off x="234000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,4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5"/>
          <p:cNvSpPr/>
          <p:nvPr/>
        </p:nvSpPr>
        <p:spPr>
          <a:xfrm>
            <a:off x="5219640" y="10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,26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6"/>
          <p:cNvSpPr/>
          <p:nvPr/>
        </p:nvSpPr>
        <p:spPr>
          <a:xfrm>
            <a:off x="4284720" y="10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3276720" y="1052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9"/>
          <p:cNvSpPr/>
          <p:nvPr/>
        </p:nvSpPr>
        <p:spPr>
          <a:xfrm>
            <a:off x="3203640" y="4724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5"/>
          <p:cNvSpPr/>
          <p:nvPr/>
        </p:nvSpPr>
        <p:spPr>
          <a:xfrm>
            <a:off x="7093080" y="1197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6"/>
          <p:cNvSpPr/>
          <p:nvPr/>
        </p:nvSpPr>
        <p:spPr>
          <a:xfrm>
            <a:off x="1116000" y="220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78"/>
          <p:cNvSpPr/>
          <p:nvPr/>
        </p:nvSpPr>
        <p:spPr>
          <a:xfrm>
            <a:off x="1187280" y="342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89"/>
          <p:cNvGrpSpPr/>
          <p:nvPr/>
        </p:nvGrpSpPr>
        <p:grpSpPr>
          <a:xfrm>
            <a:off x="5940360" y="3284640"/>
            <a:ext cx="1727280" cy="1068840"/>
            <a:chOff x="5940360" y="3284640"/>
            <a:chExt cx="1727280" cy="1068840"/>
          </a:xfrm>
        </p:grpSpPr>
        <p:sp>
          <p:nvSpPr>
            <p:cNvPr id="375" name="Text Box 79"/>
            <p:cNvSpPr/>
            <p:nvPr/>
          </p:nvSpPr>
          <p:spPr>
            <a:xfrm>
              <a:off x="5940360" y="342900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80"/>
            <p:cNvSpPr/>
            <p:nvPr/>
          </p:nvSpPr>
          <p:spPr>
            <a:xfrm>
              <a:off x="6227640" y="3284640"/>
              <a:ext cx="14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 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69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1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 Box 81"/>
          <p:cNvSpPr/>
          <p:nvPr/>
        </p:nvSpPr>
        <p:spPr>
          <a:xfrm>
            <a:off x="7524720" y="342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83"/>
          <p:cNvSpPr/>
          <p:nvPr/>
        </p:nvSpPr>
        <p:spPr>
          <a:xfrm>
            <a:off x="4140360" y="465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,69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4"/>
          <p:cNvSpPr/>
          <p:nvPr/>
        </p:nvSpPr>
        <p:spPr>
          <a:xfrm>
            <a:off x="1187280" y="5589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Итак,    5,43 + 1,267 = 6,69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8"/>
          <p:cNvSpPr/>
          <p:nvPr/>
        </p:nvSpPr>
        <p:spPr>
          <a:xfrm>
            <a:off x="1838520" y="54936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СЛОЖЕНИЕ ДЕСЯТИЧНЫХ Д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11"/>
          <p:cNvGrpSpPr/>
          <p:nvPr/>
        </p:nvGrpSpPr>
        <p:grpSpPr>
          <a:xfrm>
            <a:off x="3492360" y="1989000"/>
            <a:ext cx="1942920" cy="1224000"/>
            <a:chOff x="3492360" y="1989000"/>
            <a:chExt cx="1942920" cy="1224000"/>
          </a:xfrm>
        </p:grpSpPr>
        <p:sp>
          <p:nvSpPr>
            <p:cNvPr id="382" name="Rectangle 5"/>
            <p:cNvSpPr/>
            <p:nvPr/>
          </p:nvSpPr>
          <p:spPr>
            <a:xfrm>
              <a:off x="3925080" y="25639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,267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3924000" y="19890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,430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3492360" y="234792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924000" y="3213000"/>
              <a:ext cx="1368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Rectangle 13"/>
          <p:cNvSpPr/>
          <p:nvPr/>
        </p:nvSpPr>
        <p:spPr>
          <a:xfrm>
            <a:off x="2196000" y="1268280"/>
            <a:ext cx="43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5,43 + 1,267 = 6,69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924360" y="3284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 69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611280" y="4076640"/>
            <a:ext cx="8281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1.Уравнять  в этих дробях количество знаков после запя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2.Записать их друг под другом так, чтобы запятая бы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записана под запя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3.Выполнить сложение, не обращая внимания</a:t>
            </a:r>
            <a:r>
              <a:rPr b="1" lang="en-US" sz="2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 на запяту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ff"/>
                </a:solidFill>
                <a:latin typeface="Arial"/>
              </a:rPr>
              <a:t>4.Поставить запятую в ответе под запят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4211640" y="3284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6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840"/>
                            </p:stCondLst>
                            <p:childTnLst>
                              <p:par>
                                <p:cTn id="8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684360" y="1484280"/>
            <a:ext cx="8135640" cy="360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14300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Схема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. , . </a:t>
            </a:r>
            <a:r>
              <a:rPr b="0" lang="ru-RU" sz="9600" spc="-1" strike="noStrike">
                <a:solidFill>
                  <a:srgbClr val="ff66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657600" y="236232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, .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2666880" y="2514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635280" y="328464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.   .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3635280" y="407664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1910880" y="47628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СЛОЖЕНИЕ  ДЕСЯТИЧНЫХ Д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859280" y="321300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9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1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8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1332000" y="981000"/>
            <a:ext cx="6480000" cy="41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Выполни сл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,32 +105,4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,32+0,007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,32+5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,32+2,68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5724360" y="1916280"/>
            <a:ext cx="18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Times New Roman"/>
              </a:rPr>
              <a:t>116,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66ff"/>
                </a:solidFill>
                <a:latin typeface="Times New Roman"/>
              </a:rPr>
              <a:t>11,3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Times New Roman"/>
              </a:rPr>
              <a:t>16,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1547640" y="5373720"/>
            <a:ext cx="68421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Вычитание выполняется аналогич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684360" y="1484280"/>
            <a:ext cx="8135640" cy="360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14300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Схема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. , . </a:t>
            </a:r>
            <a:r>
              <a:rPr b="0" lang="ru-RU" sz="9600" spc="-1" strike="noStrike">
                <a:solidFill>
                  <a:srgbClr val="ff66ff"/>
                </a:solidFill>
                <a:latin typeface="Times New Roman"/>
              </a:rPr>
              <a:t>.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132000" y="2514600"/>
            <a:ext cx="113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657600" y="2362320"/>
            <a:ext cx="365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, . .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3635280" y="407664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3635280" y="328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. .   . .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4859280" y="321300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910520" y="476280"/>
            <a:ext cx="59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ВЫЧИТАНИЕ  ДЕСЯТИЧНЫХ Д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000"/>
                            </p:stCondLst>
                            <p:childTnLst>
                              <p:par>
                                <p:cTn id="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80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755640" y="2637000"/>
            <a:ext cx="7848720" cy="3886200"/>
          </a:xfrm>
          <a:prstGeom prst="rect">
            <a:avLst/>
          </a:prstGeom>
          <a:solidFill>
            <a:srgbClr val="ff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риант 1                 Вариант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,7+1,2=                    9,4+7,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,27-0,2=                   3,54-1,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,5+1,79=                  4,6+2,8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,79-0,378=               8,314-1,23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,00-2,71=                 6-3,8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826920" y="333360"/>
            <a:ext cx="7488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РЕШ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кладывай и вычитай 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по одноименным разряд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826920" y="1197000"/>
            <a:ext cx="7993080" cy="3024000"/>
          </a:xfrm>
          <a:prstGeom prst="rect">
            <a:avLst/>
          </a:prstGeom>
          <a:solidFill>
            <a:srgbClr val="ff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,7+1,2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6,9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9,4+7,3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16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,27-0,2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4,07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3,54-1,4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2,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,5+1,79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5,29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4,6+2,85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7,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,79-0,378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5,412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8,31-1,236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7,0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-2,71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4,2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6-3,82=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2,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2268360" y="333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Проверка в па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2195640" y="5013360"/>
            <a:ext cx="5113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5 0.014 -0.02803 0.021 -0.04672 C 0.04 -0.10012 0.045 -0.15218 0.031 -0.16019 C 0.017 -0.16953 -0.01 -0.13215 -0.029 -0.07876 C -0.039 -0.05073 -0.045 -0.02403 -0.047 -0.004 C -0.05 0.01201 -0.051 0.02803 -0.051 0.04672 C -0.051 0.10679 -0.038 0.15618 -0.023 0.15618 C -0.008 0.15618 0.005 0.10679 0.005 0.04672 C 0.005 0.01869 0.002 -0.00801 -0.003 -0.0267 C -0.005 -0.04272 -0.01 -0.06007 -0.016 -0.07742 C -0.036 -0.13215 -0.063 -0.16953 -0.077 -0.16019 C -0.091 -0.15084 -0.086 -0.10012 -0.066 -0.04539 C -0.058 -0.02002 -0.047 0.00133 -0.036 0.01602 C -0.028 0.02937 -0.019 0.04138 -0.007 0.0534 C 0.029 0.09211 0.065 0.10946 0.075 0.09344 C 0.084 0.07742 0.064 0.03337 0.028 -0.004 C 0.013 -0.02002 -0.003 -0.03204 -0.016 -0.04005 C -0.028 -0.04806 -0.043 -0.05473 -0.059 -0.05873 C -0.103 -0.07208 -0.141 -0.06808 -0.144 -0.04672 C -0.148 -0.0267 -0.115 0 -0.071 0.01335 C -0.051 0.01869 -0.032 0.02136 -0.017 0.02002 C -0.004 0.02002 0.01 0.01735 0.025 0.01335 C 0.069 0 0.102 -0.02803 0.098 -0.04806 C 0.095 -0.06808 0.057 -0.07342 0.013 -0.06007 C -0.008 -0.0534 -0.027 -0.04405 -0.04 -0.03337 C -0.051 -0.02536 -0.062 -0.01602 -0.074 -0.004 C -0.109 0.03471 -0.13 0.07742 -0.12 0.09344 C -0.111 0.10946 -0.074 0.09211 -0.039 0.05473 C -0.022 0.03604 -0.008 0.01735 0 0 Z">
                                      <p:cBhvr>
                                        <p:cTn id="1039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6"/>
          <p:cNvSpPr/>
          <p:nvPr/>
        </p:nvSpPr>
        <p:spPr>
          <a:xfrm>
            <a:off x="1258920" y="1557360"/>
            <a:ext cx="309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0,8+Х=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 – 3=2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0,3+Х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-5,4=0,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,1+Х=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,8-Х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076720" y="1557360"/>
            <a:ext cx="32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9-Х=8,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+3=3,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-Х=0,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-0,6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+1,4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+1,8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835280" y="620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Times New Roman"/>
              </a:rPr>
              <a:t>НАЙДИТЕ ЗНАЧЕНИЯ  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217440"/>
            <a:ext cx="889308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ДЕСЯТИЧНЫЕ ДРОБ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ервым руководителем созданной Улугбеком обсерватории был высокообразованный математик и астроном аль-Каши (умер около 1430 года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Своими трудами аль-Каши внес большой вклад в математик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Знакомство с дробями и с десятеричной позиционной системой Индии навело ученого на мысль применить десятеричную позиционную систему к дробям. Он первым начал разрабатывать этот раздел в науке. Аль-Каши стал записывать дроби в одну строку с числами в десятеричной системе. Чтобы отделить целое число от десятеричного, он пользовался вертикальной чертой или чернилами разного цвета; например, целое число записывал черными чернилами, а дробные знаки - красным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 Европе о трудах аль-Каши долгое время не знали. Потребляемость же в более простых вычислениях с дробями с развитием науки и культуры росла, математики настойчиво искали пути решения этой проблемы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 1585 году, независимо от аль-Каши, нидерландский ученый Симен Стевин (1548-1620) сделал важное открытие, о чем написал в своей книге "Десятая". Эта маленькая работа (всего 7 страниц) содержала объяснение записи и правил действия с десятичными дробями. Стевин ещё не пользовался запятой, но писал дробные знаки в одну строку с цифрами целого числа. При этом он нумеровал десятичные знаки, вписывая порядковые номера в окружности рядом с цифрой или над цифрой. Например, число 12,761 он записывал так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12 (0) 7 (1) 6 (2) 1 (1) ил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0  1  2 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12 7 6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 первом примере вместо запятой стоит нуль в кружке, десятые доли обозначены знаком (1), сотые - (2) и т.д. Во втором примере цифры в верхней строке указывают, сколько нулей содержит предшествующий десятичный знак (семь десятых, две сотых и шесть тысячных)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Десятичные дроби постепенно распространились в Европе, но лишь в XIX веке. Они стали пользоваться широкой известностью в связи с введением десятичной системы мер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менение запятой при записи дробей впервые встречается в 1592 году. Несколько позже - в 1617 году отделять десятичные знаки от целого числа предложил Джон Непер (1550-1617) - знаменитый шотландский математик, изобретатель логарифмов. В России впервые о десятичных дробях было сказано в "Арифметике" Магницкого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Десятичная система позволяет легко записывать не только очень большие числа, но и очень маленькие. Десятичные дроби показывают десятые, сотые, тысячные доли единицы. В числе они записываются после запятой. Мы легко можем представить величину любой дроби, потому что она всегда сравнивает саму себя с 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396000" y="909720"/>
            <a:ext cx="29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5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,3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0,8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4,1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7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,2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,2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4,6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,1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,5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2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5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3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,1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5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4,1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4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6+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6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901440" y="2851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901440" y="357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044360" y="4291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11600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Times New Roman"/>
              </a:rPr>
              <a:t>УПРОСТИТЕ ВЫ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484360" y="981000"/>
            <a:ext cx="626436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5+1,3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6,3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0,8+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4,1=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,8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4,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7-1,2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5,8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3,2-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2,2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4,6-3,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4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,5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3,5-2+3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5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4,5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13-3,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1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9,9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1+3+4,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-5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8,1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(4+6-1)</a:t>
            </a:r>
            <a:r>
              <a:rPr b="0" lang="ru-RU" sz="3600" spc="-1" strike="noStrike" baseline="-10000">
                <a:solidFill>
                  <a:srgbClr val="ff66ff"/>
                </a:solidFill>
                <a:latin typeface="Arial"/>
              </a:rPr>
              <a:t>*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6 =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9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6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6" descr="nlo37"/>
          <p:cNvPicPr/>
          <p:nvPr/>
        </p:nvPicPr>
        <p:blipFill>
          <a:blip r:embed="rId1"/>
          <a:stretch/>
        </p:blipFill>
        <p:spPr>
          <a:xfrm>
            <a:off x="7524720" y="5950080"/>
            <a:ext cx="1371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900"/>
                            </p:stCondLst>
                            <p:childTnLst>
                              <p:par>
                                <p:cTn id="1055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1540"/>
                            </p:stCondLst>
                            <p:childTnLst>
                              <p:par>
                                <p:cTn id="1061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6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3140"/>
                            </p:stCondLst>
                            <p:childTnLst>
                              <p:par>
                                <p:cTn id="1073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8780"/>
                            </p:stCondLst>
                            <p:childTnLst>
                              <p:par>
                                <p:cTn id="1079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8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4660"/>
                            </p:stCondLst>
                            <p:childTnLst>
                              <p:par>
                                <p:cTn id="1085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540"/>
                            </p:stCondLst>
                            <p:childTnLst>
                              <p:par>
                                <p:cTn id="1091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6380"/>
                            </p:stCondLst>
                            <p:childTnLst>
                              <p:par>
                                <p:cTn id="109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2260"/>
                            </p:stCondLst>
                            <p:childTnLst>
                              <p:par>
                                <p:cTn id="1103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8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7980"/>
                            </p:stCondLst>
                            <p:childTnLst>
                              <p:par>
                                <p:cTn id="1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754920" y="476280"/>
            <a:ext cx="77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ПРИБЛИЖЕННЫЕ ЗНАЧЕНИЯ ЧИСЕЛ. ОКРУГЛЕНИЕ ЧИС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1835280" y="10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5508720" y="10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56"/>
          <p:cNvGrpSpPr/>
          <p:nvPr/>
        </p:nvGrpSpPr>
        <p:grpSpPr>
          <a:xfrm>
            <a:off x="611280" y="1627200"/>
            <a:ext cx="8280360" cy="144360"/>
            <a:chOff x="611280" y="1627200"/>
            <a:chExt cx="8280360" cy="144360"/>
          </a:xfrm>
        </p:grpSpPr>
        <p:sp>
          <p:nvSpPr>
            <p:cNvPr id="428" name="Line 5"/>
            <p:cNvSpPr/>
            <p:nvPr/>
          </p:nvSpPr>
          <p:spPr>
            <a:xfrm>
              <a:off x="611280" y="1699920"/>
              <a:ext cx="82803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1979640" y="1627200"/>
              <a:ext cx="142920" cy="1443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5580360" y="1627200"/>
              <a:ext cx="142920" cy="1443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37"/>
            <p:cNvSpPr/>
            <p:nvPr/>
          </p:nvSpPr>
          <p:spPr>
            <a:xfrm>
              <a:off x="4283280" y="1627200"/>
              <a:ext cx="142920" cy="1443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ext Box 39"/>
          <p:cNvSpPr/>
          <p:nvPr/>
        </p:nvSpPr>
        <p:spPr>
          <a:xfrm>
            <a:off x="414036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54"/>
          <p:cNvGrpSpPr/>
          <p:nvPr/>
        </p:nvGrpSpPr>
        <p:grpSpPr>
          <a:xfrm>
            <a:off x="3276720" y="1773360"/>
            <a:ext cx="863640" cy="893160"/>
            <a:chOff x="3276720" y="1773360"/>
            <a:chExt cx="863640" cy="893160"/>
          </a:xfrm>
        </p:grpSpPr>
        <p:sp>
          <p:nvSpPr>
            <p:cNvPr id="434" name="Line 40"/>
            <p:cNvSpPr/>
            <p:nvPr/>
          </p:nvSpPr>
          <p:spPr>
            <a:xfrm flipV="1">
              <a:off x="3781440" y="1773360"/>
              <a:ext cx="358920" cy="50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42"/>
            <p:cNvSpPr/>
            <p:nvPr/>
          </p:nvSpPr>
          <p:spPr>
            <a:xfrm>
              <a:off x="3276720" y="2206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,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Text Box 43"/>
          <p:cNvSpPr/>
          <p:nvPr/>
        </p:nvSpPr>
        <p:spPr>
          <a:xfrm>
            <a:off x="435456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44"/>
          <p:cNvSpPr/>
          <p:nvPr/>
        </p:nvSpPr>
        <p:spPr>
          <a:xfrm>
            <a:off x="406728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45"/>
          <p:cNvSpPr/>
          <p:nvPr/>
        </p:nvSpPr>
        <p:spPr>
          <a:xfrm>
            <a:off x="3130560" y="299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,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55"/>
          <p:cNvGrpSpPr/>
          <p:nvPr/>
        </p:nvGrpSpPr>
        <p:grpSpPr>
          <a:xfrm>
            <a:off x="4571640" y="1773360"/>
            <a:ext cx="863640" cy="964440"/>
            <a:chOff x="4571640" y="1773360"/>
            <a:chExt cx="863640" cy="964440"/>
          </a:xfrm>
        </p:grpSpPr>
        <p:sp>
          <p:nvSpPr>
            <p:cNvPr id="440" name="Line 41"/>
            <p:cNvSpPr/>
            <p:nvPr/>
          </p:nvSpPr>
          <p:spPr>
            <a:xfrm flipH="1" flipV="1">
              <a:off x="4571640" y="1773360"/>
              <a:ext cx="215640" cy="57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46"/>
            <p:cNvSpPr/>
            <p:nvPr/>
          </p:nvSpPr>
          <p:spPr>
            <a:xfrm>
              <a:off x="4643280" y="22780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,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Text Box 47"/>
          <p:cNvSpPr/>
          <p:nvPr/>
        </p:nvSpPr>
        <p:spPr>
          <a:xfrm>
            <a:off x="755640" y="357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,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приближённое значение Х с недостат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48"/>
          <p:cNvSpPr/>
          <p:nvPr/>
        </p:nvSpPr>
        <p:spPr>
          <a:xfrm>
            <a:off x="755640" y="4292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,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приближённое значение Х с избыт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49"/>
          <p:cNvSpPr/>
          <p:nvPr/>
        </p:nvSpPr>
        <p:spPr>
          <a:xfrm>
            <a:off x="755640" y="5013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ближе к 4,6, чем к 4,7, знач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значение Х приближённо равно 4,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53"/>
          <p:cNvGrpSpPr/>
          <p:nvPr/>
        </p:nvGrpSpPr>
        <p:grpSpPr>
          <a:xfrm>
            <a:off x="2050920" y="1700280"/>
            <a:ext cx="3600360" cy="0"/>
            <a:chOff x="2050920" y="1700280"/>
            <a:chExt cx="3600360" cy="0"/>
          </a:xfrm>
        </p:grpSpPr>
        <p:sp>
          <p:nvSpPr>
            <p:cNvPr id="446" name="Line 15"/>
            <p:cNvSpPr/>
            <p:nvPr/>
          </p:nvSpPr>
          <p:spPr>
            <a:xfrm>
              <a:off x="313200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349092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385128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421164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0"/>
            <p:cNvSpPr/>
            <p:nvPr/>
          </p:nvSpPr>
          <p:spPr>
            <a:xfrm>
              <a:off x="457200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1"/>
            <p:cNvSpPr/>
            <p:nvPr/>
          </p:nvSpPr>
          <p:spPr>
            <a:xfrm>
              <a:off x="493236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2"/>
            <p:cNvSpPr/>
            <p:nvPr/>
          </p:nvSpPr>
          <p:spPr>
            <a:xfrm>
              <a:off x="529092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0"/>
            <p:cNvSpPr/>
            <p:nvPr/>
          </p:nvSpPr>
          <p:spPr>
            <a:xfrm>
              <a:off x="205092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241128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2771640" y="1700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36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155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9" dur="1155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1" dur="1155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3" dur="1155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6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155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9" dur="1155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1" dur="1155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3" dur="1155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56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5520"/>
                            </p:stCondLst>
                            <p:childTnLst>
                              <p:par>
                                <p:cTn id="1162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39920"/>
                            </p:stCondLst>
                            <p:childTnLst>
                              <p:par>
                                <p:cTn id="1168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9"/>
          <p:cNvGrpSpPr/>
          <p:nvPr/>
        </p:nvGrpSpPr>
        <p:grpSpPr>
          <a:xfrm>
            <a:off x="971640" y="404640"/>
            <a:ext cx="7272360" cy="1015920"/>
            <a:chOff x="971640" y="404640"/>
            <a:chExt cx="7272360" cy="1015920"/>
          </a:xfrm>
        </p:grpSpPr>
        <p:sp>
          <p:nvSpPr>
            <p:cNvPr id="457" name="Text Box 4"/>
            <p:cNvSpPr/>
            <p:nvPr/>
          </p:nvSpPr>
          <p:spPr>
            <a:xfrm>
              <a:off x="971640" y="404640"/>
              <a:ext cx="727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так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если  Х = 4,825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4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,8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5, то Х ≈  5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588000" y="836640"/>
              <a:ext cx="43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18"/>
          <p:cNvGrpSpPr/>
          <p:nvPr/>
        </p:nvGrpSpPr>
        <p:grpSpPr>
          <a:xfrm>
            <a:off x="611280" y="1557360"/>
            <a:ext cx="8353440" cy="5085360"/>
            <a:chOff x="611280" y="1557360"/>
            <a:chExt cx="8353440" cy="5085360"/>
          </a:xfrm>
        </p:grpSpPr>
        <p:sp>
          <p:nvSpPr>
            <p:cNvPr id="460" name="Text Box 6"/>
            <p:cNvSpPr/>
            <p:nvPr/>
          </p:nvSpPr>
          <p:spPr>
            <a:xfrm>
              <a:off x="611280" y="1557360"/>
              <a:ext cx="8353440" cy="50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Замену числа ближайшим к нему натуральным числом или нулём называют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ff99ff"/>
                  </a:solidFill>
                  <a:latin typeface="Arial"/>
                </a:rPr>
                <a:t>округлением до целых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Числа округляют и до других разрядов – десятков, сотен и так далее, например: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543,25 ≈ 500,  89,94 ≈ 90,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а так же до десятых, сотых и так далее, например :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45,6721 ≈ 45,67,   731,195 ≈ 731,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7"/>
            <p:cNvSpPr/>
            <p:nvPr/>
          </p:nvSpPr>
          <p:spPr>
            <a:xfrm>
              <a:off x="1692360" y="386064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>
              <a:off x="900000" y="3933720"/>
              <a:ext cx="0" cy="50508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1"/>
            <p:cNvSpPr/>
            <p:nvPr/>
          </p:nvSpPr>
          <p:spPr>
            <a:xfrm>
              <a:off x="3357720" y="3929040"/>
              <a:ext cx="0" cy="5047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3"/>
            <p:cNvSpPr/>
            <p:nvPr/>
          </p:nvSpPr>
          <p:spPr>
            <a:xfrm>
              <a:off x="1547640" y="5516640"/>
              <a:ext cx="0" cy="5047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4286160" y="5500800"/>
              <a:ext cx="0" cy="5047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250920" y="14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исло округляют до какого-нибудь разряда, то все следующие за этим разрядом цифры заменяются нулями, а если они стоят после запятой, то их отбрасы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187280" y="260280"/>
            <a:ext cx="7056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43,25 ≈ 500,</a:t>
            </a:r>
            <a:r>
              <a:rPr b="1" lang="ru-RU" sz="2600" spc="-1" strike="noStrike">
                <a:solidFill>
                  <a:srgbClr val="ff99ff"/>
                </a:solidFill>
                <a:latin typeface="Arial"/>
              </a:rPr>
              <a:t>0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;           89,94 ≈ 90,</a:t>
            </a:r>
            <a:r>
              <a:rPr b="1" lang="ru-RU" sz="2600" spc="-1" strike="noStrike">
                <a:solidFill>
                  <a:srgbClr val="ff99ff"/>
                </a:solidFill>
                <a:latin typeface="Arial"/>
              </a:rPr>
              <a:t>0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5,6721 ≈ 45,67</a:t>
            </a:r>
            <a:r>
              <a:rPr b="1" lang="ru-RU" sz="2600" spc="-1" strike="noStrike">
                <a:solidFill>
                  <a:srgbClr val="ff99ff"/>
                </a:solidFill>
                <a:latin typeface="Arial"/>
              </a:rPr>
              <a:t>0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;         731,195 ≈ 731,2</a:t>
            </a:r>
            <a:r>
              <a:rPr b="1" lang="ru-RU" sz="26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2"/>
          <p:cNvSpPr/>
          <p:nvPr/>
        </p:nvSpPr>
        <p:spPr>
          <a:xfrm>
            <a:off x="1476360" y="260280"/>
            <a:ext cx="0" cy="5047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468360" y="2924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43,25 ≈500;    89,94 ≈90;    45,6721 ≈ 45,67;    731,195 ≈ 731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1476360" y="260280"/>
            <a:ext cx="0" cy="5047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7"/>
          <p:cNvSpPr/>
          <p:nvPr/>
        </p:nvSpPr>
        <p:spPr>
          <a:xfrm>
            <a:off x="5076720" y="260280"/>
            <a:ext cx="0" cy="5047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>
            <a:off x="5867280" y="836640"/>
            <a:ext cx="0" cy="5047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>
            <a:off x="2124000" y="907920"/>
            <a:ext cx="0" cy="505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179280" y="3429000"/>
            <a:ext cx="8785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ЗАПОМ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первая отброшенная или заменённая нулём цифра равна 5,6,7,8 или 9, то стоящую перед ней цифру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величивают на 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первая отброшенная или заменённая нулём цифра равна 0,1,2,3 или 4, то стоящую перед ней цифру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тавляют без изме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95280" y="119592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75,449     до сотен   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318,57     до десятков  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5,998     до единиц   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3,994       до десятых   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63,248     до сотых   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57318    до сотен тысяч   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2"/>
          <p:cNvSpPr/>
          <p:nvPr/>
        </p:nvSpPr>
        <p:spPr>
          <a:xfrm>
            <a:off x="5543640" y="1197000"/>
            <a:ext cx="360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2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24,0 =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763,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900000=3,9 мл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971640" y="404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кругл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2195640" y="5013360"/>
            <a:ext cx="5113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15" descr="nlo44"/>
          <p:cNvPicPr/>
          <p:nvPr/>
        </p:nvPicPr>
        <p:blipFill>
          <a:blip r:embed="rId1"/>
          <a:stretch/>
        </p:blipFill>
        <p:spPr>
          <a:xfrm>
            <a:off x="7308720" y="333360"/>
            <a:ext cx="1567080" cy="15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9" descr="An-burst"/>
          <p:cNvPicPr/>
          <p:nvPr/>
        </p:nvPicPr>
        <p:blipFill>
          <a:blip r:embed="rId2"/>
          <a:stretch/>
        </p:blipFill>
        <p:spPr>
          <a:xfrm>
            <a:off x="6948360" y="4724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0" descr="An-burst"/>
          <p:cNvPicPr/>
          <p:nvPr/>
        </p:nvPicPr>
        <p:blipFill>
          <a:blip r:embed="rId3"/>
          <a:stretch/>
        </p:blipFill>
        <p:spPr>
          <a:xfrm>
            <a:off x="1258920" y="4724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6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360"/>
                            </p:stCondLst>
                            <p:childTnLst>
                              <p:par>
                                <p:cTn id="121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6520"/>
                            </p:stCondLst>
                            <p:childTnLst>
                              <p:par>
                                <p:cTn id="122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8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840"/>
                            </p:stCondLst>
                            <p:childTnLst>
                              <p:par>
                                <p:cTn id="122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3120"/>
                            </p:stCondLst>
                            <p:childTnLst>
                              <p:par>
                                <p:cTn id="123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672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path" presetID="29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5 0.014 -0.02803 0.021 -0.04672 C 0.04 -0.10012 0.045 -0.15218 0.031 -0.16019 C 0.017 -0.16953 -0.01 -0.13215 -0.029 -0.07876 C -0.039 -0.05073 -0.045 -0.02403 -0.047 -0.004 C -0.05 0.01201 -0.051 0.02803 -0.051 0.04672 C -0.051 0.10679 -0.038 0.15618 -0.023 0.15618 C -0.008 0.15618 0.005 0.10679 0.005 0.04672 C 0.005 0.01869 0.002 -0.00801 -0.003 -0.0267 C -0.005 -0.04272 -0.01 -0.06007 -0.016 -0.07742 C -0.036 -0.13215 -0.063 -0.16953 -0.077 -0.16019 C -0.091 -0.15084 -0.086 -0.10012 -0.066 -0.04539 C -0.058 -0.02002 -0.047 0.00133 -0.036 0.01602 C -0.028 0.02937 -0.019 0.04138 -0.007 0.0534 C 0.029 0.09211 0.065 0.10946 0.075 0.09344 C 0.084 0.07742 0.064 0.03337 0.028 -0.004 C 0.013 -0.02002 -0.003 -0.03204 -0.016 -0.04005 C -0.028 -0.04806 -0.043 -0.05473 -0.059 -0.05873 C -0.103 -0.07208 -0.141 -0.06808 -0.144 -0.04672 C -0.148 -0.0267 -0.115 0 -0.071 0.01335 C -0.051 0.01869 -0.032 0.02136 -0.017 0.02002 C -0.004 0.02002 0.01 0.01735 0.025 0.01335 C 0.069 0 0.102 -0.02803 0.098 -0.04806 C 0.095 -0.06808 0.057 -0.07342 0.013 -0.06007 C -0.008 -0.0534 -0.027 -0.04405 -0.04 -0.03337 C -0.051 -0.02536 -0.062 -0.01602 -0.074 -0.004 C -0.109 0.03471 -0.13 0.07742 -0.12 0.09344 C -0.111 0.10946 -0.074 0.09211 -0.039 0.05473 C -0.022 0.03604 -0.008 0.01735 0 0 Z">
                                      <p:cBhvr>
                                        <p:cTn id="1245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042920" y="836640"/>
            <a:ext cx="70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ЯТИЧНАЯ ЗАПИС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БНЫХ ЧИС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космонавт с ракетой"/>
          <p:cNvPicPr/>
          <p:nvPr/>
        </p:nvPicPr>
        <p:blipFill>
          <a:blip r:embed="rId1"/>
          <a:stretch/>
        </p:blipFill>
        <p:spPr>
          <a:xfrm>
            <a:off x="3635280" y="3573360"/>
            <a:ext cx="1903680" cy="26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нло"/>
          <p:cNvPicPr/>
          <p:nvPr/>
        </p:nvPicPr>
        <p:blipFill>
          <a:blip r:embed="rId2"/>
          <a:stretch/>
        </p:blipFill>
        <p:spPr>
          <a:xfrm>
            <a:off x="7524720" y="1916280"/>
            <a:ext cx="10810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-7.87949E-007 C 0.00694 -0.01344 0.01406 -0.02804 0.02101 -0.04681 C 0.03993 -0.10012 0.04497 -0.15226 0.03108 -0.16014 C 0.01701 -0.16964 -0.01007 -0.1321 -0.02899 -0.07879 C -0.03906 -0.05075 -0.04497 -0.0241 -0.04705 -0.00394 C -0.05 0.01205 -0.05104 0.02804 -0.05104 0.04681 C -0.05104 0.10684 -0.03802 0.1562 -0.02292 0.1562 C -0.00799 0.1562 0.00503 0.10684 0.00503 0.04681 C 0.00503 0.01877 0.00208 -0.00811 -0.00295 -0.02665 C -0.00503 -0.04264 -0.01007 -0.06002 -0.01597 -0.0774 C -0.03594 -0.1321 -0.06302 -0.16964 -0.07708 -0.16014 C -0.09097 -0.15087 -0.08594 -0.10012 -0.06597 -0.04542 C -0.05799 -0.01993 -0.04705 0.00139 -0.03594 0.01599 C -0.02795 0.02943 -0.01892 0.04148 -0.00694 0.0533 C 0.02899 0.09201 0.06493 0.10939 0.075 0.0934 C 0.08403 0.07741 0.06406 0.03337 0.02795 -0.00394 C 0.01302 -0.01993 -0.00295 -0.03198 -0.01597 -0.04009 C -0.02795 -0.04797 -0.04306 -0.05469 -0.05903 -0.05863 C -0.10295 -0.07207 -0.14097 -0.06813 -0.14392 -0.04681 C -0.14792 -0.02665 -0.11493 -7.87949000000468E-007 -0.07101 0.01344 C -0.05104 0.01877 -0.03194 0.02132 -0.01701 0.01993 C -0.00399 0.01993 0.01007 0.01738 0.025 0.01344 C 0.06892 -7.87949000000468E-007 0.10208 -0.02804 0.09792 -0.04797 C 0.09497 -0.06813 0.05694 -0.07346 0.01302 -0.06002 C -0.00799 -0.0533 -0.02708 -0.04403 -0.03993 -0.03337 C -0.05104 -0.02526 -0.06198 -0.01599 -0.07396 -0.00394 C -0.10903 0.03476 -0.13003 0.07741 -0.11997 0.0934 C -0.11094 0.10939 -0.07396 0.09201 -0.03906 0.05469 C -0.02205 0.03615 -0.00799 0.01738 0 -7.87949E-007 Z">
                                      <p:cBhvr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8 0.06721 C 0.02327 0.08274 0.01737 0.0642 0.02761 0.08042 C 0.03021 0.08459 0.02987 0.09061 0.03091 0.09571 C 0.03334 0.10684 0.03577 0.1168 0.04063 0.1263 C 0.04254 0.1365 0.04375 0.14531 0.04723 0.15481 C 0.04914 0.16547 0.05348 0.17544 0.05712 0.1854 C 0.05921 0.19652 0.06094 0.20742 0.06355 0.21831 C 0.06841 0.26072 0.07414 0.30568 0.06355 0.34739 C 0.06007 0.36107 0.05816 0.37196 0.04879 0.3803 C 0.04671 0.38471 0.03351 0.4007 0.02917 0.40417 C 0.02448 0.40811 0.01268 0.40973 0.00782 0.41089 C -0.01232 0.4102 -0.03281 0.41228 -0.05277 0.40858 C -0.05816 0.40765 -0.06718 0.39421 -0.07413 0.39119 C -0.08871 0.37103 -0.10555 0.3555 -0.1151 0.32978 C -0.1184 0.30684 -0.12482 0.28505 -0.12812 0.26211 C -0.12795 0.25423 -0.13211 0.17984 -0.1184 0.16802 C -0.11128 0.16895 -0.10329 0.16732 -0.09704 0.17219 C -0.09496 0.17381 -0.09392 0.17683 -0.09218 0.17891 C -0.0901 0.18123 -0.08732 0.18262 -0.08559 0.1854 C -0.07829 0.19629 -0.07534 0.20973 -0.06597 0.21831 C -0.06215 0.23893 -0.06475 0.23036 -0.05937 0.2445 C -0.06059 0.29154 -0.0552 0.30313 -0.07083 0.33418 C -0.07291 0.33836 -0.07552 0.34484 -0.07899 0.34739 C -0.08402 0.3511 -0.09513 0.35272 -0.10034 0.35388 C -0.1092 0.35805 -0.10954 0.35921 -0.12326 0.35388 C -0.12708 0.35226 -0.12986 0.34809 -0.13316 0.34508 C -0.14427 0.33511 -0.15833 0.31958 -0.16423 0.30359 C -0.16822 0.2927 -0.17013 0.28134 -0.1743 0.27068 C -0.17534 0.25817 -0.17725 0.24612 -0.17899 0.2336 C -0.17916 0.2248 -0.15208 0.06257 -0.20191 0.0387 C -0.22916 0.04172 -0.21909 0.04079 -0.23802 0.04983 C -0.23906 0.05261 -0.2401 0.05562 -0.24131 0.0584 C -0.2427 0.06141 -0.24479 0.06396 -0.24618 0.06721 C -0.24826 0.07207 -0.2493 0.07764 -0.25138 0.0825 C -0.25347 0.09548 -0.25416 0.10267 -0.25937 0.11333 C -0.26458 0.14206 -0.27864 0.16732 -0.30034 0.17659 C -0.31336 0.1759 -0.32656 0.17636 -0.33958 0.17451 C -0.3427 0.17404 -0.35763 0.16153 -0.36267 0.15921 C -0.37309 0.14994 -0.38333 0.13998 -0.39375 0.13071 C -0.40052 0.11889 -0.40538 0.10753 -0.4118 0.09571 C -0.41493 0.07856 -0.42083 0.0628 -0.42326 0.04542 C -0.42274 0.03013 -0.42864 0.01182 -0.4217 -0.00046 C -0.41736 -0.00811 -0.3967 0.00232 -0.38888 0.00603 C -0.38333 0.01321 -0.38246 0.01854 -0.37899 0.02781 C -0.37691 0.05608 -0.37222 0.08876 -0.38072 0.11541 C -0.38888 0.1409 -0.4118 0.15017 -0.42986 0.15481 C -0.44566 0.15411 -0.4618 0.15574 -0.47743 0.15272 C -0.48125 0.15203 -0.48385 0.14693 -0.48715 0.14392 C -0.49097 0.14044 -0.49635 0.14067 -0.50034 0.1372 C -0.50625 0.1321 -0.51319 0.127 -0.51996 0.12422 C -0.56736 0.12584 -0.5684 0.11588 -0.59548 0.13951 C -0.60086 0.15087 -0.60451 0.16315 -0.61024 0.17451 C -0.61927 0.21275 -0.61354 0.18308 -0.6118 0.26651 C -0.61232 0.30081 -0.59774 0.35852 -0.625 0.38239 C -0.63593 0.38169 -0.64687 0.38216 -0.65763 0.3803 C -0.65954 0.38007 -0.66076 0.37706 -0.66267 0.3759 C -0.67118 0.3708 -0.66736 0.37683 -0.67569 0.36918 C -0.6776 0.36732 -0.67899 0.36477 -0.68072 0.36269 C -0.68229 0.36107 -0.68402 0.35968 -0.68559 0.35829 C -0.68663 0.3562 -0.68732 0.35342 -0.68888 0.3518 C -0.69027 0.35041 -0.69253 0.3511 -0.69375 0.34948 C -0.69756 0.34438 -0.70034 0.33789 -0.70364 0.3321 C -0.70729 0.32584 -0.70798 0.3175 -0.71024 0.31008 C -0.71145 0.30591 -0.71336 0.2971 -0.71336 0.29734 C -0.71475 0.28366 -0.71666 0.27092 -0.7184 0.25771 C -0.71736 0.22364 -0.71857 0.20162 -0.7118 0.17219 C -0.70642 0.17289 -0.70052 0.1715 -0.69548 0.17451 C -0.68732 0.17937 -0.68697 0.18679 -0.68229 0.19421 C -0.67656 0.20348 -0.67256 0.21252 -0.66753 0.22271 C -0.66545 0.23453 -0.66111 0.24311 -0.65937 0.25539 C -0.65972 0.27068 -0.65017 0.34345 -0.66909 0.3606 C -0.67013 0.36269 -0.67083 0.36547 -0.67239 0.36709 C -0.67656 0.3715 -0.69027 0.37404 -0.69548 0.3759 C -0.70312 0.3752 -0.71076 0.37474 -0.7184 0.37358 C -0.72013 0.37335 -0.72204 0.37312 -0.72326 0.3715 C -0.72447 0.36987 -0.72395 0.36663 -0.725 0.36477 C -0.72916 0.35759 -0.73576 0.35272 -0.73958 0.34508 C -0.74409 0.33627 -0.75086 0.3263 -0.75434 0.3168 C -0.76163 0.29687 -0.75381 0.31309 -0.76093 0.29919 C -0.76267 0.29061 -0.76371 0.28482 -0.76753 0.2774 C -0.76805 0.2737 -0.76805 0.26999 -0.76909 0.26651 C -0.76979 0.26396 -0.77187 0.26234 -0.77239 0.25979 C -0.77447 0.24913 -0.7743 0.23801 -0.77569 0.22712 C -0.77517 0.17312 -0.77569 0.11912 -0.77413 0.06512 C -0.77395 0.06049 -0.77083 0.05191 -0.77083 0.05214 C -0.76892 0.03036 -0.76336 0.00997 -0.75607 -0.00927 C -0.75434 -0.0139 -0.75468 -0.01993 -0.75277 -0.02456 C -0.75156 -0.02735 -0.7493 -0.02874 -0.74791 -0.03129 C -0.74444 -0.03777 -0.74322 -0.0482 -0.73802 -0.05307 C -0.73368 -0.05701 -0.73159 -0.0584 -0.72812 -0.06396 C -0.72239 -0.07323 -0.71788 -0.08343 -0.71024 -0.09038 C -0.70659 -0.09757 -0.70885 -0.09687 -0.7052 -0.09687 E">
                                      <p:cBhvr>
                                        <p:cTn id="11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913040" y="26028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 ЗАПИСЬ ДРОБНЫХ ЧИС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84360" y="765000"/>
            <a:ext cx="90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47640" y="765000"/>
            <a:ext cx="6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68360" y="765000"/>
            <a:ext cx="10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348000" y="765000"/>
            <a:ext cx="8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500720" y="76500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7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651640" y="765000"/>
            <a:ext cx="69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372360" y="765000"/>
            <a:ext cx="40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020000" y="7650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991640" y="765000"/>
            <a:ext cx="11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971640" y="1844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зовите дроби у которых знаменатель 10,100,1000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35"/>
          <p:cNvGrpSpPr/>
          <p:nvPr/>
        </p:nvGrpSpPr>
        <p:grpSpPr>
          <a:xfrm>
            <a:off x="1835280" y="5516640"/>
            <a:ext cx="1294920" cy="825480"/>
            <a:chOff x="1835280" y="5516640"/>
            <a:chExt cx="1294920" cy="825480"/>
          </a:xfrm>
        </p:grpSpPr>
        <p:sp>
          <p:nvSpPr>
            <p:cNvPr id="71" name="Text Box 18"/>
            <p:cNvSpPr/>
            <p:nvPr/>
          </p:nvSpPr>
          <p:spPr>
            <a:xfrm>
              <a:off x="1835280" y="56595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2266920" y="5516640"/>
              <a:ext cx="86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19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Group 34"/>
          <p:cNvGrpSpPr/>
          <p:nvPr/>
        </p:nvGrpSpPr>
        <p:grpSpPr>
          <a:xfrm>
            <a:off x="3419640" y="5516640"/>
            <a:ext cx="1099440" cy="825480"/>
            <a:chOff x="3419640" y="5516640"/>
            <a:chExt cx="1099440" cy="825480"/>
          </a:xfrm>
        </p:grpSpPr>
        <p:sp>
          <p:nvSpPr>
            <p:cNvPr id="74" name="Text Box 21"/>
            <p:cNvSpPr/>
            <p:nvPr/>
          </p:nvSpPr>
          <p:spPr>
            <a:xfrm>
              <a:off x="3419640" y="56260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3706560" y="5516640"/>
              <a:ext cx="81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Group 37"/>
          <p:cNvGrpSpPr/>
          <p:nvPr/>
        </p:nvGrpSpPr>
        <p:grpSpPr>
          <a:xfrm>
            <a:off x="4572000" y="5516640"/>
            <a:ext cx="1152000" cy="825480"/>
            <a:chOff x="4572000" y="5516640"/>
            <a:chExt cx="1152000" cy="825480"/>
          </a:xfrm>
        </p:grpSpPr>
        <p:sp>
          <p:nvSpPr>
            <p:cNvPr id="77" name="Text Box 24"/>
            <p:cNvSpPr/>
            <p:nvPr/>
          </p:nvSpPr>
          <p:spPr>
            <a:xfrm>
              <a:off x="4572000" y="5626080"/>
              <a:ext cx="60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996080" y="5516640"/>
              <a:ext cx="72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33"/>
          <p:cNvGrpSpPr/>
          <p:nvPr/>
        </p:nvGrpSpPr>
        <p:grpSpPr>
          <a:xfrm>
            <a:off x="6948360" y="5516640"/>
            <a:ext cx="1152000" cy="825480"/>
            <a:chOff x="6948360" y="5516640"/>
            <a:chExt cx="1152000" cy="825480"/>
          </a:xfrm>
        </p:grpSpPr>
        <p:sp>
          <p:nvSpPr>
            <p:cNvPr id="80" name="Text Box 27"/>
            <p:cNvSpPr/>
            <p:nvPr/>
          </p:nvSpPr>
          <p:spPr>
            <a:xfrm>
              <a:off x="6948360" y="5626080"/>
              <a:ext cx="60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 Box 28"/>
            <p:cNvSpPr/>
            <p:nvPr/>
          </p:nvSpPr>
          <p:spPr>
            <a:xfrm>
              <a:off x="7372800" y="5516640"/>
              <a:ext cx="72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Group 32"/>
          <p:cNvGrpSpPr/>
          <p:nvPr/>
        </p:nvGrpSpPr>
        <p:grpSpPr>
          <a:xfrm>
            <a:off x="5724360" y="5516640"/>
            <a:ext cx="1152000" cy="825480"/>
            <a:chOff x="5724360" y="5516640"/>
            <a:chExt cx="1152000" cy="825480"/>
          </a:xfrm>
        </p:grpSpPr>
        <p:sp>
          <p:nvSpPr>
            <p:cNvPr id="83" name="Text Box 30"/>
            <p:cNvSpPr/>
            <p:nvPr/>
          </p:nvSpPr>
          <p:spPr>
            <a:xfrm>
              <a:off x="5724360" y="562608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"/>
            <p:cNvSpPr/>
            <p:nvPr/>
          </p:nvSpPr>
          <p:spPr>
            <a:xfrm>
              <a:off x="6148440" y="5516640"/>
              <a:ext cx="72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Text Box 38"/>
          <p:cNvSpPr/>
          <p:nvPr/>
        </p:nvSpPr>
        <p:spPr>
          <a:xfrm>
            <a:off x="1042920" y="4797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зовите смешанные числа у которых знаменатель дробной части 10,100,1000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2556000" y="37893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2197800" y="3932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270036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1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76364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9"/>
          <p:cNvSpPr/>
          <p:nvPr/>
        </p:nvSpPr>
        <p:spPr>
          <a:xfrm>
            <a:off x="5219640" y="386064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0"/>
          <p:cNvSpPr/>
          <p:nvPr/>
        </p:nvSpPr>
        <p:spPr>
          <a:xfrm>
            <a:off x="493416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1"/>
          <p:cNvSpPr/>
          <p:nvPr/>
        </p:nvSpPr>
        <p:spPr>
          <a:xfrm>
            <a:off x="5362560" y="40035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2"/>
          <p:cNvSpPr/>
          <p:nvPr/>
        </p:nvSpPr>
        <p:spPr>
          <a:xfrm>
            <a:off x="4427640" y="3860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7524720" y="386064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7294680" y="4003560"/>
            <a:ext cx="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7812000" y="400536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6948360" y="3860640"/>
            <a:ext cx="3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9"/>
          <p:cNvSpPr/>
          <p:nvPr/>
        </p:nvSpPr>
        <p:spPr>
          <a:xfrm>
            <a:off x="8136000" y="27813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777744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8280360" y="292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1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7343640" y="2781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3"/>
          <p:cNvSpPr/>
          <p:nvPr/>
        </p:nvSpPr>
        <p:spPr>
          <a:xfrm>
            <a:off x="324000" y="2205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4"/>
          <p:cNvSpPr/>
          <p:nvPr/>
        </p:nvSpPr>
        <p:spPr>
          <a:xfrm>
            <a:off x="324000" y="479736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5" descr="feja"/>
          <p:cNvPicPr/>
          <p:nvPr/>
        </p:nvPicPr>
        <p:blipFill>
          <a:blip r:embed="rId1"/>
          <a:stretch/>
        </p:blipFill>
        <p:spPr>
          <a:xfrm flipH="1">
            <a:off x="119160" y="5084640"/>
            <a:ext cx="12412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0.00538 0.27754 E">
                                      <p:cBhvr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-0.06702 0.27754 E">
                                      <p:cBhvr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-0.18507 0.27754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545 0.28356 E">
                                      <p:cBhvr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48148E-006 L -0.20468 0.28356 E">
                                      <p:cBhvr>
                                        <p:cTn id="2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-0.18108 0.28356 E">
                                      <p:cBhvr>
                                        <p:cTn id="2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831E-006 L -0.12587 -0.25956 E">
                                      <p:cBhvr>
                                        <p:cTn id="3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7068E-006 L 0.01875 -0.25076 E">
                                      <p:cBhvr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1831E-006 L 0.03143 -0.24913 E">
                                      <p:cBhvr>
                                        <p:cTn id="3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179280" y="620640"/>
            <a:ext cx="8785440" cy="6048360"/>
          </a:xfrm>
          <a:prstGeom prst="rect">
            <a:avLst/>
          </a:prstGeom>
          <a:solidFill>
            <a:srgbClr val="00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620640"/>
            <a:ext cx="8496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Жила-была маленькая Запятая. Была она очень несчастная: ученики забывали ее ставить в предложениях, учителя снижали им за это оценки, ученики ворчали, ругали запятую, все от нее отмахивались. И решила она уйти из страны “Грамматика” в страну “Математика”. Но не скоро дело делается. Она, так же, как и нуль, долго путешествовала по городу Натуральных чисел и городу Обыкновенных дробей, но никто не обращал на нее там внимания. Устав от путешествия, она попала в город Десятичных дробей. Здесь запятой все были очень рады, она была здесь важной жительницей, а жили запятые на главной площади города в огромном Замке. Поначалу нашей путешественнице было трудно, она не знала всех правил и часто из-за этого попадала в неловкое положение. “Самое главное”, — говорили ей жители этого города — десятичные дроби,— “ты должна быть очень внимательной. Иногда думают, что от положения маленькой запятой ничего не зависит и расставляют их наугад, а в Математике, как и в Грамматике запятая играет важную роль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9640" y="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Сказка про запят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564000" y="-387360"/>
            <a:ext cx="720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6"/>
          <p:cNvGrpSpPr/>
          <p:nvPr/>
        </p:nvGrpSpPr>
        <p:grpSpPr>
          <a:xfrm>
            <a:off x="468360" y="836640"/>
            <a:ext cx="2521080" cy="947160"/>
            <a:chOff x="468360" y="836640"/>
            <a:chExt cx="2521080" cy="947160"/>
          </a:xfrm>
        </p:grpSpPr>
        <p:sp>
          <p:nvSpPr>
            <p:cNvPr id="110" name="Text Box 4"/>
            <p:cNvSpPr/>
            <p:nvPr/>
          </p:nvSpPr>
          <p:spPr>
            <a:xfrm>
              <a:off x="468360" y="836640"/>
              <a:ext cx="1079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8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981440" y="98100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66ff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1622880" y="112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2125800" y="11257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8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1189080" y="98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2916360" y="836640"/>
            <a:ext cx="2736720" cy="947160"/>
            <a:chOff x="2916360" y="836640"/>
            <a:chExt cx="2736720" cy="947160"/>
          </a:xfrm>
        </p:grpSpPr>
        <p:sp>
          <p:nvSpPr>
            <p:cNvPr id="116" name="Text Box 5"/>
            <p:cNvSpPr/>
            <p:nvPr/>
          </p:nvSpPr>
          <p:spPr>
            <a:xfrm>
              <a:off x="2916360" y="836640"/>
              <a:ext cx="10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76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645080" y="98100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66ff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286880" y="112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4789440" y="11257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76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3853080" y="98100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7"/>
          <p:cNvSpPr/>
          <p:nvPr/>
        </p:nvSpPr>
        <p:spPr>
          <a:xfrm>
            <a:off x="111600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Ит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5796000" y="981000"/>
            <a:ext cx="3024000" cy="825480"/>
            <a:chOff x="5796000" y="981000"/>
            <a:chExt cx="3024000" cy="825480"/>
          </a:xfrm>
        </p:grpSpPr>
        <p:grpSp>
          <p:nvGrpSpPr>
            <p:cNvPr id="123" name="Group 18"/>
            <p:cNvGrpSpPr/>
            <p:nvPr/>
          </p:nvGrpSpPr>
          <p:grpSpPr>
            <a:xfrm>
              <a:off x="5796000" y="981000"/>
              <a:ext cx="1294920" cy="825480"/>
              <a:chOff x="5796000" y="981000"/>
              <a:chExt cx="1294920" cy="825480"/>
            </a:xfrm>
          </p:grpSpPr>
          <p:sp>
            <p:nvSpPr>
              <p:cNvPr id="124" name="Text Box 19"/>
              <p:cNvSpPr/>
              <p:nvPr/>
            </p:nvSpPr>
            <p:spPr>
              <a:xfrm>
                <a:off x="5796000" y="1123920"/>
                <a:ext cx="6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5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20"/>
              <p:cNvSpPr/>
              <p:nvPr/>
            </p:nvSpPr>
            <p:spPr>
              <a:xfrm>
                <a:off x="6227640" y="981000"/>
                <a:ext cx="863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 </a:t>
                </a: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9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1"/>
            <p:cNvSpPr/>
            <p:nvPr/>
          </p:nvSpPr>
          <p:spPr>
            <a:xfrm>
              <a:off x="7812000" y="98100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66ff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7453800" y="112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956360" y="112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90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20000" y="98100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 Box 26"/>
          <p:cNvSpPr/>
          <p:nvPr/>
        </p:nvSpPr>
        <p:spPr>
          <a:xfrm>
            <a:off x="539640" y="17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ff"/>
                </a:solidFill>
                <a:latin typeface="Georgia"/>
              </a:rPr>
              <a:t>Замети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ff"/>
                </a:solidFill>
                <a:latin typeface="Georgia"/>
              </a:rPr>
              <a:t>количество цифр в числителе совпадает с количеством нулей после 1 в знаменате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908000" y="342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Как записать следующие  числа  десятичной запись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7"/>
          <p:cNvGrpSpPr/>
          <p:nvPr/>
        </p:nvGrpSpPr>
        <p:grpSpPr>
          <a:xfrm>
            <a:off x="2629440" y="5589720"/>
            <a:ext cx="1366200" cy="642600"/>
            <a:chOff x="2629440" y="5589720"/>
            <a:chExt cx="1366200" cy="642600"/>
          </a:xfrm>
        </p:grpSpPr>
        <p:sp>
          <p:nvSpPr>
            <p:cNvPr id="133" name="Text Box 32"/>
            <p:cNvSpPr/>
            <p:nvPr/>
          </p:nvSpPr>
          <p:spPr>
            <a:xfrm>
              <a:off x="2987640" y="558972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66ff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2629440" y="573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34"/>
            <p:cNvSpPr/>
            <p:nvPr/>
          </p:nvSpPr>
          <p:spPr>
            <a:xfrm>
              <a:off x="3132000" y="57340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03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5"/>
          <p:cNvGrpSpPr/>
          <p:nvPr/>
        </p:nvGrpSpPr>
        <p:grpSpPr>
          <a:xfrm>
            <a:off x="971640" y="5516640"/>
            <a:ext cx="1655640" cy="825480"/>
            <a:chOff x="971640" y="5516640"/>
            <a:chExt cx="1655640" cy="825480"/>
          </a:xfrm>
        </p:grpSpPr>
        <p:grpSp>
          <p:nvGrpSpPr>
            <p:cNvPr id="137" name="Group 29"/>
            <p:cNvGrpSpPr/>
            <p:nvPr/>
          </p:nvGrpSpPr>
          <p:grpSpPr>
            <a:xfrm>
              <a:off x="971640" y="5516640"/>
              <a:ext cx="1294920" cy="825480"/>
              <a:chOff x="971640" y="5516640"/>
              <a:chExt cx="1294920" cy="825480"/>
            </a:xfrm>
          </p:grpSpPr>
          <p:sp>
            <p:nvSpPr>
              <p:cNvPr id="138" name="Text Box 30"/>
              <p:cNvSpPr/>
              <p:nvPr/>
            </p:nvSpPr>
            <p:spPr>
              <a:xfrm>
                <a:off x="971640" y="5659560"/>
                <a:ext cx="6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5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31"/>
              <p:cNvSpPr/>
              <p:nvPr/>
            </p:nvSpPr>
            <p:spPr>
              <a:xfrm>
                <a:off x="1403280" y="5516640"/>
                <a:ext cx="863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   </a:t>
                </a: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37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35"/>
            <p:cNvSpPr/>
            <p:nvPr/>
          </p:nvSpPr>
          <p:spPr>
            <a:xfrm>
              <a:off x="2195640" y="55897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Text Box 36"/>
          <p:cNvSpPr/>
          <p:nvPr/>
        </p:nvSpPr>
        <p:spPr>
          <a:xfrm>
            <a:off x="684360" y="4292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Сначала надо уравнять количество знаков в числителе с количеством нулей в знаменателе, приписав нули перед числом в числителе  (значение числа при этом не изменитс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147636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48"/>
          <p:cNvGrpSpPr/>
          <p:nvPr/>
        </p:nvGrpSpPr>
        <p:grpSpPr>
          <a:xfrm>
            <a:off x="6229800" y="5661000"/>
            <a:ext cx="1366560" cy="642600"/>
            <a:chOff x="6229800" y="5661000"/>
            <a:chExt cx="1366560" cy="642600"/>
          </a:xfrm>
        </p:grpSpPr>
        <p:sp>
          <p:nvSpPr>
            <p:cNvPr id="144" name="Text Box 40"/>
            <p:cNvSpPr/>
            <p:nvPr/>
          </p:nvSpPr>
          <p:spPr>
            <a:xfrm>
              <a:off x="6588000" y="5661000"/>
              <a:ext cx="2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66ff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6229800" y="580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42"/>
            <p:cNvSpPr/>
            <p:nvPr/>
          </p:nvSpPr>
          <p:spPr>
            <a:xfrm>
              <a:off x="6732720" y="580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Arial"/>
                </a:rPr>
                <a:t>00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46"/>
          <p:cNvGrpSpPr/>
          <p:nvPr/>
        </p:nvGrpSpPr>
        <p:grpSpPr>
          <a:xfrm>
            <a:off x="4859280" y="5516640"/>
            <a:ext cx="1368360" cy="947160"/>
            <a:chOff x="4859280" y="5516640"/>
            <a:chExt cx="1368360" cy="947160"/>
          </a:xfrm>
        </p:grpSpPr>
        <p:sp>
          <p:nvSpPr>
            <p:cNvPr id="148" name="Text Box 39"/>
            <p:cNvSpPr/>
            <p:nvPr/>
          </p:nvSpPr>
          <p:spPr>
            <a:xfrm>
              <a:off x="4859280" y="5516640"/>
              <a:ext cx="10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43"/>
            <p:cNvSpPr/>
            <p:nvPr/>
          </p:nvSpPr>
          <p:spPr>
            <a:xfrm>
              <a:off x="5796000" y="566100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Text Box 44"/>
          <p:cNvSpPr/>
          <p:nvPr/>
        </p:nvSpPr>
        <p:spPr>
          <a:xfrm>
            <a:off x="5003640" y="5516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26,5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72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72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2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72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11280" y="19148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,23;   98,704;   7,024;   8,003 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,028;   4,004;   24,2009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71640" y="620640"/>
            <a:ext cx="698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РОЧИТАЙТЕ   ЧИС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979640" y="4941720"/>
            <a:ext cx="511344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звёздочка"/>
          <p:cNvPicPr/>
          <p:nvPr/>
        </p:nvPicPr>
        <p:blipFill>
          <a:blip r:embed="rId1"/>
          <a:stretch/>
        </p:blipFill>
        <p:spPr>
          <a:xfrm>
            <a:off x="7020000" y="4581360"/>
            <a:ext cx="12668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5 0.014 -0.02803 0.021 -0.04672 C 0.04 -0.10012 0.045 -0.15218 0.031 -0.16019 C 0.017 -0.16953 -0.01 -0.13215 -0.029 -0.07876 C -0.039 -0.05073 -0.045 -0.02403 -0.047 -0.004 C -0.05 0.01201 -0.051 0.02803 -0.051 0.04672 C -0.051 0.10679 -0.038 0.15618 -0.023 0.15618 C -0.008 0.15618 0.005 0.10679 0.005 0.04672 C 0.005 0.01869 0.002 -0.00801 -0.003 -0.0267 C -0.005 -0.04272 -0.01 -0.06007 -0.016 -0.07742 C -0.036 -0.13215 -0.063 -0.16953 -0.077 -0.16019 C -0.091 -0.15084 -0.086 -0.10012 -0.066 -0.04539 C -0.058 -0.02002 -0.047 0.00133 -0.036 0.01602 C -0.028 0.02937 -0.019 0.04138 -0.007 0.0534 C 0.029 0.09211 0.065 0.10946 0.075 0.09344 C 0.084 0.07742 0.064 0.03337 0.028 -0.004 C 0.013 -0.02002 -0.003 -0.03204 -0.016 -0.04005 C -0.028 -0.04806 -0.043 -0.05473 -0.059 -0.05873 C -0.103 -0.07208 -0.141 -0.06808 -0.144 -0.04672 C -0.148 -0.0267 -0.115 0 -0.071 0.01335 C -0.051 0.01869 -0.032 0.02136 -0.017 0.02002 C -0.004 0.02002 0.01 0.01735 0.025 0.01335 C 0.069 0 0.102 -0.02803 0.098 -0.04806 C 0.095 -0.06808 0.057 -0.07342 0.013 -0.06007 C -0.008 -0.0534 -0.027 -0.04405 -0.04 -0.03337 C -0.051 -0.02536 -0.062 -0.01602 -0.074 -0.004 C -0.109 0.03471 -0.13 0.07742 -0.12 0.09344 C -0.111 0.10946 -0.074 0.09211 -0.039 0.05473 C -0.022 0.03604 -0.008 0.01735 0 0 Z">
                                      <p:cBhvr>
                                        <p:cTn id="15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9640" y="259560"/>
            <a:ext cx="7993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м дробям соответствуют точки на числовом луч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13"/>
          <p:cNvGrpSpPr/>
          <p:nvPr/>
        </p:nvGrpSpPr>
        <p:grpSpPr>
          <a:xfrm>
            <a:off x="328320" y="2924280"/>
            <a:ext cx="8564760" cy="1068840"/>
            <a:chOff x="328320" y="2924280"/>
            <a:chExt cx="8564760" cy="1068840"/>
          </a:xfrm>
        </p:grpSpPr>
        <p:sp>
          <p:nvSpPr>
            <p:cNvPr id="157" name="Text Box 6"/>
            <p:cNvSpPr/>
            <p:nvPr/>
          </p:nvSpPr>
          <p:spPr>
            <a:xfrm>
              <a:off x="328320" y="3160440"/>
              <a:ext cx="40136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чка М с координат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292720" y="2924280"/>
              <a:ext cx="79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4932360" y="31399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500720" y="2924280"/>
              <a:ext cx="50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5940360" y="31399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300720" y="3139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0,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7236000" y="313992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М(0,2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327960" y="4221000"/>
            <a:ext cx="8565120" cy="1068840"/>
            <a:chOff x="327960" y="4221000"/>
            <a:chExt cx="8565120" cy="1068840"/>
          </a:xfrm>
        </p:grpSpPr>
        <p:sp>
          <p:nvSpPr>
            <p:cNvPr id="165" name="Text Box 15"/>
            <p:cNvSpPr/>
            <p:nvPr/>
          </p:nvSpPr>
          <p:spPr>
            <a:xfrm>
              <a:off x="327960" y="4457520"/>
              <a:ext cx="3954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чка А с координат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292720" y="4221000"/>
              <a:ext cx="79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4932360" y="443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4500720" y="4221000"/>
              <a:ext cx="50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5940360" y="4437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6300720" y="443700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0,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7236000" y="443700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А(0,6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44"/>
          <p:cNvGrpSpPr/>
          <p:nvPr/>
        </p:nvGrpSpPr>
        <p:grpSpPr>
          <a:xfrm>
            <a:off x="327960" y="5445000"/>
            <a:ext cx="8636760" cy="1068840"/>
            <a:chOff x="327960" y="5445000"/>
            <a:chExt cx="8636760" cy="1068840"/>
          </a:xfrm>
        </p:grpSpPr>
        <p:sp>
          <p:nvSpPr>
            <p:cNvPr id="173" name="Text Box 41"/>
            <p:cNvSpPr/>
            <p:nvPr/>
          </p:nvSpPr>
          <p:spPr>
            <a:xfrm>
              <a:off x="7307280" y="5660640"/>
              <a:ext cx="16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М(1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43"/>
            <p:cNvGrpSpPr/>
            <p:nvPr/>
          </p:nvGrpSpPr>
          <p:grpSpPr>
            <a:xfrm>
              <a:off x="327960" y="5445000"/>
              <a:ext cx="5539320" cy="1068840"/>
              <a:chOff x="327960" y="5445000"/>
              <a:chExt cx="5539320" cy="1068840"/>
            </a:xfrm>
          </p:grpSpPr>
          <p:sp>
            <p:nvSpPr>
              <p:cNvPr id="175" name="Text Box 35"/>
              <p:cNvSpPr/>
              <p:nvPr/>
            </p:nvSpPr>
            <p:spPr>
              <a:xfrm>
                <a:off x="327960" y="5675040"/>
                <a:ext cx="395424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"/>
                  </a:rPr>
                  <a:t>Точка В с координатой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37"/>
              <p:cNvSpPr/>
              <p:nvPr/>
            </p:nvSpPr>
            <p:spPr>
              <a:xfrm>
                <a:off x="5003640" y="566064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38"/>
              <p:cNvSpPr/>
              <p:nvPr/>
            </p:nvSpPr>
            <p:spPr>
              <a:xfrm>
                <a:off x="4572000" y="5445000"/>
                <a:ext cx="503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Text Box 42"/>
              <p:cNvSpPr/>
              <p:nvPr/>
            </p:nvSpPr>
            <p:spPr>
              <a:xfrm>
                <a:off x="5435640" y="56750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56"/>
          <p:cNvGrpSpPr/>
          <p:nvPr/>
        </p:nvGrpSpPr>
        <p:grpSpPr>
          <a:xfrm>
            <a:off x="250920" y="1773360"/>
            <a:ext cx="8642160" cy="879480"/>
            <a:chOff x="250920" y="1773360"/>
            <a:chExt cx="8642160" cy="879480"/>
          </a:xfrm>
        </p:grpSpPr>
        <p:pic>
          <p:nvPicPr>
            <p:cNvPr id="180" name="Picture 4" descr="G:\Оленька\математика\30.files\img1.jpg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86421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5"/>
            <p:cNvSpPr/>
            <p:nvPr/>
          </p:nvSpPr>
          <p:spPr>
            <a:xfrm>
              <a:off x="8459640" y="1844640"/>
              <a:ext cx="43344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34:57Z</dcterms:created>
  <dc:creator>Михайлова О.М.</dc:creator>
  <dc:description/>
  <dc:language>en-US</dc:language>
  <cp:lastModifiedBy>Домашний</cp:lastModifiedBy>
  <dcterms:modified xsi:type="dcterms:W3CDTF">2012-11-05T06:02:23Z</dcterms:modified>
  <cp:revision>20</cp:revision>
  <dc:subject>десятичные дроби</dc:subject>
  <dc:title>десятичные дроби</dc:title>
</cp:coreProperties>
</file>