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ounting%20from%200%20to%2010.wav" ContentType="audio/x-wav"/>
  <Override PartName="/ppt/media/02.wav" ContentType="audio/x-wav"/>
  <Override PartName="/ppt/media/00.wav" ContentType="audio/x-wav"/>
  <Override PartName="/ppt/media/01.wav" ContentType="audio/x-wav"/>
  <Override PartName="/ppt/media/03.wav" ContentType="audio/x-wav"/>
  <Override PartName="/ppt/media/04.wav" ContentType="audio/x-wav"/>
  <Override PartName="/ppt/media/05.wav" ContentType="audio/x-wav"/>
  <Override PartName="/ppt/media/06.wav" ContentType="audio/x-wav"/>
  <Override PartName="/ppt/media/07.wav" ContentType="audio/x-wav"/>
  <Override PartName="/ppt/media/08.wav" ContentType="audio/x-wav"/>
  <Override PartName="/ppt/media/09.wav" ContentType="audio/x-wav"/>
  <Override PartName="/ppt/media/10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669F-67C5-4833-B41D-CC79A7215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4F76-DDE4-4C6D-94A4-5EDA6C8F7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C850-7E7F-452D-8E8F-A1110F178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4EC7-055A-43B0-9319-D85FB367F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D3833-F3AA-4F91-AA75-23272D62D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068E0-BD7E-4754-9321-485D7693A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CFD37-F200-4D89-AD37-BF5216457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FB37B-D634-4AFC-BBEE-D41853A3A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A5AD6-D670-4C54-AC5D-A7E1F2985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4A363-C077-4A4A-97D3-68BCD19F5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47BBA-5783-409E-A47E-5D2F19B1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33FB-C0E1-49D9-AB4F-3D8F15C41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8B5F6-8E76-4A0D-94C6-243423325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251D4-724A-48DE-A8BE-DFCAB139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1FA57-64B5-4A24-91AD-3B41200EA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1D9D3-AFCE-48EA-9908-8E1E431D7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0A450-546F-4FE2-9F64-0065DDB12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8156-560B-47C7-8B04-9FF7D9663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E9A0-A34A-4827-838F-958FB44FD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0379-FBEB-4795-AFCC-571DACB8E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5E2E-D1CA-4FB0-B481-568BD22C7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3671-40EB-473D-9D62-1A0CBD11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7912-35AF-4C3F-B13C-E1BE5492B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DEF0-F26A-4193-86EF-2869BCCEB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cc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cc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cc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cc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cc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cc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cc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99"/>
                    </a:gs>
                    <a:gs pos="100000">
                      <a:srgbClr val="ffcc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cccc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f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f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f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f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66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ccc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2E03B-39A8-444D-B74B-25D53867E906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cc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cc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cffff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ccff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cce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fcc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cce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fcc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cce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ff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fcc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ff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f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f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66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E8496-9B51-44FD-BB1F-11ABAEE15B6A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ounting%20from%200%20to%2010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08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09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10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00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01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02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03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04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05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06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07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2421000"/>
            <a:ext cx="9144000" cy="22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COUNTING FROM ZERO TO TEN</a:t>
            </a:r>
            <a:endParaRPr b="0" lang="en-US" sz="11500" spc="-1" strike="noStrike">
              <a:solidFill>
                <a:srgbClr val="993366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"/>
          <p:cNvGrpSpPr/>
          <p:nvPr/>
        </p:nvGrpSpPr>
        <p:grpSpPr>
          <a:xfrm>
            <a:off x="2771640" y="2924280"/>
            <a:ext cx="3733920" cy="2914560"/>
            <a:chOff x="2771640" y="2924280"/>
            <a:chExt cx="3733920" cy="2914560"/>
          </a:xfrm>
        </p:grpSpPr>
        <p:sp>
          <p:nvSpPr>
            <p:cNvPr id="448" name=""/>
            <p:cNvSpPr/>
            <p:nvPr/>
          </p:nvSpPr>
          <p:spPr>
            <a:xfrm>
              <a:off x="4368600" y="2924280"/>
              <a:ext cx="609480" cy="609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905360" y="3629160"/>
              <a:ext cx="609480" cy="609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792240" y="3645000"/>
              <a:ext cx="609840" cy="609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438520" y="4390920"/>
              <a:ext cx="609840" cy="60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371840" y="4390920"/>
              <a:ext cx="609480" cy="60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287520" y="4390920"/>
              <a:ext cx="609480" cy="60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895720" y="5229360"/>
              <a:ext cx="609840" cy="609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905360" y="5229360"/>
              <a:ext cx="609480" cy="609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838320" y="5229360"/>
              <a:ext cx="609840" cy="609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771640" y="5229360"/>
              <a:ext cx="609480" cy="609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8" name=""/>
          <p:cNvSpPr/>
          <p:nvPr/>
        </p:nvSpPr>
        <p:spPr>
          <a:xfrm>
            <a:off x="0" y="393840"/>
            <a:ext cx="91440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EIGHT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"/>
          <p:cNvGrpSpPr/>
          <p:nvPr/>
        </p:nvGrpSpPr>
        <p:grpSpPr>
          <a:xfrm>
            <a:off x="2771640" y="2924280"/>
            <a:ext cx="3733920" cy="2914560"/>
            <a:chOff x="2771640" y="2924280"/>
            <a:chExt cx="3733920" cy="2914560"/>
          </a:xfrm>
        </p:grpSpPr>
        <p:sp>
          <p:nvSpPr>
            <p:cNvPr id="460" name=""/>
            <p:cNvSpPr/>
            <p:nvPr/>
          </p:nvSpPr>
          <p:spPr>
            <a:xfrm>
              <a:off x="4368600" y="2924280"/>
              <a:ext cx="609480" cy="609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905360" y="3629160"/>
              <a:ext cx="609480" cy="609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792240" y="3645000"/>
              <a:ext cx="609840" cy="609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438520" y="4390920"/>
              <a:ext cx="609840" cy="60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371840" y="4390920"/>
              <a:ext cx="609480" cy="60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287520" y="4390920"/>
              <a:ext cx="609480" cy="60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895720" y="5229360"/>
              <a:ext cx="609840" cy="609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05360" y="5229360"/>
              <a:ext cx="609480" cy="609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838320" y="5229360"/>
              <a:ext cx="609840" cy="609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771640" y="5229360"/>
              <a:ext cx="609480" cy="609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0" name=""/>
          <p:cNvSpPr/>
          <p:nvPr/>
        </p:nvSpPr>
        <p:spPr>
          <a:xfrm>
            <a:off x="0" y="393840"/>
            <a:ext cx="91440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NINE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"/>
          <p:cNvGrpSpPr/>
          <p:nvPr/>
        </p:nvGrpSpPr>
        <p:grpSpPr>
          <a:xfrm>
            <a:off x="2771640" y="2924280"/>
            <a:ext cx="3733920" cy="2914560"/>
            <a:chOff x="2771640" y="2924280"/>
            <a:chExt cx="3733920" cy="2914560"/>
          </a:xfrm>
        </p:grpSpPr>
        <p:sp>
          <p:nvSpPr>
            <p:cNvPr id="472" name=""/>
            <p:cNvSpPr/>
            <p:nvPr/>
          </p:nvSpPr>
          <p:spPr>
            <a:xfrm>
              <a:off x="4368600" y="2924280"/>
              <a:ext cx="609480" cy="609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905360" y="3629160"/>
              <a:ext cx="609480" cy="609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792240" y="3645000"/>
              <a:ext cx="609840" cy="609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438520" y="4390920"/>
              <a:ext cx="609840" cy="60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371840" y="4390920"/>
              <a:ext cx="609480" cy="60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287520" y="4390920"/>
              <a:ext cx="609480" cy="60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895720" y="5229360"/>
              <a:ext cx="609840" cy="609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905360" y="5229360"/>
              <a:ext cx="609480" cy="609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838320" y="5229360"/>
              <a:ext cx="609840" cy="609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771640" y="5229360"/>
              <a:ext cx="609480" cy="609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2" name=""/>
          <p:cNvSpPr/>
          <p:nvPr/>
        </p:nvSpPr>
        <p:spPr>
          <a:xfrm>
            <a:off x="0" y="393840"/>
            <a:ext cx="91440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TEN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ZERO</a:t>
            </a:r>
            <a:endParaRPr b="0" lang="en-US" sz="12000" spc="-1" strike="noStrike">
              <a:solidFill>
                <a:srgbClr val="993366"/>
              </a:solidFill>
              <a:latin typeface="Arial Black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2771640" y="2924280"/>
            <a:ext cx="3733920" cy="2914560"/>
            <a:chOff x="2771640" y="2924280"/>
            <a:chExt cx="3733920" cy="2914560"/>
          </a:xfrm>
        </p:grpSpPr>
        <p:sp>
          <p:nvSpPr>
            <p:cNvPr id="353" name=""/>
            <p:cNvSpPr/>
            <p:nvPr/>
          </p:nvSpPr>
          <p:spPr>
            <a:xfrm>
              <a:off x="4368600" y="2924280"/>
              <a:ext cx="609480" cy="609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905360" y="3629160"/>
              <a:ext cx="609480" cy="609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792240" y="3645000"/>
              <a:ext cx="609840" cy="609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438520" y="4390920"/>
              <a:ext cx="609840" cy="609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371840" y="4390920"/>
              <a:ext cx="609480" cy="609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287520" y="4390920"/>
              <a:ext cx="609480" cy="609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895720" y="5229360"/>
              <a:ext cx="609840" cy="609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905360" y="5229360"/>
              <a:ext cx="609480" cy="609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838320" y="5229360"/>
              <a:ext cx="609840" cy="609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771640" y="5229360"/>
              <a:ext cx="609480" cy="609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771640" y="2924280"/>
            <a:ext cx="3733920" cy="2914560"/>
            <a:chOff x="2771640" y="2924280"/>
            <a:chExt cx="3733920" cy="2914560"/>
          </a:xfrm>
        </p:grpSpPr>
        <p:sp>
          <p:nvSpPr>
            <p:cNvPr id="364" name=""/>
            <p:cNvSpPr/>
            <p:nvPr/>
          </p:nvSpPr>
          <p:spPr>
            <a:xfrm>
              <a:off x="4368600" y="2924280"/>
              <a:ext cx="609480" cy="609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905360" y="3629160"/>
              <a:ext cx="609480" cy="609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792240" y="3645000"/>
              <a:ext cx="609840" cy="609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38520" y="4390920"/>
              <a:ext cx="609840" cy="609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71840" y="4390920"/>
              <a:ext cx="609480" cy="609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287520" y="4390920"/>
              <a:ext cx="609480" cy="609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895720" y="5229360"/>
              <a:ext cx="609840" cy="609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905360" y="5229360"/>
              <a:ext cx="609480" cy="609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825720" y="5229360"/>
              <a:ext cx="609480" cy="609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771640" y="5229360"/>
              <a:ext cx="609480" cy="609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0" y="393840"/>
            <a:ext cx="91440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ONE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"/>
          <p:cNvGrpSpPr/>
          <p:nvPr/>
        </p:nvGrpSpPr>
        <p:grpSpPr>
          <a:xfrm>
            <a:off x="2771640" y="2924280"/>
            <a:ext cx="3733560" cy="2914560"/>
            <a:chOff x="2771640" y="2924280"/>
            <a:chExt cx="3733560" cy="2914560"/>
          </a:xfrm>
        </p:grpSpPr>
        <p:sp>
          <p:nvSpPr>
            <p:cNvPr id="376" name=""/>
            <p:cNvSpPr/>
            <p:nvPr/>
          </p:nvSpPr>
          <p:spPr>
            <a:xfrm>
              <a:off x="4368600" y="2924280"/>
              <a:ext cx="609480" cy="609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905000" y="3629160"/>
              <a:ext cx="609840" cy="609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792240" y="3645000"/>
              <a:ext cx="609480" cy="609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438520" y="4391280"/>
              <a:ext cx="609480" cy="609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371840" y="4391280"/>
              <a:ext cx="609480" cy="609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287520" y="4391280"/>
              <a:ext cx="609480" cy="609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895720" y="5229360"/>
              <a:ext cx="609480" cy="609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905000" y="5229360"/>
              <a:ext cx="609840" cy="609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838320" y="5229360"/>
              <a:ext cx="609480" cy="609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771640" y="5229360"/>
              <a:ext cx="609480" cy="609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0" y="393840"/>
            <a:ext cx="91440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TWO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"/>
          <p:cNvGrpSpPr/>
          <p:nvPr/>
        </p:nvGrpSpPr>
        <p:grpSpPr>
          <a:xfrm>
            <a:off x="2771640" y="2924280"/>
            <a:ext cx="3733920" cy="2914560"/>
            <a:chOff x="2771640" y="2924280"/>
            <a:chExt cx="3733920" cy="2914560"/>
          </a:xfrm>
        </p:grpSpPr>
        <p:sp>
          <p:nvSpPr>
            <p:cNvPr id="388" name=""/>
            <p:cNvSpPr/>
            <p:nvPr/>
          </p:nvSpPr>
          <p:spPr>
            <a:xfrm>
              <a:off x="4368600" y="2924280"/>
              <a:ext cx="609480" cy="609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905360" y="3629160"/>
              <a:ext cx="609480" cy="609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792240" y="3645000"/>
              <a:ext cx="609840" cy="609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438520" y="4390920"/>
              <a:ext cx="609840" cy="609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371840" y="4390920"/>
              <a:ext cx="609480" cy="609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287520" y="4390920"/>
              <a:ext cx="609480" cy="609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895720" y="5229360"/>
              <a:ext cx="609840" cy="609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905360" y="5229360"/>
              <a:ext cx="609480" cy="609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38320" y="5229360"/>
              <a:ext cx="609840" cy="609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771640" y="5229360"/>
              <a:ext cx="609480" cy="609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0" y="393840"/>
            <a:ext cx="91440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THREE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"/>
          <p:cNvGrpSpPr/>
          <p:nvPr/>
        </p:nvGrpSpPr>
        <p:grpSpPr>
          <a:xfrm>
            <a:off x="2771640" y="2924280"/>
            <a:ext cx="3733920" cy="2914560"/>
            <a:chOff x="2771640" y="2924280"/>
            <a:chExt cx="3733920" cy="2914560"/>
          </a:xfrm>
        </p:grpSpPr>
        <p:sp>
          <p:nvSpPr>
            <p:cNvPr id="400" name=""/>
            <p:cNvSpPr/>
            <p:nvPr/>
          </p:nvSpPr>
          <p:spPr>
            <a:xfrm>
              <a:off x="4368600" y="2924280"/>
              <a:ext cx="609480" cy="609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905360" y="3629160"/>
              <a:ext cx="609480" cy="609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792240" y="3645000"/>
              <a:ext cx="609840" cy="609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438520" y="4390920"/>
              <a:ext cx="609840" cy="609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371840" y="4390920"/>
              <a:ext cx="609480" cy="609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287520" y="4390920"/>
              <a:ext cx="609480" cy="609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895720" y="5229360"/>
              <a:ext cx="609840" cy="609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905360" y="5229360"/>
              <a:ext cx="609480" cy="609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838320" y="5229360"/>
              <a:ext cx="609840" cy="609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771640" y="5229360"/>
              <a:ext cx="609480" cy="609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0" name=""/>
          <p:cNvSpPr/>
          <p:nvPr/>
        </p:nvSpPr>
        <p:spPr>
          <a:xfrm>
            <a:off x="0" y="393840"/>
            <a:ext cx="91440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FOUR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"/>
          <p:cNvGrpSpPr/>
          <p:nvPr/>
        </p:nvGrpSpPr>
        <p:grpSpPr>
          <a:xfrm>
            <a:off x="2771640" y="2924280"/>
            <a:ext cx="3733920" cy="2914560"/>
            <a:chOff x="2771640" y="2924280"/>
            <a:chExt cx="3733920" cy="2914560"/>
          </a:xfrm>
        </p:grpSpPr>
        <p:sp>
          <p:nvSpPr>
            <p:cNvPr id="412" name=""/>
            <p:cNvSpPr/>
            <p:nvPr/>
          </p:nvSpPr>
          <p:spPr>
            <a:xfrm>
              <a:off x="4368600" y="2924280"/>
              <a:ext cx="609480" cy="609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905360" y="3629160"/>
              <a:ext cx="609480" cy="609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792240" y="3645000"/>
              <a:ext cx="609840" cy="609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438520" y="4390920"/>
              <a:ext cx="609840" cy="609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371840" y="4390920"/>
              <a:ext cx="609480" cy="609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287520" y="4390920"/>
              <a:ext cx="609480" cy="60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895720" y="5229360"/>
              <a:ext cx="609840" cy="609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905360" y="5229360"/>
              <a:ext cx="609480" cy="609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838320" y="5229360"/>
              <a:ext cx="609840" cy="609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771640" y="5229360"/>
              <a:ext cx="609480" cy="609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0" y="393840"/>
            <a:ext cx="91440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FIVE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"/>
          <p:cNvGrpSpPr/>
          <p:nvPr/>
        </p:nvGrpSpPr>
        <p:grpSpPr>
          <a:xfrm>
            <a:off x="2771640" y="2924280"/>
            <a:ext cx="3733920" cy="2914560"/>
            <a:chOff x="2771640" y="2924280"/>
            <a:chExt cx="3733920" cy="2914560"/>
          </a:xfrm>
        </p:grpSpPr>
        <p:sp>
          <p:nvSpPr>
            <p:cNvPr id="424" name=""/>
            <p:cNvSpPr/>
            <p:nvPr/>
          </p:nvSpPr>
          <p:spPr>
            <a:xfrm>
              <a:off x="4368600" y="2924280"/>
              <a:ext cx="609480" cy="609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905360" y="3629160"/>
              <a:ext cx="609480" cy="609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792240" y="3645000"/>
              <a:ext cx="609840" cy="609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438520" y="4390920"/>
              <a:ext cx="609840" cy="609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371840" y="4390920"/>
              <a:ext cx="609480" cy="60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287520" y="4390920"/>
              <a:ext cx="609480" cy="60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895720" y="5229360"/>
              <a:ext cx="609840" cy="609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905360" y="5229360"/>
              <a:ext cx="609480" cy="609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838320" y="5229360"/>
              <a:ext cx="609840" cy="609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771640" y="5229360"/>
              <a:ext cx="609480" cy="609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0" y="393840"/>
            <a:ext cx="91440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SIX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5" name=""/>
          <p:cNvGrpSpPr/>
          <p:nvPr/>
        </p:nvGrpSpPr>
        <p:grpSpPr>
          <a:xfrm>
            <a:off x="2771640" y="2924280"/>
            <a:ext cx="3733920" cy="2914560"/>
            <a:chOff x="2771640" y="2924280"/>
            <a:chExt cx="3733920" cy="2914560"/>
          </a:xfrm>
        </p:grpSpPr>
        <p:sp>
          <p:nvSpPr>
            <p:cNvPr id="436" name=""/>
            <p:cNvSpPr/>
            <p:nvPr/>
          </p:nvSpPr>
          <p:spPr>
            <a:xfrm>
              <a:off x="4368600" y="2924280"/>
              <a:ext cx="609480" cy="609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905360" y="3629160"/>
              <a:ext cx="609480" cy="609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792240" y="3645000"/>
              <a:ext cx="609840" cy="609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438520" y="4390920"/>
              <a:ext cx="609840" cy="60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371840" y="4390920"/>
              <a:ext cx="609480" cy="60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287520" y="4390920"/>
              <a:ext cx="609480" cy="60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895720" y="5229360"/>
              <a:ext cx="609840" cy="609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905360" y="5229360"/>
              <a:ext cx="609480" cy="609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38320" y="5229360"/>
              <a:ext cx="609840" cy="609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771640" y="5229360"/>
              <a:ext cx="609480" cy="609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0" y="393840"/>
            <a:ext cx="91440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SEVEN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0T12:12:17Z</dcterms:created>
  <dc:creator>Сайт "Раннее развитие детей"</dc:creator>
  <dc:description/>
  <dc:language>en-US</dc:language>
  <cp:lastModifiedBy>Яна</cp:lastModifiedBy>
  <dcterms:modified xsi:type="dcterms:W3CDTF">2012-11-05T09:18:12Z</dcterms:modified>
  <cp:revision>37</cp:revision>
  <dc:subject/>
  <dc:title>Английский язык. Счет до 10</dc:title>
</cp:coreProperties>
</file>