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922-4D10-4E19-B6D5-ACFEF0AC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265-D93F-41FB-8AA4-ED655403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905-C909-435E-99F4-3ACABB82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C01-87D4-4D28-8D8C-8C2B5307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2EEA-2A85-4919-BEBE-47258E95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B2FA-2F90-4FE8-82E2-49047DE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AF90-3E65-405B-B76F-49D3510B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09A2-AB14-40C0-927C-D2B4924E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7FEA-369D-4EAD-83E7-71676193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8F04-BDBD-4880-9E91-50E44467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4F6-F5D1-4275-991B-EC83B9A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0DE-DC4A-4ED2-88E3-B8EF3159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0E4A-2C56-4D00-BC56-FF797965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5367-2762-4B49-A1D1-58A7AD0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D27E-2A4D-498B-97FB-29AA0D0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27EA-D426-4E9F-B626-F6852343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DA37-F5BE-49BF-908D-306AE3A6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90B-1F79-4C35-8DC1-C153261D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E3F-D3ED-4BA5-B883-14DA74C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8B5-7F0C-40F6-AD30-57B14EAA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A83-D877-451A-80C4-D97DA352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572-5A5F-4057-A135-C722D33B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5DC-1D86-463A-9E76-B37E77F4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9C0-ED44-4C87-9760-DB9A541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3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3D5E-A41A-4987-B960-1786EBC0C8F6}" type="slidenum">
              <a:rPr b="0" lang="ru-RU" sz="12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94"/>
          <p:cNvGrpSpPr/>
          <p:nvPr/>
        </p:nvGrpSpPr>
        <p:grpSpPr>
          <a:xfrm>
            <a:off x="1420920" y="122400"/>
            <a:ext cx="1733040" cy="1675440"/>
            <a:chOff x="1420920" y="122400"/>
            <a:chExt cx="1733040" cy="1675440"/>
          </a:xfrm>
        </p:grpSpPr>
        <p:pic>
          <p:nvPicPr>
            <p:cNvPr id="6" name="Picture 87" descr="season_2"/>
            <p:cNvPicPr/>
            <p:nvPr/>
          </p:nvPicPr>
          <p:blipFill>
            <a:blip r:embed="rId3"/>
            <a:stretch/>
          </p:blipFill>
          <p:spPr>
            <a:xfrm>
              <a:off x="1420920" y="122400"/>
              <a:ext cx="94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8" descr="season_2"/>
            <p:cNvPicPr/>
            <p:nvPr/>
          </p:nvPicPr>
          <p:blipFill>
            <a:blip r:embed="rId4"/>
            <a:stretch/>
          </p:blipFill>
          <p:spPr>
            <a:xfrm rot="6165600">
              <a:off x="1889640" y="518400"/>
              <a:ext cx="1096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Picture 89" descr="season_2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1" descr="03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2" descr="03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96" descr="01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5" descr="01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8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" descr="season_2"/>
          <p:cNvPicPr/>
          <p:nvPr/>
        </p:nvPicPr>
        <p:blipFill>
          <a:blip r:embed="rId3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season_2"/>
          <p:cNvPicPr/>
          <p:nvPr/>
        </p:nvPicPr>
        <p:blipFill>
          <a:blip r:embed="rId4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season_2"/>
          <p:cNvPicPr/>
          <p:nvPr/>
        </p:nvPicPr>
        <p:blipFill>
          <a:blip r:embed="rId5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season_2"/>
          <p:cNvPicPr/>
          <p:nvPr/>
        </p:nvPicPr>
        <p:blipFill>
          <a:blip r:embed="rId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season_2"/>
          <p:cNvPicPr/>
          <p:nvPr/>
        </p:nvPicPr>
        <p:blipFill>
          <a:blip r:embed="rId7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season_2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season_2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season_2"/>
          <p:cNvPicPr/>
          <p:nvPr/>
        </p:nvPicPr>
        <p:blipFill>
          <a:blip r:embed="rId10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season_2"/>
          <p:cNvPicPr/>
          <p:nvPr/>
        </p:nvPicPr>
        <p:blipFill>
          <a:blip r:embed="rId11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2" descr="03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3" descr="03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01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5" descr="01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F239-1C0E-44CC-8D29-8255F1D0CBF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nfofermer.ru/" TargetMode="External"/><Relationship Id="rId3" Type="http://schemas.openxmlformats.org/officeDocument/2006/relationships/hyperlink" Target="http://www.stihi.ru/" TargetMode="External"/><Relationship Id="rId4" Type="http://schemas.openxmlformats.org/officeDocument/2006/relationships/hyperlink" Target="http://www.tione.ru/" TargetMode="External"/><Relationship Id="rId5" Type="http://schemas.openxmlformats.org/officeDocument/2006/relationships/hyperlink" Target="http://molbiol.ru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928680"/>
            <a:ext cx="67057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9cd7"/>
                </a:solidFill>
                <a:latin typeface="Verdana"/>
              </a:rPr>
              <a:t>Как размножаются животные?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7400" y="6080760"/>
            <a:ext cx="4648320" cy="36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40096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колько родителей у животных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http://upload.wikimedia.org/wikipedia/commons/thumb/5/56/White_shark.jpg/250px-White_shark.jpg"/>
          <p:cNvPicPr/>
          <p:nvPr/>
        </p:nvPicPr>
        <p:blipFill>
          <a:blip r:embed="rId1"/>
          <a:stretch/>
        </p:blipFill>
        <p:spPr>
          <a:xfrm>
            <a:off x="857160" y="785880"/>
            <a:ext cx="4011840" cy="279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infofermer.ru/wp-content/uploads/2011/05/ciplenok.jpg"/>
          <p:cNvPicPr/>
          <p:nvPr/>
        </p:nvPicPr>
        <p:blipFill>
          <a:blip r:embed="rId2"/>
          <a:stretch/>
        </p:blipFill>
        <p:spPr>
          <a:xfrm>
            <a:off x="5500800" y="76824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stihi.ru/pics/2009/07/10/4732.jpg"/>
          <p:cNvPicPr/>
          <p:nvPr/>
        </p:nvPicPr>
        <p:blipFill>
          <a:blip r:embed="rId3"/>
          <a:stretch/>
        </p:blipFill>
        <p:spPr>
          <a:xfrm>
            <a:off x="857160" y="3630600"/>
            <a:ext cx="4000680" cy="322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://www.tione.ru/_ph/26/701557226.jpg"/>
          <p:cNvPicPr/>
          <p:nvPr/>
        </p:nvPicPr>
        <p:blipFill>
          <a:blip r:embed="rId4"/>
          <a:stretch/>
        </p:blipFill>
        <p:spPr>
          <a:xfrm>
            <a:off x="5500800" y="3500280"/>
            <a:ext cx="3643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6840" y="21420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сноводная гидр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400" y="1295280"/>
            <a:ext cx="84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вет в пресных водоемах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ина – 1 см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ищник 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pic>
        <p:nvPicPr>
          <p:cNvPr id="113" name="Picture 2" descr="http://molbiol.ru/pictures/hydra.jpg"/>
          <p:cNvPicPr/>
          <p:nvPr/>
        </p:nvPicPr>
        <p:blipFill>
          <a:blip r:embed="rId1"/>
          <a:stretch/>
        </p:blipFill>
        <p:spPr>
          <a:xfrm>
            <a:off x="0" y="2752560"/>
            <a:ext cx="3571920" cy="4105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aquadomik.ru/wp-content/uploads/2009/03/d0b3d0b8d0b4d180d0b0-300x259.gif"/>
          <p:cNvPicPr/>
          <p:nvPr/>
        </p:nvPicPr>
        <p:blipFill>
          <a:blip r:embed="rId2"/>
          <a:stretch/>
        </p:blipFill>
        <p:spPr>
          <a:xfrm>
            <a:off x="4429080" y="2787480"/>
            <a:ext cx="47149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есполое размножение гидр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pic>
        <p:nvPicPr>
          <p:cNvPr id="117" name="Picture 4" descr="http://www.devbio.biology.gatech.edu/wp-content/uploads/2011/04/HydraBudding.jpg"/>
          <p:cNvPicPr/>
          <p:nvPr/>
        </p:nvPicPr>
        <p:blipFill>
          <a:blip r:embed="rId1"/>
          <a:stretch/>
        </p:blipFill>
        <p:spPr>
          <a:xfrm>
            <a:off x="2071800" y="1000080"/>
            <a:ext cx="48574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ловое размножение гидр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pic>
        <p:nvPicPr>
          <p:cNvPr id="120" name="Picture 4" descr="http://t2.gstatic.com/images?q=tbn:ANd9GcSNGeHRLWpFC8MSuVCR0PB-uKjkQvUEU3CrtbaABfb3Md0BhlOAwqBwozs8vw"/>
          <p:cNvPicPr/>
          <p:nvPr/>
        </p:nvPicPr>
        <p:blipFill>
          <a:blip r:embed="rId1"/>
          <a:stretch/>
        </p:blipFill>
        <p:spPr>
          <a:xfrm>
            <a:off x="214200" y="1357200"/>
            <a:ext cx="86439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pic>
        <p:nvPicPr>
          <p:cNvPr id="123" name="Picture 2" descr="http://s49.radikal.ru/i125/0907/4a/ff7cdb6ff529.jpg"/>
          <p:cNvPicPr/>
          <p:nvPr/>
        </p:nvPicPr>
        <p:blipFill>
          <a:blip r:embed="rId1"/>
          <a:stretch/>
        </p:blipFill>
        <p:spPr>
          <a:xfrm>
            <a:off x="0" y="1122480"/>
            <a:ext cx="4214880" cy="5306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i073.radikal.ru/0909/22/d52442947c7d.jpg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6429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285840" y="63579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г Герм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500880" y="648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гиня Афрод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upload.wikimedia.org/wikipedia/commons/thumb/a/a8/Hermaphroditos_salmacis.jpg/220px-Hermaphroditos_salmacis.jpg"/>
          <p:cNvPicPr/>
          <p:nvPr/>
        </p:nvPicPr>
        <p:blipFill>
          <a:blip r:embed="rId3"/>
          <a:stretch/>
        </p:blipFill>
        <p:spPr>
          <a:xfrm>
            <a:off x="1928880" y="0"/>
            <a:ext cx="5357880" cy="70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ермафродиты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440" y="1294920"/>
            <a:ext cx="792468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рганизмы, у которых формируются женские и мужские гаметы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pic>
        <p:nvPicPr>
          <p:cNvPr id="130" name="Picture 4" descr="http://upload.wikimedia.org/wikipedia/commons/thumb/1/1e/Pseudoceros_dimidiatus.jpg/275px-Pseudoceros_dimidiatus.jpg"/>
          <p:cNvPicPr/>
          <p:nvPr/>
        </p:nvPicPr>
        <p:blipFill>
          <a:blip r:embed="rId1"/>
          <a:stretch/>
        </p:blipFill>
        <p:spPr>
          <a:xfrm>
            <a:off x="428760" y="3029040"/>
            <a:ext cx="3857400" cy="277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redsea.dive.ru/OBJ_PIC/16545.jpg"/>
          <p:cNvPicPr/>
          <p:nvPr/>
        </p:nvPicPr>
        <p:blipFill>
          <a:blip r:embed="rId2"/>
          <a:stretch/>
        </p:blipFill>
        <p:spPr>
          <a:xfrm>
            <a:off x="4705200" y="30002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2428920" y="614376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оские чер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pic>
        <p:nvPicPr>
          <p:cNvPr id="135" name="Picture 2" descr="http://zooclub.ru/bezp/4/Helix_pomatia.jpg"/>
          <p:cNvPicPr/>
          <p:nvPr/>
        </p:nvPicPr>
        <p:blipFill>
          <a:blip r:embed="rId1"/>
          <a:stretch/>
        </p:blipFill>
        <p:spPr>
          <a:xfrm>
            <a:off x="0" y="1500120"/>
            <a:ext cx="4417920" cy="33577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57120" y="51436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ноградная ули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http://www.zooeco.com/Im4/Lumbricus%20.jpg"/>
          <p:cNvPicPr/>
          <p:nvPr/>
        </p:nvPicPr>
        <p:blipFill>
          <a:blip r:embed="rId2"/>
          <a:stretch/>
        </p:blipFill>
        <p:spPr>
          <a:xfrm>
            <a:off x="4797360" y="0"/>
            <a:ext cx="4346640" cy="32148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5786280" y="342900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vodnyjmir.files.wordpress.com/2011/05/ustriza.jpg?w=530&amp;h=397"/>
          <p:cNvPicPr/>
          <p:nvPr/>
        </p:nvPicPr>
        <p:blipFill>
          <a:blip r:embed="rId3"/>
          <a:stretch/>
        </p:blipFill>
        <p:spPr>
          <a:xfrm>
            <a:off x="4857840" y="3567240"/>
            <a:ext cx="4286160" cy="3290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2857680" y="6429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р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99"/>
                </a:solidFill>
                <a:uFillTx/>
                <a:latin typeface="Verdana"/>
                <a:hlinkClick r:id="rId1"/>
              </a:rPr>
              <a:t>http://ru.wikipedia.org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99"/>
                </a:solidFill>
                <a:uFillTx/>
                <a:latin typeface="Verdana"/>
                <a:hlinkClick r:id="rId2"/>
              </a:rPr>
              <a:t>http://infofermer.ru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99"/>
                </a:solidFill>
                <a:uFillTx/>
                <a:latin typeface="Verdana"/>
                <a:hlinkClick r:id="rId3"/>
              </a:rPr>
              <a:t>http://www.stihi.ru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99"/>
                </a:solidFill>
                <a:uFillTx/>
                <a:latin typeface="Verdana"/>
                <a:hlinkClick r:id="rId4"/>
              </a:rPr>
              <a:t>http://www.tione.ru/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99"/>
                </a:solidFill>
                <a:uFillTx/>
                <a:latin typeface="Verdana"/>
                <a:hlinkClick r:id="rId5"/>
              </a:rPr>
              <a:t>http://molbiol.ru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Verdana"/>
              </a:rPr>
              <a:t>http://aquadomik.ru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Verdana"/>
              </a:rPr>
              <a:t>http://www.devbio.biology.gatech.edu/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Verdana"/>
              </a:rPr>
              <a:t>http://dl.schoolnet.by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Verdana"/>
              </a:rPr>
              <a:t>http://vsetutonline.com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Verdana"/>
              </a:rPr>
              <a:t>http://www.socioforum.su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Verdana"/>
              </a:rPr>
              <a:t>http://zooclub.ru/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Verdana"/>
              </a:rPr>
              <a:t>http://vodnyjmir.wordpress.com</a:t>
            </a:r>
            <a:endParaRPr b="1" lang="en-US" sz="1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8:16:41Z</dcterms:created>
  <dc:creator>светлана</dc:creator>
  <dc:description/>
  <dc:language>en-US</dc:language>
  <cp:lastModifiedBy>User</cp:lastModifiedBy>
  <dcterms:modified xsi:type="dcterms:W3CDTF">2012-11-05T10:11:49Z</dcterms:modified>
  <cp:revision>16</cp:revision>
  <dc:subject/>
  <dc:title>Как размножаются животные?</dc:title>
</cp:coreProperties>
</file>