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AD6-C46F-49DA-8E3B-1BC66EB8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7B2-598D-4DD8-B128-C160F09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BF9-A618-4F6F-BCA1-63077F61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DB7-C83A-48D6-B512-414721B6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BC2-1113-4958-974B-7C2D5B05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26BA-2EE0-47CB-AA20-6E03E983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08CF-02DD-4CD3-BD3A-D073730F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9C10-F102-4493-A9D7-BB9192D0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3C8E-780E-4315-956B-25644F9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25A1-888D-439B-B838-42BE954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40B-4450-428D-BC40-EA880D2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166-E386-4998-BB07-5E2F95F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0EBF-E119-436F-B2B4-D980F11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8F73-A439-43AA-9BD2-C057B8D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F0EC-80CE-4D20-8718-8317BD2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EB07-C466-483A-8D4A-B043B0EC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088-39D9-4DEF-88F4-3682228C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41F-3572-4423-9B4C-D80CEA45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FF7-B564-4ABA-A018-6589706C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199-2DEB-4C09-9BDD-C70B7AB7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766-B481-4AD7-B944-A57A23F4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C6F-9838-47B3-9EEC-AAC64B0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5FE-36AB-460D-861D-31B512A4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F59-7A62-4D1B-B32B-4885BED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D726-0350-41C9-8CCC-05644BCC1A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60F-8BE5-44F7-859E-8C385624DC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talets.ru/trips/2003/seidozero_gor/08_brusnika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3060720" cy="3141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24000" y="404640"/>
            <a:ext cx="781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УТОЛИТЬ ЖАЖДУ?</a:t>
            </a:r>
            <a:endParaRPr b="0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6004080"/>
            <a:ext cx="50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оект учащихся 2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школы № 31 г.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487440"/>
            <a:ext cx="77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питки из брусники  уто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жажду и повышают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Их хорошо принимать при простудных заболев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люквенные морсы обладаю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жаропонижающим действ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овышают тонус организ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орсы из ежевики легко уто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жажду.Эта ягода  является общеук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ляющим и успокаиваю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ерничные напитки хороши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расстройствах желудка. Эта 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лучшает зр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орсы можно готовить из несколь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ортов ягод. В старину в морс 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добавляли м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Картинка 1 из 33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11280" y="1989000"/>
            <a:ext cx="2448000" cy="1498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732720" y="3068640"/>
            <a:ext cx="2411280" cy="1584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0" y="4724280"/>
            <a:ext cx="205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2060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56000" y="333360"/>
            <a:ext cx="611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ированные напит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8900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 содержат: ни витаминов, ни минерал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177336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В них присутствуют вредные: ароматизаторы, красители, консерван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06864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Comic Sans MS"/>
              </a:rPr>
              <a:t>Углекислый газ, который образует пузырьки, вызывает отрыжку и портит желу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06864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Сахар портит зубы и вызывает ожи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400536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Для подкисления используется кислота, которая вызывает образование камней в почк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566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Не утоляет жажды. Из-за сладости хочется пить еще больш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42920" y="260280"/>
            <a:ext cx="64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утолить жажду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1557360"/>
            <a:ext cx="75610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знать, зачем организму человека нужна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колько воды должен пить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ми напитками, кроме воды модно утолить жа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дготовить для ребят рассказ о разных полезных напи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знать у мамы рецепт приготовления компота, мо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ыяснить, полезны ли сладкие газированные   нап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71640" y="333360"/>
            <a:ext cx="69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Как вы думаете, чем можно утолить жаж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2060640"/>
            <a:ext cx="60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Вода очень нужно организму. Она помогает нам расти, справляться со всякими болезнями, становиться сильными и креп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4724280"/>
            <a:ext cx="62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«Сок жизни» - такое красивое название дал воде выдающийся ученый, художник, скульптор Леонардо да Вин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2916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50920" y="260280"/>
            <a:ext cx="88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чем вода нужна организм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4545720"/>
            <a:ext cx="7632720" cy="19227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Если во время поста или очищения человек может несколько дней прожить без еды, то от воды он не должен отказываться и на ден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88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чем вода нужна организм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34136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ловеку вода необходима для поддержания жизненно важных процессов в организме. Если в организме будет недостаточно воды, то человек может умереть от теплового удара за несколько часов. Вода  охлаждает организм и понижает температуру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573360"/>
            <a:ext cx="8642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Человек сможет прожить без воды около 3 – 5 дней.  Более здоровые люди могут прожить на день или два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еды  подходит горячий травяной чай (без сахара) или просто горячая вод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333360"/>
            <a:ext cx="748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лько воды нужно пить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682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Надо выпивать до 10 стаканов воды в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773360"/>
            <a:ext cx="87487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Надо пить воду утром, вечером и днем за полчаса до еды, примерно по стак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565360"/>
            <a:ext cx="777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о временем человек привыкает к воде, он просто знает, когда и сколько ее ну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357720"/>
            <a:ext cx="85690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Если у человека больной желудок, то лучше пить  горячую воду. Утром она прогоняет сон. Вечером - успокаивает, восстанавливает силы. За полчаса до еды очищает желудок, возбужд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4724280"/>
            <a:ext cx="90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Здоровые  люди могут пить воду теплую или комнатной температуры. Холодная вода и напитки не рекоменд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ЧА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1268280"/>
            <a:ext cx="5148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ай – один из любимых напитков на Руси. Его пьют с сахаром и без сахара, с медом, лимоном, вареньем, цукатами. С пирожными, тортом, пряниками и прочей вкусняти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3960720" cy="43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00720" y="4076640"/>
            <a:ext cx="3958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 медом, сахаром варень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Чай, чай,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однимает настро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Чай, чай, 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3213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335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03640" y="333360"/>
            <a:ext cx="273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РО КОМПОТ НЕЗРЯ ТВЕРДЯ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Н ПОЛЕЗЕН ДЛЯ РЕБЯ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4869000"/>
            <a:ext cx="7775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компоте много витаминов и микроэлементов. Компот очень полезен, поэтому его готовят в детских садах, школах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429000"/>
            <a:ext cx="61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Фрукты, ягоды сварил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Вкусно елись, сладко п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32000" y="4482360"/>
            <a:ext cx="72723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ля приготовления морса  использовались лесные ягоды. Они придают напитку неповторимый вкус и аромат, являются источником витаминов. Лесные ягоды известны лечебными свойств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71640" y="765000"/>
            <a:ext cx="720072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103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РС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каждой ягодке поклони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62864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рс - один из древнейших русских напитков. Слово  имеет византийские корни и происходит от слова«Мурса», что в переводе означало «вода с медом». Это ягодный сок, разведенны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2592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14:50Z</dcterms:created>
  <dc:creator>1</dc:creator>
  <dc:description/>
  <dc:language>en-US</dc:language>
  <cp:lastModifiedBy>home</cp:lastModifiedBy>
  <dcterms:modified xsi:type="dcterms:W3CDTF">2012-11-05T09:26:04Z</dcterms:modified>
  <cp:revision>22</cp:revision>
  <dc:subject/>
  <dc:title>Слайд 1</dc:title>
</cp:coreProperties>
</file>