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8B6C-27E8-40E9-86BA-BE673FE4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C72D-C65E-4088-8B60-BD3928A4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391E-485C-4647-BF22-D6435CCBF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0D03-E5DC-41B9-B74C-7AD15786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3ACB-7F8E-4284-8DB1-4720B1E4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1A00-FA9B-4858-BC30-2933BC71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0110-43D1-4626-96FC-27104C5D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23FD-DFCD-409A-9649-8A85054A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EF8C-A482-4513-983F-44865BC5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E631-B575-4768-B43B-A59821B1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005D-1DFC-4E2C-8B70-0EB97723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D017-1A90-4D97-A596-F821944D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1DC1-4D48-41E3-B6FB-BA7C27D3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942C-DDAD-4A05-9B84-95397352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12A3-CA8B-44A5-9A57-E4E44F2C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C36F-46D5-416C-AB19-EF7A68023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B6FA-2589-4312-AE4F-A630736F2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7058-1E72-4B9D-9411-2DFD23F1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248C-871E-4031-BC57-554CD7C7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68E6-017D-49E1-B3F1-76276EB2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9616-EEE7-4D66-BD38-7A2A5C55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14EC-F1C6-4C87-875E-5023379D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F134-BE3B-4103-B397-A6BC85B9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29CE-55A3-44D4-AA12-323A5EE8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8EB6-0740-4287-9672-6DEF33E4B8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0720-405E-478C-A332-3EC21139D50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Казачьему роду, нет переводу!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38120" y="1773360"/>
            <a:ext cx="6467760" cy="48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Оренбургское казачество.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ренбургское казачество - этническая группа  казаков, которые живут вдоль рек Урал, Орь, Сакмара, Миасс, Исеть, Уй, Тобол. Оренбургское казачье войско второе по старшинству в казачьи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ойсках с 1574 г. По своей организации Оренбургское казачье войско было близко к регулярным войскам и несло службу по Верхнеяицкой линии - от Яицкого городка до Верхнеяицкой крепост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ренбургскому Казачьему Войску давали высокий процент грамотности. В Оренбургском казачьем училище готовилась к производству в офицеры молодежь из всех тех Войск, у которых не было своих военных училищ. Первым атаманом ОКВ был В. И. Могутов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881360"/>
            <a:ext cx="403848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Оренбургское казачество.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 1790 казаков начинают привлекать и для внешних войн, в этом году сотня Оренбургского войска участвовала в Шведской войне в Финляндии. В 1807 году два полка участвовали в войне с Францией в Пруссии. В 1812 — в делах с французами у Любомля, Борисова, д. Стаховой и Молодечны. В 1813 — в осаде Данцига, в битве при Лейпциге и в сражениях при Веймаре, Гайнау, Франкфурте и Ла-Ротьере. В 1814 Оренбургский 3-й полк под начальством г.-м. Сеславина, участвовал во всех делах этого партизана. С 1820 по 1873 некоторые сотни Оренбургского войска участвовали в походах в Бухару и киргизские степи на северо-восточном берегу Каспийского моря. Участие в карательных экспедициях во время восстания 1838-1848 г.г.. В 1839—1840 Оренбургское войско участвовало в экспедиции ген. Перовского в Хиву. Во время русско-турецкой войны 1877—1878 6-й и 7-й казачьи полки отличились под Карсом. Во время Первой мировой войны 1914—18 Оренбургское войско выставило 18 конных полк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4360" y="2467080"/>
            <a:ext cx="3600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Сибирское казачество.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бирское казачество - иррегулярное войско в XVII—XX веке в Российской империи, на территории Сибири (включая территорию Северного и Восточного Казахстана), старши́нство с 6 декабря 1582 года из казаков, служивших с XVI века в городах и на пограничной линии. «Столицей» войска являлся г. Омск, где находились все общевойсковые учреждения. Сибирское казачье войско — это особое, исторически сложившееся сословно-государственное учреждение Российской империи, существовавшее в XIX-начале XX в. и имевшее собственные территорию, управление, военную организацию, систему учебных заведений и хозяйственные структур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14440" y="1828800"/>
            <a:ext cx="392436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Сибирское казачество.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24—1847 гг. — Сибирские казаки вели борьбу с восстанием киргизов под руководством Кенесары Касымова. 1860—1861 гг. — Сибирские казаки участвовали в «делах» с кокандцами и киргизами при Узун-Агаче, Пишпеке, Токмаке. 1864 г. — Сибирские казаки участвовали в столкновении с китайцами при Борохудзире. 1873 г. — Сибирские казаки участвовали в Хивинском походе. 1904—1905 гг. — Сибирские казачьи полки 4, 5, 7 и 8 принимали участие в Русско-Японской войне. 1905—1906 гг. — для поддержания порядка внутри Империи было мобилизовано всё войско. 1914—1917 гг. — Сибирское казачье войско выставило на фронт 8 казачьих полков, 3 отдельных казачьи сотн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762440" y="1973160"/>
            <a:ext cx="381024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Семиреченское казачество.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емиреченское казачество - Иррегулярное войско, образованное в 1867 году из 9-го и 10-го полковых округов Сибирского казачьего войска. Войску присвоено старшинство, одинаковое с Сибирским казачьим войском, то есть с 1582 года. Размещалось в Семиреченской области. Основными задачами войска являлись оборона восточной границы Туркестана, несение сторожевой и охранной служб, выполнение ряда полицейских функций. Порядок службы казаков был определён Положением о военной службе казаков Семиреченского войска 1879 года. Войско подчинялось Главному управлению казачьих войск, которое осуществляло руководство через командующего войсками Семиреченской области, который являлся одновременно наказным атаманом, и подчинялся с 1899 года туркестанскому генерал-губернатору. Станицы войска возглавлялись станичными атаманами, подчинёнными наказному атаману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3440" y="2344680"/>
            <a:ext cx="408780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Семиреченское казачество.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1869 г. англичане инспирировали и вооружили восстание в китайском Кашгаре, банды оттуда принялись нападать на Семиречье. И атаман Колпаковский ввел казаков и отряды солдат в Китай. Семиреченские казаки участвовали в завоевании Средней Азии Российской империей (в Кульджинском походе 1871 года, Хивинском походе 1873 года, Кокандских походах 1875 и 1876 годов). Полки трёх очередей войска были мобилизованы для участия в Первой мировой войне. В 1914 году, в связи с начавшейся Первой мировой войной, все семиреченское служилое казачество было мобилизовано и самоотверженно сражалось на боевых рубежах в составе Туркестанских казачьих бригад. Участие в подавлении восстания 1916 г. Значительная часть казаков в годы Гражданской войны боролась на стороне Белого движения, меньшая часть на стороне Советской власти. В апреле 1920 года, после победы Советской власти в Семиречье, Семиреченское казачье войско было упразднено. Остатки семиреченских казаков ушли в Западный Китай, основав колонию в Кульдж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71400" y="1828800"/>
            <a:ext cx="361152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Результаты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2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 Создание опросника по теме «Казачество» (приложение 1)  и результаты ответов учащихся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2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Было опрошено 90 школьников 6,7 – х классов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2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А) 50% учеников не смогли сформулировать ответ на вопрос кто такие казаки? Остальные дали очень расплывчатые ответы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2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Б) 32% учеников считают, что казаки это национальность, остальные дают разные уточнения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2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В) Из 90 опрошенных в школе 6 человек назвали себя казаками, это 8% от общего числа опрошенных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2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Г) Н а просьбу оценить и объяснить девиз казаков 45% школьников подметили, что казаки стремятся к независимости, что они горды и мужественны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2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Д) Половина опрошенных, правильно определило оружие, которым владеют казаки это шашки и сабли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2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Е) Однако, 58% ребят на вопрос что вы знаете о казаках, ответили ничего. Остальные выделили качества характера и внешность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2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Ж) По поводу занятий казаков ученики в основном правильно определили, что они занимались земледелием, скотоводством, рыболовством, воевали, но никто не отметил охрану границ и охрану порядк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2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И) 62% ребят знают, что казаки проживают  в республике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2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К) Но, оказалось, сложно определить места проживания казаков. Школьники смогли лишь назвать регионы – Северный и Западный Казахстан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2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Л) 26% предположили, что семиреки это казаки, 23%  назвали так просто жителей Семиречья, не ассоциируя их с казаками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2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. При поиске исторических карт, связанных с местами проживания и прохождения службы казаками мы столкнулись с проблемой, что карты, которая, включала в себя все 4 казачьих войска в Казахстане, нет. Поэтому мы создали карту на которую нанесли территории, занимаемые всеми четырьмя казачьими войсками – оренбургским, семиреченским, уральским и сибирским, примерно на начало 20 века. Приложение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2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. Чтобы обобщить и сравнить некоторые показатели, связанные с казачеством в Казахстане, мы составили сравнительную таблицу, в которую внесли сведения о всех 4 казачьих войсках. В таблицу были внесены сведения о времени образования войск, о их центрах, о численности войск в начале 20 века, о их организации, о национальном составе, о занятиях, о занимаемой территории и включены некоторые особенности. (Приложение 3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2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4. Чтобы получить более широкое представление о деятельности казаков мы составили сводную таблицу о участии казачьих войск  в различных исторических событиях, например, участие в войнах, военных походах, в карательных экспедициях и разведывательных операциях. Также в таблице содержаться сведения, не указанные в сравнительной таблице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Выводы исследования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2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Казаки сохранили характерные представления о общей исторической судьбе, родстве всех казачьих войск, едином образе жизни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2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Их традиции – свободолюбия, преданность воинскому долгу, коллективизм, взаимопомощь, веротерпимость и сегодня востребованы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2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Распространены были среди казаков и межэтнические контакты, например, институт куначества, двуязычие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2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В некоторых статьях присутствует односторонняя оценка истории казачества только через призму политических событий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2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Казаки владеют способностью к самоорганизации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2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Возрождаются традиционные казачьи механизмы взаимоотношений, поведения, выживания в постсоветское время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2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Казачество самодостаточный элемент, уверенно чувствующий себя как в Казахстане, так и за его пределами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2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В современном обществе есть негативные стереотипы о казаках. Так нет целостности соответствия формы и содержания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2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Казачьи организации занимают лидирующее положение среди всех движений и организаций славянского населения Казахстан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2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Казачество в Казахстане, несомненно, является одним из важнейших факторов обеспечения национальной безопасности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127400" y="1949400"/>
            <a:ext cx="449280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2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.    Первый и самый страшный период казачьего геноцида пришелся на      время      братоубийственной Гражданской войны, когда из 4 млн. казачьего населения, свыше 2 млн. было уничтожено физически. Многие тысячи, спасаясь от верной гибели, были вынуждены покинуть Родину и навсегда уйти в эмиграцию. Второй период геноцида казачества пришелся на годы проведения всеобщей коллективизации 1929-1933 гг., от которой, из всех    сельских жителей страны, более всего пострадали казаки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2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 Уже есть попытки использовать современных казаков  при защите границы, охране правопорядка, охране леса, территории церквей и монастырей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2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. Организации казаков сотрудничают с национально-культурными центрами по всей республике. Участвуют в делах Ассамблеи народов Казахстан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2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. Некоторые из казаков являются депутатами маслихатов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2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. Верность памяти  предков,  долгу  и  отчему  краю – не  простые  слова  для  казака, как  и для  большинства  коренного  населения.  Проведённый  выборочный  опрос  показал, что  основная  часть  казаков  из  числа  наших  земляков  Отечество  ассоциируют  с  краем, где  родились  и  выросли,  гордятся  государственными  символами  Республики  Казахстан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3168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Казачество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сегодня в Казахстане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зачьи организации  – иерархизированная и функционально определенная структура с правилами и полномочиями, свой бизнес, силовой ресурс, контакты с органами власти, бизнес-средой,  и другими казачьими организациями как внутри страны, так и за рубеж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овременные неформальные объединения, связывающие свою деятельность с возрождением традиций и культуры, восстановлением правды о прошлом, "реабилитацией" казачества, представляют интерес с точки зрения понимания новых процессов, происходящих в обществ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639880" y="4049640"/>
            <a:ext cx="386424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420000"/>
                </a:solidFill>
                <a:latin typeface="Times New Roman"/>
              </a:rPr>
              <a:t>Актуальность темы исследования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: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дикальные социально-экономические, политические и культурные изменения, происходящие в казахстанском обществе, появление новых ценностей закономерно приводят к переосмыслению и актуализации сложных  проблем, стоящих перед обществом, в том числе в области судэтнических взаимоотношений к которой относится и проблемы истории казачества и традиционные механизмы взаимоотношений, поведения, выживания и адаптации казачества в Казахстане на современном этап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20000"/>
                </a:solidFill>
                <a:latin typeface="Times New Roman"/>
              </a:rPr>
              <a:t>Проблема: </a:t>
            </a:r>
            <a:r>
              <a:rPr b="0" lang="en-US" sz="1400" spc="-1" strike="noStrike">
                <a:solidFill>
                  <a:srgbClr val="420000"/>
                </a:solidFill>
                <a:latin typeface="Times New Roman"/>
              </a:rPr>
              <a:t>Конец советских реалий, от идеологии до социальной политики и механизмов идентификации, не принес на казахстанские просторы новой общей идентичности. Казахстан переживает активизацию линий этнического размежевания, и одной из явных линий стало казачество.</a:t>
            </a:r>
            <a:endParaRPr b="0" lang="en-US" sz="1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отиворечие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наличии всех возможностей и государственной поддержки  по сей день, отсутствуют научные публикации, охватывающие все группы казачества в республике, не изучены процессы адаптации казаков к современным реалиям, не собрано их культурное наслед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8320" y="1995480"/>
            <a:ext cx="403848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20000"/>
                </a:solidFill>
                <a:latin typeface="Times New Roman"/>
              </a:rPr>
              <a:t>Цель работы</a:t>
            </a:r>
            <a:r>
              <a:rPr b="0" lang="en-US" sz="2000" spc="-1" strike="noStrike">
                <a:solidFill>
                  <a:srgbClr val="420000"/>
                </a:solidFill>
                <a:latin typeface="Times New Roman"/>
              </a:rPr>
              <a:t>: Исследование истории казачества на территории Казахстана и обобщение имеющихся данных о современном положении казаков.</a:t>
            </a:r>
            <a:endParaRPr b="0" lang="en-US" sz="2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дбор и изучение литературы по данной тем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зработка анкет и опросников для уч-ся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ыявление особенностей исторического развития казачества в Казахстан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сследования современного положения казаков в республик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анализ полученных данных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оставление словаря терминов и таблиц обобщающих сведения о казака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84360" y="3645000"/>
            <a:ext cx="4535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420000"/>
                </a:solidFill>
                <a:latin typeface="Times New Roman"/>
              </a:rPr>
              <a:t>Предмет исследования:  </a:t>
            </a:r>
            <a:r>
              <a:rPr b="0" lang="en-US" sz="2900" spc="-1" strike="noStrike">
                <a:solidFill>
                  <a:srgbClr val="420000"/>
                </a:solidFill>
                <a:latin typeface="Times New Roman"/>
              </a:rPr>
              <a:t>государственная политика в отношении казачества на разных этапах истории существования казачества.</a:t>
            </a:r>
            <a:endParaRPr b="0" lang="en-US" sz="29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Гипотез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если изучить историю казачества в общем и отдельно на территории республики, разработать опросники для учащихся, составить словарь терминов, то всё это позволит задуматься о роли и феномене казачества. Возможно, побудит кого-то вспомнить свои исторические корни и свою этническую идентичность или вызовет интерес к данной тем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2952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20000"/>
                </a:solidFill>
                <a:latin typeface="Times New Roman"/>
              </a:rPr>
              <a:t>Методы исследования</a:t>
            </a: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: анкетирование, анализ, сравнение и обобщение данных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049280"/>
            <a:ext cx="8229600" cy="20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Ожидаемый результа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словарь терминов, анализ анкет школьников, карта расселения казаков по территории республики и сравнительные таблиц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39607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0000"/>
                </a:solidFill>
                <a:latin typeface="Times New Roman"/>
              </a:rPr>
              <a:t>Этноним термина «казак»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ноним "казак" встречается в арабских, персидских, русских, греческих и других летописях. Данный термин "казак" использовался ранее разными тюркскими племенами для обозначения своего статуса и состояния. Что касается казачества, то согласно мнению Гумилева, одно из племен при слиянии называло себя именно так и даный термин был взят как самоназвание этой субэтнической группы. Таким образом термин &lt;казак&gt; в настоящее время используется одним довольно крупным этносом - казахами (самоназвание "казак") и субэтнической группой также называющих себя &lt;казак&gt;, известным в русском языке как "казаки"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2583000"/>
            <a:ext cx="403848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Уральское казачество.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ральское казачество - вольные общины яицких казаков образовались в конце XV века на реке Яик. По общепринятой традиционной версии, как и донские казаки, яицкие казаки формировались из переселенцев из Русского государства. Во главе уральского казачества были поставлены наказной атаман и войсковое управлени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48320" y="2060640"/>
            <a:ext cx="403848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Уральское казачество.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ральское казачье войско участвовало почти во всех войнах, которые вела Россия. В 1798 году два полка участвовали в Итальянском и Швейцарском походах А. В. Суворова. В Отечественную войну Уральские 3-й и 4-й казачьи полки — в составе Дунайской армии адмирала Чичагова, в зарубежных походах — в корпусах генералов Ф. К. Корфа и Д. С. Дохтурова. Казаки участвовали в русско-турецкой войне 1828—1829 годов и подавлении Польского восстания 1830 года. Во время Крымской войны из Уральского казачьего войска были откомандированы два полка. Карательные экспедиции в восстании на Мангышлаке. Войны XX века начались для уральцев с Русско-японской, куда были направлены 4-й и 5-й Уральские казачьи полки (в составе Урало-Забайкальской дивизии). Во время Первой мировой войны войско выставило 9 конных полков (50 сотен), артиллерийскую батарею, гвардейскую сотню, 9 особых и запасных сотен, 2 команды (всего на 1917 год свыше 13 тысяч человек). За доблесть и отвагу 5378 уральских казаков и офицеров были награждены Георгиевскими крестами и медаля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8320" y="2701800"/>
            <a:ext cx="403848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14:58:08Z</dcterms:created>
  <dc:creator>Аедрей</dc:creator>
  <dc:description/>
  <dc:language>en-US</dc:language>
  <cp:lastModifiedBy>Аедрей</cp:lastModifiedBy>
  <dcterms:modified xsi:type="dcterms:W3CDTF">2012-04-24T15:41:41Z</dcterms:modified>
  <cp:revision>3</cp:revision>
  <dc:subject/>
  <dc:title>Казачьему роду, нет переводу!</dc:title>
</cp:coreProperties>
</file>