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5.gif" ContentType="image/gif"/>
  <Override PartName="/ppt/media/image14.jpeg" ContentType="image/jpeg"/>
  <Override PartName="/ppt/media/image6.gif" ContentType="image/gif"/>
  <Override PartName="/ppt/media/image26.jpeg" ContentType="image/jpeg"/>
  <Override PartName="/ppt/media/image32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1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media/image23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320-41D3-4FE6-890A-AB24981A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2CC-E560-41D3-988E-5E29915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EEA-8C3E-4578-A7FE-9939B4ED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283-D6B2-4B6E-805D-51C73ACC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C18-D741-47A1-BF8F-ACEA7661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BF5F-34A0-4C6A-BFBB-6A62298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326-BA94-46DE-A06F-E3449A9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B070-C1D8-463A-B293-69CCF86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C59F-4410-4B8D-8C26-A4DD63BD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5F2-BB6D-464C-A999-607253D5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F158-A9BC-4112-82D4-14D3D44C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B5A-2CBA-481D-BBF9-04C5DA1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6501-71BE-4692-A22A-9B3FB4C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90E0-21BF-4836-92CF-6D078AA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8130-7EAA-40A9-BC1E-4FFF60A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8625-86FE-4D4D-9E79-5BDDDC91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C3FF-6C90-4B69-BEF6-5B10E1BB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10C-8E37-45FB-8141-2F371E02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ACA-59F3-4665-A50E-F93D13A0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32B-719F-45D4-BF35-1B21F4BF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507-169A-4E36-B7AD-A916985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C4D-E3C1-4DE2-BA43-E5552DA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393-72CB-411A-AC6D-544A80BA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F65-5780-47B1-B8CA-469D2ED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376B-A715-436F-A83E-D208EDBBD5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C5A4-8E54-450E-99FF-2A050E3383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poxa.info/portal.php?cat_id=7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67160" y="2781360"/>
            <a:ext cx="466884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О Ш К И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780000" y="33577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003640" y="404640"/>
            <a:ext cx="1872000" cy="18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24444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К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Заболела моя ко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Села тихо на око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очему-то не мурч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Я зову - она мол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Стало очень жалко к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Мою рыженькую кро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Налила ей мол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Расчесала ей б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Рыбой свежей угост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Коврик мягкий постел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349360"/>
            <a:ext cx="4500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Уложила её сп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ерестала «Рыжей» з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Я имя новое д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 кошку «Лизой» наз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Бант на шею завя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огулять во двор св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Чтобы только моя к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Замурлыкала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Мы ухаживаем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За любимицей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    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* *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                  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КАЛИНИНА  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2879640" cy="242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692360" y="2781360"/>
            <a:ext cx="73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Кошка не только успокоит человека, но поделится с ним своей полезной энергией. Погладить домашнюю любимиц и послушать ее успокаивающее мурлыканье полезно в случае если человек раздражен, злится и просто переполнен негативной энергий. Кошка заберет излишек энергии и человеку станет легч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260280"/>
            <a:ext cx="4572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Если человек устал, вымотал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на него давят различные проблемы или просто не хватает энерг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нужно просто взять на колени пушистую любимицу и погла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ее несколько мин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одержать на коленях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887920" cy="39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cover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Коты в Петродворце"/>
          <p:cNvPicPr/>
          <p:nvPr/>
        </p:nvPicPr>
        <p:blipFill>
          <a:blip r:embed="rId2"/>
          <a:stretch/>
        </p:blipFill>
        <p:spPr>
          <a:xfrm>
            <a:off x="0" y="0"/>
            <a:ext cx="2771640" cy="245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Голландский кот"/>
          <p:cNvPicPr/>
          <p:nvPr/>
        </p:nvPicPr>
        <p:blipFill>
          <a:blip r:embed="rId3"/>
          <a:stretch/>
        </p:blipFill>
        <p:spPr>
          <a:xfrm>
            <a:off x="0" y="3284640"/>
            <a:ext cx="3240000" cy="3024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Памятник хитрому коту"/>
          <p:cNvPicPr/>
          <p:nvPr/>
        </p:nvPicPr>
        <p:blipFill>
          <a:blip r:embed="rId4"/>
          <a:stretch/>
        </p:blipFill>
        <p:spPr>
          <a:xfrm>
            <a:off x="5792760" y="1125360"/>
            <a:ext cx="3351240" cy="3959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Кот-подхалим"/>
          <p:cNvPicPr/>
          <p:nvPr/>
        </p:nvPicPr>
        <p:blipFill>
          <a:blip r:embed="rId5"/>
          <a:stretch/>
        </p:blipFill>
        <p:spPr>
          <a:xfrm>
            <a:off x="3276720" y="2465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76720" y="6216480"/>
            <a:ext cx="32115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стовский коробей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 котом-подхали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44280" y="5037120"/>
            <a:ext cx="25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ск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л. Земля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«Хитрый ко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49920" y="63086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ГОЛ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43560" y="2421000"/>
            <a:ext cx="30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оты в Петродвор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анк-Петербу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Глиняный кот"/>
          <p:cNvPicPr/>
          <p:nvPr/>
        </p:nvPicPr>
        <p:blipFill>
          <a:blip r:embed="rId6"/>
          <a:stretch/>
        </p:blipFill>
        <p:spPr>
          <a:xfrm>
            <a:off x="2843280" y="0"/>
            <a:ext cx="3529080" cy="2349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23760" y="1844640"/>
            <a:ext cx="1889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ШВЕЙЦ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Коты в Петродворце"/>
          <p:cNvPicPr/>
          <p:nvPr/>
        </p:nvPicPr>
        <p:blipFill>
          <a:blip r:embed="rId2"/>
          <a:stretch/>
        </p:blipFill>
        <p:spPr>
          <a:xfrm>
            <a:off x="0" y="0"/>
            <a:ext cx="2571840" cy="19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11560" y="2997360"/>
            <a:ext cx="229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СЛЕ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Развернуть на весь экран"/>
          <p:cNvPicPr/>
          <p:nvPr/>
        </p:nvPicPr>
        <p:blipFill>
          <a:blip r:embed="rId3"/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Развернуть на весь экран"/>
          <p:cNvPicPr/>
          <p:nvPr/>
        </p:nvPicPr>
        <p:blipFill>
          <a:blip r:embed="rId4"/>
          <a:stretch/>
        </p:blipFill>
        <p:spPr>
          <a:xfrm>
            <a:off x="0" y="3716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Развернуть на весь экран"/>
          <p:cNvPicPr/>
          <p:nvPr/>
        </p:nvPicPr>
        <p:blipFill>
          <a:blip r:embed="rId5"/>
          <a:stretch/>
        </p:blipFill>
        <p:spPr>
          <a:xfrm>
            <a:off x="5148360" y="3645000"/>
            <a:ext cx="3995640" cy="321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Развернуть на весь экран"/>
          <p:cNvPicPr/>
          <p:nvPr/>
        </p:nvPicPr>
        <p:blipFill>
          <a:blip r:embed="rId6"/>
          <a:stretch/>
        </p:blipFill>
        <p:spPr>
          <a:xfrm>
            <a:off x="2627280" y="2205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6119640" y="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Развернуть на весь экран"/>
          <p:cNvPicPr/>
          <p:nvPr/>
        </p:nvPicPr>
        <p:blipFill>
          <a:blip r:embed="rId8"/>
          <a:stretch/>
        </p:blipFill>
        <p:spPr>
          <a:xfrm>
            <a:off x="0" y="26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68360" y="333360"/>
            <a:ext cx="525600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МЕШНЫЕ  ФО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13440" y="4941720"/>
            <a:ext cx="232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МИЛЫМ РАЙ И 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1800" y="6491160"/>
            <a:ext cx="212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Ы, ЧТО СКАЗ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997360"/>
            <a:ext cx="26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ЖЕТСЯ, ПАХ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ЯС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49840" y="6491160"/>
            <a:ext cx="430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НЕ ВИНОВАТ, ОНА САМА ПРИШ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26920" y="333360"/>
            <a:ext cx="619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Т  И  ВСЕ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125360"/>
            <a:ext cx="8200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регите наших братьев меньших.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2565360"/>
            <a:ext cx="7417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резентацию подготовил уч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ЗО и черчения МОУ СОШ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г.Черняховск, Калининград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Использовались различные сайты Интернета     и личные фот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КАЛИНИНА Н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wheel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491240" y="4941720"/>
            <a:ext cx="1652760" cy="191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25920" y="1916280"/>
            <a:ext cx="2594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ШИ  К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937760"/>
            <a:ext cx="7524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Считается, что кошка впервые была одомашнена около 3000 г. до н.э. в Древнем Египте. Эти небольшие африканские кошки ценились за свои охотничьи навы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они уничтожали змей, крыс и мыш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1341360"/>
            <a:ext cx="65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олее 50 млн. лет назад на Земле обитал маленький, похожий на ласку зверек. Ученые полагают, что именно он является предком современных домашних кошек, енотов, собак и медведей, и что первые представители семейства кошачьих появились на нашей планете примерно 40 млн.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348000" y="692280"/>
            <a:ext cx="4176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6000" y="2419560"/>
            <a:ext cx="777564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шки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чень умные су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смотря на их кажущуюся внешнюю пассивность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В зависимости от настроения кошка может быть сонной и ленивой или же игривой, общительной, в какие-то моменты она может требовать ласки, особенно это бывает после работы в конце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20884200">
            <a:off x="324000" y="0"/>
            <a:ext cx="3276360" cy="27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71640" y="2075040"/>
            <a:ext cx="6372360" cy="4782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749480" y="2133720"/>
            <a:ext cx="419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ЕТЕРБУРГСКИЙ СФИН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21010800">
            <a:off x="250560" y="1052280"/>
            <a:ext cx="4392360" cy="3678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21040800">
            <a:off x="588600" y="4365720"/>
            <a:ext cx="43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ЕНГАЛЬСКИЙ  ЛЕОПАРД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940360" y="18900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95280" y="404640"/>
            <a:ext cx="59119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ОДЫ  КОШ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63528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1000" y="551664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ЕЙН-К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 rot="837600">
            <a:off x="4427280" y="549360"/>
            <a:ext cx="4228920" cy="4822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724360" y="566100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864600">
            <a:off x="5758560" y="558972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strips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sibirskaya.jpg"/>
          <p:cNvPicPr/>
          <p:nvPr/>
        </p:nvPicPr>
        <p:blipFill>
          <a:blip r:embed="rId2"/>
          <a:stretch/>
        </p:blipFill>
        <p:spPr>
          <a:xfrm rot="807600">
            <a:off x="4932000" y="404640"/>
            <a:ext cx="3240000" cy="3024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137000">
            <a:off x="4808160" y="299736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ИБИ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siamskaya.jpg"/>
          <p:cNvPicPr/>
          <p:nvPr/>
        </p:nvPicPr>
        <p:blipFill>
          <a:blip r:embed="rId3"/>
          <a:stretch/>
        </p:blipFill>
        <p:spPr>
          <a:xfrm>
            <a:off x="5435640" y="3789360"/>
            <a:ext cx="3205080" cy="2752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76320" y="64008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ИАМ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276720" y="1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russk-golub.jpg"/>
          <p:cNvPicPr/>
          <p:nvPr/>
        </p:nvPicPr>
        <p:blipFill>
          <a:blip r:embed="rId5"/>
          <a:stretch/>
        </p:blipFill>
        <p:spPr>
          <a:xfrm rot="20975400">
            <a:off x="250560" y="333360"/>
            <a:ext cx="2950920" cy="2814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20852400">
            <a:off x="0" y="5490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УССКАЯ  ГОЛУБ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0" y="3102120"/>
            <a:ext cx="5003640" cy="3755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400800"/>
            <a:ext cx="39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РВЕЖСКИЙ  ЛЕСНО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egipet-mau.jpg"/>
          <p:cNvPicPr/>
          <p:nvPr/>
        </p:nvPicPr>
        <p:blipFill>
          <a:blip r:embed="rId2"/>
          <a:stretch/>
        </p:blipFill>
        <p:spPr>
          <a:xfrm>
            <a:off x="0" y="0"/>
            <a:ext cx="3492360" cy="34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080" y="335772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ГИПЕТСКАЯ  М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devon-reks.jpg"/>
          <p:cNvPicPr/>
          <p:nvPr/>
        </p:nvPicPr>
        <p:blipFill>
          <a:blip r:embed="rId3"/>
          <a:stretch/>
        </p:blipFill>
        <p:spPr>
          <a:xfrm>
            <a:off x="5110200" y="2824200"/>
            <a:ext cx="4033800" cy="4033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114160" y="64008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ВОН-Р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ekzot.jpg"/>
          <p:cNvPicPr/>
          <p:nvPr/>
        </p:nvPicPr>
        <p:blipFill>
          <a:blip r:embed="rId4"/>
          <a:stretch/>
        </p:blipFill>
        <p:spPr>
          <a:xfrm>
            <a:off x="3635280" y="42840"/>
            <a:ext cx="3457800" cy="3457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082120" y="34290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К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124000" y="3933720"/>
            <a:ext cx="2594160" cy="259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333360"/>
            <a:ext cx="7920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О целительских способностях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братьев наших меньших человечеству известно уже много тысяч лет. Кошек-целительниц почитали в Древнем Египте, и успешно используют их лекарские качества в наше время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5256000" cy="356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-213840"/>
            <a:ext cx="8243640" cy="69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Вас беспокоят остеохондроз шейного отдела или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гипертония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? Ваша кошка может лечь на проблемную зону и просто помурлыкать, а болезнь отступит. Такую же процедуру нужно проделать если замучила боль в коленях или разыгрался ревматизм, кошечка погреет их своим теплом и заберет у человека негативную энергию.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Домашние кошки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(именно кошки, а не коты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настоящие экстрасен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Они сами могут чув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какая хворь одол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хозяина и приходя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помощь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672000" cy="356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линина Нина -учитель ИЗО и черчения. Черняховск</a:t>
            </a:r>
          </a:p>
        </p:txBody>
      </p:sp>
    </p:spTree>
  </p:cSld>
  <p:transition spd="slow">
    <p:cover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2:09:05Z</dcterms:created>
  <dc:creator>Nina</dc:creator>
  <dc:description/>
  <dc:language>en-US</dc:language>
  <cp:lastModifiedBy>Customer</cp:lastModifiedBy>
  <dcterms:modified xsi:type="dcterms:W3CDTF">2012-11-05T11:49:52Z</dcterms:modified>
  <cp:revision>26</cp:revision>
  <dc:subject/>
  <dc:title>Слайд 1</dc:title>
</cp:coreProperties>
</file>