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914A-FD40-4E1E-83F3-8C58ABF8BF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0AF4-F3DB-49C2-9843-C05C678376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5F38-13B5-4F5C-83C6-A4712398BD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765-47BD-4925-BBC3-E46AAED5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F53-6D1A-476C-A62C-78B8580A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822-688E-4C84-91B9-D1B18907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20C-29A9-41A8-AE88-743C13D2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D01-797B-4F83-B50C-BD7B2A77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199-80A4-4069-A071-B757EBAF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649-35F9-4472-BB0A-E2B9F7A7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D3D-C3FB-4C82-A525-FF102361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5C1-FFDA-4173-8899-251FAABD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2A8-5579-45B6-BAB9-6679147E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35D-17DA-4411-B3D7-02DDCFB4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866-3F81-4CD1-8F09-FE082167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A0BC-91DF-43CB-8B23-EB87ABECCC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е собр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71680" y="128592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a_AlternaSh"/>
              </a:rPr>
              <a:t>Подготовка  детей с нарушениями речи к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6" descr="рисунок Роль семьи .jpg"/>
          <p:cNvPicPr/>
          <p:nvPr/>
        </p:nvPicPr>
        <p:blipFill>
          <a:blip r:embed="rId1"/>
          <a:stretch/>
        </p:blipFill>
        <p:spPr>
          <a:xfrm>
            <a:off x="2643120" y="2928960"/>
            <a:ext cx="40086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о помочь детям справиться с ожидающими их сложными трудностями, задачами нужно позаботиться о своевременном и полноценном формировании у них речи. Это -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основное условие успешного обуч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собрание.gif"/>
          <p:cNvPicPr/>
          <p:nvPr/>
        </p:nvPicPr>
        <p:blipFill>
          <a:blip r:embed="rId1"/>
          <a:stretch/>
        </p:blipFill>
        <p:spPr>
          <a:xfrm>
            <a:off x="4500720" y="4000680"/>
            <a:ext cx="36432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блема нарушений письменной речи - одна из самых актуальных для школьного обучения, поскольку письмо и чтение из цели начального обучения превращаются в средство дальнейшего получения знаний учащими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10" descr="Мои семинары.jpeg"/>
          <p:cNvPicPr/>
          <p:nvPr/>
        </p:nvPicPr>
        <p:blipFill>
          <a:blip r:embed="rId1"/>
          <a:stretch/>
        </p:blipFill>
        <p:spPr>
          <a:xfrm>
            <a:off x="3786120" y="3929040"/>
            <a:ext cx="18813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ебования к общему и речевому развитию учащих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е звукопроизношени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ый фонематический слу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ый  словарный запас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ая связная реч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ая общая и мелкая мотори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ёткая ориентация в схеме тела и пространств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о сформированные  память, внимание, мышлени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ая коммуникативная деятельность, желание учить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В 1й класс.jpg"/>
          <p:cNvPicPr/>
          <p:nvPr/>
        </p:nvPicPr>
        <p:blipFill>
          <a:blip r:embed="rId1"/>
          <a:stretch/>
        </p:blipFill>
        <p:spPr>
          <a:xfrm>
            <a:off x="7308720" y="836640"/>
            <a:ext cx="16430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оменда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j0232133"/>
          <p:cNvPicPr/>
          <p:nvPr/>
        </p:nvPicPr>
        <p:blipFill>
          <a:blip r:embed="rId1"/>
          <a:stretch/>
        </p:blipFill>
        <p:spPr>
          <a:xfrm rot="544200">
            <a:off x="2574720" y="4843440"/>
            <a:ext cx="2695320" cy="2071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28400" y="1285560"/>
            <a:ext cx="8677080" cy="38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тайте детям сказки и познавательную литератур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вайте мелкую моторику пальцев ру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стольные игры, типа «Мозаика»,«Пазлы»,«Конструкторы»…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бота с карандашом (рисование, штриховка, закрашивани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бота с ножниц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астилин - прекрасное средство развития моторики ру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бота с игл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йте фонематические процес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ирование фонематического слу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Назовите слова» (Назови как можно больше слов, которые начинаются на звук А (Т, О, Р 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Хлоп-хлоп» (Сейчас я буду называть слова, а ты как только услышишь слово, которое начинается со звука С (В, О, Г и т.д.), сразу хлопнешь в ладош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Играем со словом» (Придумай слово, которое начинается (оканчивается) на такой же звук, как и в слове «лягушка», «полк», «стол» и  т.д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ружок»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адание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йчас мы запишем несколько слов, но не буквами, а кружками. Сколько звуков в слове, столько кружков ты и нарисуй. Произнеси слово «мак». Сколько кружков надо рисовать? Три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наташа\Мои документы\Новая папка\Солнышко!.gif"/>
          <p:cNvPicPr/>
          <p:nvPr/>
        </p:nvPicPr>
        <p:blipFill>
          <a:blip r:embed="rId1"/>
          <a:stretch/>
        </p:blipFill>
        <p:spPr>
          <a:xfrm>
            <a:off x="2670120" y="1600200"/>
            <a:ext cx="3803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6:47:10Z</dcterms:created>
  <dc:creator>Красильникова</dc:creator>
  <dc:description/>
  <dc:language>en-US</dc:language>
  <cp:lastModifiedBy>Пользователь</cp:lastModifiedBy>
  <dcterms:modified xsi:type="dcterms:W3CDTF">2011-03-01T13:01:27Z</dcterms:modified>
  <cp:revision>21</cp:revision>
  <dc:subject/>
  <dc:title>Родительское собрание</dc:title>
</cp:coreProperties>
</file>