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BB5-E0F0-40F0-A96C-702EC7FD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121-98C5-4695-8A70-853B30FD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CA3-F9BB-4A51-80BD-DC4AC409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9F1-3A3A-4E3F-BFE4-A2EC3198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0E7F-D585-417F-A059-55D4E0A2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5DC-84B7-4084-A426-239FECCA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545-8A77-4CA9-924E-24D1E3BB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E16-BB9E-426C-9BAD-988FD06B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E768-B46B-4CA3-A11A-A47CD37C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D8C-5B40-465A-9101-349C4293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DFD5-F6B4-4E51-92A5-8DB574A7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BF4-AC21-47FA-8311-4EE737E2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FFA8-7F64-4A10-BF37-FC242652C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кач Т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4076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573408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Ш 1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 S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ouses of 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. Paul’s Cathed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558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mous Trafalgar Square is very popular with Londo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689440" cy="426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76360" y="3333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T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ay that London is the key to England and the Tower is the key to Lond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1197000"/>
            <a:ext cx="40384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uses of Parlia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uses of Parliament is the seat of the British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038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. Paul`s Cathed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938400"/>
            <a:ext cx="8229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.Paul`s Cathedral is the masterpiece of Sir Christopher W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2554200" cy="2589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934240" y="1600200"/>
            <a:ext cx="14666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ingam Pa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4941720"/>
            <a:ext cx="748836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ckingam Palace is the London home of the Qu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9054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Ben is the huge clock on the Clock Tower of the Houses of Parlia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2781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2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lcome to Lond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273708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4:54:13Z</dcterms:created>
  <dc:creator>Мама</dc:creator>
  <dc:description/>
  <dc:language>en-US</dc:language>
  <cp:lastModifiedBy>Мама</cp:lastModifiedBy>
  <dcterms:modified xsi:type="dcterms:W3CDTF">2008-11-09T17:26:21Z</dcterms:modified>
  <cp:revision>6</cp:revision>
  <dc:subject/>
  <dc:title>LONDON</dc:title>
</cp:coreProperties>
</file>