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84A-0744-46C2-93C9-0D9B0AC0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E7E-633B-435A-9EAF-58BDAE41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E5D-D4D3-432D-A950-4F17A4E3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4FD-D032-4424-BCFC-0E1A6B43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4E5B-C243-46BA-BE37-3C8636D8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A5D1-8DD9-49E0-8C30-2A87AFEC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2A2E-22DC-497E-89D1-00034EC2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10FF-298D-462B-A7F5-8EF01345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DD76-B566-4BCE-9292-564728CC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1055-6EF2-4A98-AF9F-697EFA67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760F-6C6C-4CDB-B782-6C7B014D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515-AE8C-43C9-A5CE-BDD81FAB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D178-8E5D-495D-838A-88371865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3404-7CFC-40B6-AE90-3EE44D05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BB8F-1114-45DD-BDEE-487C18BF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5B81-8532-4A15-A3CD-940EBE3D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FC0B-E722-43CE-8E4C-3C85F852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2210-9CB6-4E4C-9552-1F775452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E4C-1947-4A8D-96D7-EE6C8D24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559-7F0F-4EF9-890D-45E36397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8CD-F945-4DBD-88B1-20515726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6BE-A636-49D3-8D6E-B7E2F770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4FA-A201-4627-A0BC-92BDC0E7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E80-84D5-4073-9F2F-FCC57CFF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92FF-97A9-4307-B794-125CBC7DD8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71D2-FE61-4263-A341-E5A7AB6E7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219280" y="2492280"/>
            <a:ext cx="3745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Горшков Андрей Александрович, учитель физической куль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МБОУ «Глубоковская основна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етуши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Владимир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7280" y="404640"/>
            <a:ext cx="676944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0525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Ы ИДЕМ В ПОХО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0525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1427040"/>
            <a:ext cx="4983120" cy="4776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37653" t="4207" r="45069" b="57379"/>
          <a:stretch/>
        </p:blipFill>
        <p:spPr>
          <a:xfrm>
            <a:off x="179280" y="1125360"/>
            <a:ext cx="2521080" cy="4608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00360" y="476280"/>
            <a:ext cx="644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допускать потертости ног , 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возникновении потертостей сообщит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руководител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о малейших признаках заболеван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медленно сообщить руководителю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21337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3141720"/>
            <a:ext cx="64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купаться в указанном  месте в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присутствии руковод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нырять с мостиков, лодок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обрыв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купаться в сумерках и ноч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врем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141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rcRect l="14656" t="52865" r="68323" b="8213"/>
          <a:stretch/>
        </p:blipFill>
        <p:spPr>
          <a:xfrm>
            <a:off x="250920" y="1197000"/>
            <a:ext cx="2592360" cy="4583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843280" y="5084640"/>
            <a:ext cx="63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дежурные должны иметь рукавицы,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головной убор и одежду, полностью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закрывающую тело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549360"/>
            <a:ext cx="63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переноси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тяжелых бревен и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камней по одно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залезать на деревья без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разрешения руководителя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2708280"/>
            <a:ext cx="63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оставлять в лесу горящих спиче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бросать, костров без присмот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аккуратно обращаться с огнем 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кипятк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5545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Times New Roman"/>
              </a:rPr>
              <a:t>Сворачивая лагерь, тщательно уберите территорию , сожгите в костре мусор и отходы, а</a:t>
            </a:r>
            <a:br>
              <a:rPr sz="4400"/>
            </a:br>
            <a:r>
              <a:rPr b="1" lang="en-US" sz="4400" spc="-1" strike="noStrike">
                <a:solidFill>
                  <a:srgbClr val="336600"/>
                </a:solidFill>
                <a:latin typeface="Times New Roman"/>
              </a:rPr>
              <a:t> банки, бутылки закопайте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79164" t="4899" r="3872" b="57355"/>
          <a:stretch/>
        </p:blipFill>
        <p:spPr>
          <a:xfrm>
            <a:off x="5940360" y="1628640"/>
            <a:ext cx="2952720" cy="5040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39640" y="333360"/>
            <a:ext cx="8001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ЕЖНОЕ ОТНОШЕНИЕ К ПРИРОДЕ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ЛГ КАЖДОГО ТУРИС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укрепление здоровья и закаливание организм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одействие   воспитанию  волевых качеств, смелости, наблюдательности, сообразительности, самосто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одействие развитию физических качест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знакомство с природными богатствами, историческим прошлым, с достижениями в области промышленности, сельского хозяйства, науки и куль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835280" y="549360"/>
            <a:ext cx="59054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Е ТУРИЗ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09640" cy="93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04812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общефизическ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подготов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специальная физическая подготов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закаливание организм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знакомство с особенностями местности будущего путешеств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инструктаж по технике безопас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7535" t="47496" r="65022" b="14062"/>
          <a:stretch/>
        </p:blipFill>
        <p:spPr>
          <a:xfrm>
            <a:off x="6012000" y="1341360"/>
            <a:ext cx="2990880" cy="5113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197000"/>
            <a:ext cx="6192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спальный мешок или одеяло, надувной матрас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полотенце, зубная паста, щетка, мыло, туалетная бумага, средство от комар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нижнее белье, спортивный костюм, куртка, свитер, шапочка, футболка, шорты, носки, сменная обувь, накидка от дожд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кружка, ложка, чашка, но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42920" y="333360"/>
            <a:ext cx="66960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ЧНОЕ СНАРЯЖ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5084640"/>
            <a:ext cx="403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АЛАТКА,  АПТЕЧКА,     </a:t>
            </a:r>
            <a:br>
              <a:rPr sz="1800"/>
            </a:b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 КОСТРОВОЙ НАБОР, ЛОПАТА,     </a:t>
            </a:r>
            <a:br>
              <a:rPr sz="1800"/>
            </a:b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 ТОПОР, ВЕРЕВКА, ФОНАРИК, </a:t>
            </a:r>
            <a:br>
              <a:rPr sz="1800"/>
            </a:b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 РУКАВИЦЫ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38647" t="47910" r="44126" b="14128"/>
          <a:stretch/>
        </p:blipFill>
        <p:spPr>
          <a:xfrm>
            <a:off x="6372360" y="1268280"/>
            <a:ext cx="2228760" cy="360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38278" t="5952" r="45011" b="56138"/>
          <a:stretch/>
        </p:blipFill>
        <p:spPr>
          <a:xfrm>
            <a:off x="468360" y="1268280"/>
            <a:ext cx="2203560" cy="360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419640" y="1268280"/>
            <a:ext cx="2232000" cy="3600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116000" y="189000"/>
            <a:ext cx="691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УППОВОЕ СНАРЯЖ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522936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ОДУКТЫ ПИТАНИЯ,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ФЛЯГИ ДЛЯ ВОДЫ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СУДА ДЛ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ИГОТОВЛЕНИЯ ПИ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16684" t="6441" r="65660" b="55115"/>
          <a:stretch/>
        </p:blipFill>
        <p:spPr>
          <a:xfrm>
            <a:off x="179280" y="1628640"/>
            <a:ext cx="3175200" cy="512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195640" y="404640"/>
            <a:ext cx="4321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БОР МЕСТ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1773360"/>
            <a:ext cx="57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езопасность места ( дороги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затопление низин, высоки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сухие деревья, камнепад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обеспеченность дровами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од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комфорт существ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(защищенность от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етра, костра, освещ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алаток солнце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rcRect l="36837" t="53957" r="46010" b="7490"/>
          <a:stretch/>
        </p:blipFill>
        <p:spPr>
          <a:xfrm>
            <a:off x="5796000" y="1557360"/>
            <a:ext cx="2963880" cy="4897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187280" y="40464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ЗАЦИЯ ЛАГЕР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133720"/>
            <a:ext cx="55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расчистка места для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палаток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расчистка места дл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костр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установка палаток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сбор др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45000"/>
            <a:ext cx="39099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80378" t="53611" r="2613" b="8009"/>
          <a:stretch/>
        </p:blipFill>
        <p:spPr>
          <a:xfrm>
            <a:off x="900000" y="1268280"/>
            <a:ext cx="3073680" cy="5329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80532" t="4652" r="1967" b="57354"/>
          <a:stretch/>
        </p:blipFill>
        <p:spPr>
          <a:xfrm>
            <a:off x="5148360" y="1268280"/>
            <a:ext cx="2952720" cy="5256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692360" y="260280"/>
            <a:ext cx="568800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ПОРЯДОК ДН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564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60034" t="5538" r="23333" b="56643"/>
          <a:stretch/>
        </p:blipFill>
        <p:spPr>
          <a:xfrm>
            <a:off x="179280" y="1484280"/>
            <a:ext cx="2592360" cy="4610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700360" y="1483920"/>
            <a:ext cx="61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точно и немедленно выполн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все распоряжения руководител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2349360"/>
            <a:ext cx="64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ходи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за территорию лагеря без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разрешения руководителя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342900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допускать переохлажд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сильного перегрева организ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4437000"/>
            <a:ext cx="65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медленно сообщать руководител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о  замеченной опас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  зажигать свечи и спички 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палат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42920" y="404640"/>
            <a:ext cx="71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ИКА БЕЗОПА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6:05:24Z</dcterms:created>
  <dc:creator>Горшков Андрей Александрович</dc:creator>
  <dc:description/>
  <dc:language>en-US</dc:language>
  <cp:lastModifiedBy>BOSS</cp:lastModifiedBy>
  <dcterms:modified xsi:type="dcterms:W3CDTF">2012-11-05T10:54:13Z</dcterms:modified>
  <cp:revision>15</cp:revision>
  <dc:subject/>
  <dc:title>Мы идем в поход</dc:title>
</cp:coreProperties>
</file>