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E4E-BC71-4364-B19E-AB0D9AF5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BD9-B76E-44D1-AAA7-E569F0E7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06C-5851-4EB5-973E-7BB5758F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801-1ACD-49D6-9886-E9A6F5A2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DF9D-B7EE-4745-9DE6-7A536C6E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644E-B937-4FE5-B66D-5E443FBB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EEF6-BEE7-4626-83BA-B7BC0B4E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19EF-83E0-4167-94E9-6B878E69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4AB6-9C1B-4B20-88C6-21D4A3F5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4D43-FF02-4A24-8ED6-B68B745E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42F2-EEAE-4DA4-9D62-AED46C7A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1E7-0B4E-4FFB-B8BD-F847416B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157E-F0AA-4A5D-BB82-8D8CA5AE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58A6-A00F-44DB-B7FD-DAC2EE71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58AA-6445-4C14-909A-1420C1F6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F80A-82D9-44D3-B72E-298DABFE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2291-447E-4FD5-8581-264572D7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5FF0-6AB1-486F-A7C1-11729F3B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CFD34-2E9E-4E4E-9444-7BA0DF4F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7369-DAA2-41C6-ACA9-38BE6BD4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098B7-B8B2-41D9-BF86-771C2F8A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5BD4-5EBE-4159-B987-9BD0517E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9B1C-36DA-4594-AA8D-76EA838D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BE8D0-1684-4F21-A376-9F7D86D2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3AFE9-5EC7-44C8-AABF-A25AD313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9C2E8-F9E3-4DBA-ABAB-1F43DBA0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27BA-AC43-4836-BD1C-9F088781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5BC58-6B89-471E-A251-655F4E9C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0666A-5E49-4D66-848F-F605F159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715D0-7840-4558-9589-27C86F66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01DA4-1D59-4D6C-AE0C-41FFA19C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E2957-2A66-400F-9864-F4C408AC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0373D-AB2A-46F2-AA48-BE02A90C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AAE-DA94-43FA-8072-29977402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CCD75-DBEB-4A69-9594-60586845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D1847-4417-4A09-963C-83D399F2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30074-1396-4C11-8EBB-906500F8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41D1E-7DAF-490F-963C-9D1A8E46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E7307-E20E-46BE-B097-FEFC493F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3EAA7-5204-47DB-89F0-33CA25ED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1EFF6-C18B-4347-9CFA-CFAE763E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13333-E2CF-4DAD-A768-5402D6D8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0200-0580-4E04-AE51-E4665A2D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5746-0F34-42D0-B1D2-10FA55CE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549-D52D-4CEA-8E77-7AA8547C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8F7-DB6A-4246-BE00-28165C3D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F82-7B5E-4894-A49D-DD0F4994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E7C-6DE8-4516-9235-CFEBB7AB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458E-53DF-42F0-BB37-3515B3B6C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4363-89B6-45EF-AF64-62861BC0A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4053-FBC7-40E2-BE07-1267B35C3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B78F-40C4-467C-AEFF-EB217E78B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95280" y="333360"/>
          <a:ext cx="8229600" cy="1295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 u="sng">
                          <a:solidFill>
                            <a:srgbClr val="5e123d"/>
                          </a:solidFill>
                          <a:uFillTx/>
                          <a:latin typeface="Times New Roman"/>
                        </a:rPr>
                        <a:t>ДОМ НАРЕЧИЙ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525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70800" cy="38102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5e123d"/>
                </a:solidFill>
                <a:uFillTx/>
                <a:latin typeface="Times New Roman"/>
              </a:rPr>
              <a:t>ИГРОТЕКА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443640" y="5445000"/>
            <a:ext cx="21906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232335"/>
                </a:solidFill>
                <a:latin typeface="Tahoma"/>
              </a:rPr>
              <a:t>СПАСИБО ЗА ВНИМАНИЕ!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2335"/>
                </a:solidFill>
                <a:latin typeface="Tahoma"/>
              </a:rPr>
              <a:t>Ученики 6 б класса МОУ СОШ № 1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335"/>
                </a:solidFill>
                <a:latin typeface="Tahoma"/>
              </a:rPr>
              <a:t>Большаков Макс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335"/>
                </a:solidFill>
                <a:latin typeface="Tahoma"/>
              </a:rPr>
              <a:t>Быкова Дар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335"/>
                </a:solidFill>
                <a:latin typeface="Tahoma"/>
              </a:rPr>
              <a:t>Горюнова Анастас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335"/>
                </a:solidFill>
                <a:latin typeface="Tahoma"/>
              </a:rPr>
              <a:t>Дыбля Ю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335"/>
                </a:solidFill>
                <a:latin typeface="Tahoma"/>
              </a:rPr>
              <a:t>Каменнов Кирил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335"/>
                </a:solidFill>
                <a:latin typeface="Tahoma"/>
              </a:rPr>
              <a:t>Пестова Дар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2335"/>
                </a:solidFill>
                <a:latin typeface="Tahoma"/>
              </a:rPr>
              <a:t>Руководитель команды –</a:t>
            </a:r>
            <a:r>
              <a:rPr b="0" lang="ru-RU" sz="2400" spc="-1" strike="noStrike">
                <a:solidFill>
                  <a:srgbClr val="232335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335"/>
                </a:solidFill>
                <a:latin typeface="Tahoma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335"/>
                </a:solidFill>
                <a:latin typeface="Tahoma"/>
              </a:rPr>
              <a:t>Капустина Валентина Александ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НАРЕЧ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САМОСТОЯТЕЛЬНАЯ ЧАСТЬ РЕЧИ, КОТОРАЯ ОТВЕЧАЕТ НА ВОПРОС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Где? Зачем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Как? Когда? Откуда?</a:t>
            </a: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И ОБОЗНАЧАЕТ ПРИЗНАК ДЕЙСТВ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Происхождение термина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нареч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66"/>
                </a:solidFill>
                <a:latin typeface="Tahoma"/>
              </a:rPr>
              <a:t>Слово «наречие» уже было в древнерусском языке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66"/>
                </a:solidFill>
                <a:latin typeface="Tahoma"/>
              </a:rPr>
              <a:t>При попытке определить этимологию этого слова выделяем корень реч-. = (глагол),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66"/>
                </a:solidFill>
                <a:latin typeface="Tahoma"/>
              </a:rPr>
              <a:t>т.е. «наречие» имеет непосредственную связь с глаголом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66"/>
                </a:solidFill>
                <a:latin typeface="Tahoma"/>
              </a:rPr>
              <a:t>Древние римляне эту часть речи называли  «адвербиум», = «приглаголие»</a:t>
            </a:r>
            <a:r>
              <a:rPr b="0" lang="ru-RU" sz="3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5e123d"/>
                </a:solidFill>
                <a:uFillTx/>
                <a:latin typeface="Times New Roman"/>
              </a:rPr>
              <a:t>СТОЛОВАЯ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6553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Tahoma"/>
              </a:rPr>
              <a:t>Адвербиализация</a:t>
            </a: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Tahoma"/>
              </a:rPr>
              <a:t>(от </a:t>
            </a:r>
            <a:r>
              <a:rPr b="0" lang="ru-RU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лат.</a:t>
            </a:r>
            <a:r>
              <a:rPr b="0" i="1" lang="ru-RU" sz="4000" spc="-1" strike="noStrike">
                <a:solidFill>
                  <a:srgbClr val="003366"/>
                </a:solidFill>
                <a:latin typeface="Tahoma"/>
              </a:rPr>
              <a:t> adverbium — наречие) — переход в класс наречий словоформ, принадлежащих другим частям реч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0920" y="160920"/>
            <a:ext cx="8064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Наречия, произошедшие из отдельных </a:t>
            </a:r>
            <a:r>
              <a:rPr b="1" i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падежных форм существительных с предлогами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, пишутся, как правило, слитно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Вперехват, Впросак Вперегиб 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Вперебой Вмиг Втайне Всласть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5e123d"/>
                </a:solidFill>
                <a:uFillTx/>
                <a:latin typeface="Times New Roman"/>
              </a:rPr>
              <a:t>САЛОН МОД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560600"/>
            <a:ext cx="4114800" cy="4128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88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Многие наречия имеют основу </a:t>
            </a:r>
            <a:r>
              <a:rPr b="1" i="1" lang="en-US" sz="4000" spc="-1" strike="noStrike">
                <a:solidFill>
                  <a:srgbClr val="003366"/>
                </a:solidFill>
                <a:latin typeface="Tahoma"/>
              </a:rPr>
              <a:t>прилагательны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Tahoma"/>
              </a:rPr>
              <a:t>Лучше, лестно, модно, пригодно,  прекрасно, ужасно, безобразно, прекрасно, ужасн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5e123d"/>
                </a:solidFill>
                <a:uFillTx/>
                <a:latin typeface="Times New Roman"/>
              </a:rPr>
              <a:t>ЭСТРАДА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4572000" cy="3467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91000" y="1484280"/>
            <a:ext cx="2997360" cy="26668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229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356000" y="4149720"/>
            <a:ext cx="32194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9:00:38Z</dcterms:created>
  <dc:creator>1</dc:creator>
  <dc:description/>
  <dc:language>en-US</dc:language>
  <cp:lastModifiedBy>1</cp:lastModifiedBy>
  <dcterms:modified xsi:type="dcterms:W3CDTF">2012-09-21T20:03:47Z</dcterms:modified>
  <cp:revision>2</cp:revision>
  <dc:subject/>
  <dc:title>НАРЕЧИЕ</dc:title>
</cp:coreProperties>
</file>