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5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39A-453E-4D39-A47C-35A0AB00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60D-DE9A-4A84-8383-EFF6DE7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D9C63-A5EF-4CFC-BAB0-39EB376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98DAD-C6C5-4429-BCF9-49106CBC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9496-BB89-4BEC-A877-2E4569A5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BA835-287A-42D0-B060-1FECF56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46326-DBD8-4CF3-AEC6-B9A61D2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A5DEA-A52F-460D-8549-74EF5D0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E95D4-ED52-4B34-B6E3-A4D7EE3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CF1CB-3B9E-4458-B44F-598CA719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1583-BD95-4BFB-8FFE-83A33C97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EE7-09E2-43BC-BD9E-5741F0CF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84C-2AF5-400A-A7ED-48895C79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B9185-2AE9-4000-A249-B86BFC80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DC9D4-52C0-4CB1-AC88-93B60F0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DD6F-BD44-4343-8390-728D793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DABF-F881-4DAB-B4A1-0DF2A8F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47A82-A0B3-4073-95C6-FE99982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2459-FF8E-44D4-B4A0-96E4E7E6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76F3C-04C7-4A71-A1E0-DF2361B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81A-6B89-43D6-BF3B-11D257F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EA9D-D048-48D0-83FD-A60295D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0760-42E8-4311-AB3F-AAC0DC7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9C366-8D2D-4121-82F3-6D00C4D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4A4F-A0D3-492C-A785-A6656CE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E2ECE-AECD-4FC8-B898-DEF6AD8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89E3-ADC4-47D1-8F20-7520591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9AC5-B23A-4CCD-AD42-E08D424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0A72-B759-4FD5-9CB6-97D58B84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72DB-23FF-4BBF-9FC9-473F6F50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BC20-84B3-4300-9E64-CE23B4C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B00-A49F-46F7-9F7F-CFC9624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AF34-9AE2-4FDF-BD69-E9D610AC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47F6-E63E-42FB-BB1A-89E659B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E515-B8A6-43A4-BA6A-F2431F2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F987-D974-45BA-9542-A9E1AA9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6470-D657-400C-B8F1-61D18329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AA67-C1FC-490A-B7A1-201FEC3F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219B-118A-4C04-9936-5A8AA88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FE6F-F7C1-4F30-A973-044C0994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7E43-3D7D-463A-A39F-A43174A4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7B7E-55AC-40C6-AE34-FC56C21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06F-70CD-483D-A7A4-1421069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A14D-354D-4711-BF99-7A24864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97D6-2900-4B2C-BB36-64521E0C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8D46-A7C3-4E2A-A45C-E0E216E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BE1D-DA70-455D-9421-2856809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EE84-D84B-408E-B9AE-139B5F8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7F42-3529-487D-8BF2-B3D86EF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C679-1A5C-4B7E-B6EF-D27CE2E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97EB-76DA-4970-B4F3-71CEFB3F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6C59-513C-4A05-88C0-ABE1B2F4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0A09-525A-43B6-B782-E4876D9C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E6E-1C99-4720-971D-3BFE9B02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A603-73C9-4200-BD86-ABB5F73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C6E9-FC20-498F-B023-76FCE41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4178-C5F9-4B67-92C8-D16B4233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D1A7-9B35-4953-BB8D-668385B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E9E4-21FC-4075-8586-57E25E1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4E31-1BF5-4E77-A8B2-0CFE317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ED8E-B8AD-470D-B008-4365A64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877F-049D-4B3B-AAB0-80D36D0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70DB-484D-4440-974F-5411FA5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1A28-A0E8-4FC8-80BE-32E2EF16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2B7-ED75-4ECC-95D7-BE0AE4D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D7FF-2FB0-450A-ADDA-0498024F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C250-BCC6-455E-9A3C-74288DD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F021-2EA0-4151-81F8-76FDAB62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7C4CE-6259-4DB2-9633-292B073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8199-55CF-4BC2-9A7D-8B1C12C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BDDE-9F71-48F4-9590-F2DAE84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2689-70A2-484F-A604-F4EB870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4722-DD8A-4DF7-9F6A-720E934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14BD-7680-404F-B777-6965B9D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1754-16BD-4B53-A95E-65F8203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9EF-81CB-48A9-8DC9-AC26DD5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2C66-4188-45B6-AD4C-6A02AE68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19C3-5ED6-4268-8DC1-D6529FF1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CF55-05B3-4186-AE2A-B2FBF3BB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804C-E53F-468D-A37C-B231FBCD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237E7-723D-4DBE-A4F0-B487FE05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794B6-BA43-4FCD-8159-6C72B1E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5A43-6DB1-447D-8DF9-B48805A1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6E299-7D64-48BF-8496-0B6D5C37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5DFD-50FA-4266-BE97-E99ACA2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EE9E-EA35-46CA-9E71-4818E6F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015-97EB-4947-938F-75A21A1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CBDF-BDF2-4209-9FFB-A9F93CA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7AADF-4530-4EB9-AFAE-3201A08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19B4-1748-4F20-886D-499D8D3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BB44-BEFB-4F44-BC5F-44DF5E0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5633-11D8-4F1F-937A-67D56555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E92C-C8EC-4AFB-89D1-CC7DF245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5B03-9F5C-47B4-BF18-8BA92AF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DA7F-7C05-498C-804A-CB33B238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0D45-E6E2-4C2F-A17D-BF11FD6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43A5-34C6-4570-92ED-FC9493A8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005-8D3B-438E-838F-BBB78C5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97D4-CD7D-4607-BE8D-7A83D54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8B92F-D156-48A0-925E-98CC22B6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A31F6-9522-4663-A919-322F49C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1389-4218-45B3-B85D-CAF1051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4665-66B4-4139-A404-AC98F611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7A8C-2B04-4973-81BB-FA459328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20B0-068E-422A-98ED-6DB94CB9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A8A12-94B0-4ABF-894E-DA7A210D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D8371-380B-4F48-BC25-0AFDAC7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E35DB-B27C-4257-83D5-D910D5A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A8F9-6ACA-42A9-B01F-7CA1255C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0664-5D9F-44A5-A526-6EC02AEA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A5A-C2E0-4878-8449-B668561DB5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836-2F50-4690-9EC6-6A9CD25A16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6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200-C6D3-4F8E-BBEA-46297FAC8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3FB7-DCA5-4838-9879-CF83072315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E0F-48A3-4D49-A0FB-860AAE52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CE3E-E67D-47E0-B63D-21848D3C3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03D-ED7A-44D7-9B94-E19A8ACC55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Я не боюсь еще и еще раз повторить: 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Какая может быть связь между физическими упражнениями и   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настроени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83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"/>
              </a:rPr>
              <a:t>Какая связь существует между упражнениями для рук и речью ребен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97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Arial"/>
              </a:rPr>
              <a:t>Что вы можете сказать о работоспособности сутулого челове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Какая пища может укреплять организм челове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51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Приведите пословицы и поговорки о физическом и психическом здоровье, высказывания философов, поэтов и других известных люд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Продолжи фразу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- Процесс изменения форм и функций организма человека -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- Специальная деятельность, направленная на достижение в каком-либо виде физических упражнений наивысших результатов, выявляемых в процессе соревнования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- Основное специфическое средство физического воспитания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- Детский туризм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- Ходьба, бег, прыжки, лазание и метание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«Волшебное превращение»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Перед вами стоит предмет – стул. Как его превратить в средство физического воспитания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облемная ситу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ы на прогулке с детьми, пошел дождь. Как это погодное явление превратить в фактор детского развит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7" dur="123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68" dur="123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70" dur="123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7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78" dur="123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79" dur="123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8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81" dur="123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89" dur="123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90" dur="123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9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92" dur="123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онкурс рекламы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здоровительные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напитк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258920" y="260280"/>
            <a:ext cx="662616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15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00"/>
                </a:solidFill>
                <a:latin typeface="Monotype Corsiva"/>
              </a:rPr>
              <a:t>Педсовет №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Monotype Corsiva"/>
              </a:rPr>
              <a:t>«Формирование привычки к здоровому образу жиз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Monotype Corsiva"/>
              </a:rPr>
              <a:t>у детей дошкольного возраст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Систематизация знаний педагогов по разделу программы М.А. Васильевой: «Физическое воспитание», развитие навыков моделирования в работе со сх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00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План проведения педсов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ообщение зам.зав. по ВМР о значении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Защита модели «Формирование здорового образа жизни у детей дошкольного возраста» (педагоги гр. №4, №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Деловая игра (зам. зав.  по ВМР, инструктор физкульту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Зачитывание аналитической справки о моторной плотности физкультурных занятий (ст. медсест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Подведение итогов анкетирования родителей «Какое место занимает физическая культура в семье» (инструктор физкульту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Выработка решения педсо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66ff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Сообщение 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«Поговорим о ценности здорового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образа  жизн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«Здоровье – правильная, нормальная деятельность организма, его полное физическое и психическое благополуч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(Толковый словарь русского язы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266400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Задача педагогов– становление у детей дошкольного возраста ценностей здорового образа жизни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Развивать у детей навыки личной гигиен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Формировать у дошкольников элементарные представления о полезности, целесообразности физической активности и личной гигиены (при проведении занятий обращают внимание детей на значение конкретного упражнения для развития определенной группы мышц; при выполнении гигиенической процедуры рассказывают о ее влиянии на состояние кожи , зубов и пр.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оддерживать возникновение  у детей в процессе физической активности положительных эмоций, чувства «мышечной радости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ривлекать родителей к формированию у ребенка ценностей здорового образа жизни (организация консультаций, бесед с родителями; обеспечение согласованности и преемственности в оздоровлении и физическом развитии детей в семье и ДОУ и пр.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8 0.037 -0.04262 C 0.075 -0.03862 0.09 -0.00932 0.125 -0.03862 C 0.147 -0.05594 0.173 -0.09988 0.192 -0.09855 C 0.235 -0.09722 0.244 -0.05194 0.244 -0.01065 C 0.245 0.04794 0.189 0.09722 0.121 0.10255 C 0.052 0.10654 -0.005 0.04395 0 0 Z">
                                      <p:cBhvr>
                                        <p:cTn id="24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Защита модели работы педагогов по формированию у воспитанников здорового образа жизни.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ц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пути реализации;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форму реал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результат работы педагогов по формированию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3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320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bbfb"/>
            </a:gs>
            <a:gs pos="100000">
              <a:srgbClr val="f6e5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Arial"/>
              </a:rPr>
              <a:t>Что может означать термин «эстетотерапия»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Как ее можно применять на занятиях физического воспит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9:32:53Z</dcterms:created>
  <dc:creator>COMP</dc:creator>
  <dc:description/>
  <dc:language>en-US</dc:language>
  <cp:lastModifiedBy>COMP</cp:lastModifiedBy>
  <dcterms:modified xsi:type="dcterms:W3CDTF">2009-02-06T10:11:21Z</dcterms:modified>
  <cp:revision>6</cp:revision>
  <dc:subject/>
  <dc:title>Педсовет №3</dc:title>
</cp:coreProperties>
</file>