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.wmf" ContentType="image/x-wmf"/>
  <Override PartName="/ppt/media/image2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0D04-8966-494C-A83B-FA6167C8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2885-9510-464B-BD03-F4293F38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C60B-49D2-42B9-B895-F3B5D596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D840-DFAB-4920-8534-2690C284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B6FE-CE3D-427D-8D5F-460D43FD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7D1E-4AAE-43B9-8CAF-2C8ABA4A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C644-1C1E-49CA-BFAF-78DE2922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434D-BF49-4E09-A7ED-C8E5D27B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4994-3E5B-4C5A-B48E-1E661B0B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1399-0F74-4943-876A-10E6909D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B367-3BE3-4AEF-8198-54C0D092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953A-5423-4579-97CA-FB0A742C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CE71-E973-45DD-B895-61FCA6A1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7CC5-8535-4635-8FA1-40A77BBE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75BF-AC89-481A-800B-9A56295F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E87C-E446-48F6-BBAC-F7D13B65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A649-3066-4A23-883B-C23F607F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D15-6392-4AEB-8A6E-A83E5F4B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E8C3-2FD5-4C83-A177-CCAE0FFF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EB91-0F84-4550-8C4A-CC9ED513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9B0B-9C5C-4E66-8047-EF182CF9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6EBF-1708-4787-8147-3315A009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8902-AD0B-4137-BF07-F52C61A1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EDF4-E755-4A71-8566-35E1EAF0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C492-F1A5-4E17-A1F7-F041EDEF0D3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EDB4-4038-4DB4-8922-F3610B498DC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g.rian.ru/images/4389/91/43899144.jpg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visitarkhangelsk.ru/data/images/static/verb4s.jpg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11280" y="1844640"/>
            <a:ext cx="712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Что надо делать, что бы расти здоровыми, сильными и умны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95640" y="4292640"/>
            <a:ext cx="626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Какие продукты можно считать полезны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836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Пробле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40360" cy="3500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156360" y="0"/>
            <a:ext cx="2987640" cy="3500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0" y="3860640"/>
            <a:ext cx="3214800" cy="2997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6516720" y="4005360"/>
            <a:ext cx="2627280" cy="25923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643280" y="1700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ОВ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19640" y="422100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ВСЯНЫЕ ХЛОП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24360" y="5877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ВСЯНАЯ К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40360" cy="4076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5940360" y="0"/>
            <a:ext cx="3203640" cy="3141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4221000"/>
            <a:ext cx="3132000" cy="2637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5940360" y="4005360"/>
            <a:ext cx="3203640" cy="2852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140360" y="1484280"/>
            <a:ext cx="158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ГРЕЧИ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465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РЕ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580536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РЕЧНЕВАЯ К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684360" y="1125360"/>
            <a:ext cx="734364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РЯДОВЫЕ КАШ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101080" y="580536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8317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14813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547640" y="33336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Свадебная к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58920" y="4005360"/>
            <a:ext cx="788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старину на свадьбе подавали ячменную кашу на молоке. Ее варили в глиняном горшочке. Потом горшочек разбивали и приговаривали: желаем вам славных сыновей да дочек. По количеству осколков судили, сколько детей род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Картинка 81 из 22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981000"/>
            <a:ext cx="547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Картинка 20 из 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907920"/>
            <a:ext cx="6120000" cy="3673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187280" y="4724280"/>
            <a:ext cx="7956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сех угощали «вербной кашей» - пшенной кашей с вербовыми по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Говорят, если съесть 9 вербовых почек, весь год здоровым буд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79640" y="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Вербная каш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580000" cy="4149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835280" y="4437000"/>
            <a:ext cx="730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 рождении ребенка готовилась «бабкина каша» -  крутая, пересоленная. Ее должен был съесть молодой отец, чтобы ребенок рос здоровеньким и счастли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549360"/>
            <a:ext cx="25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Бабкина к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755640" y="476280"/>
            <a:ext cx="7777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 НИМ КАШИ НЕ СВАРИШЬ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2060640"/>
            <a:ext cx="518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У русских князей существовал обычай – в знак примирения с врагом варить кашу. Без каши мирный договор считался недействительным. С тех пор про несговорчивых людей говорят: «С ним каши не свариш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2736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684360" y="549360"/>
            <a:ext cx="77533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УВОРОВСКАЯ КАША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2987640" cy="3600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132000" y="1773360"/>
            <a:ext cx="601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 времена знаменитого перехода Суворова через Альпы, подходили к концу запасы продовольствия. Оставалось чуть – чуть гороха, перловки, пшена, гречихи. Суворов отдал приказ все варить в общем котле, добавив масла и лука. Каша оказалась очень вкусной и полезной. Ее и сейчас называют суворовс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116000" y="404640"/>
            <a:ext cx="684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ГАДКИ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1268280"/>
            <a:ext cx="403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Черна, мала крош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Соберут немнож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В воде повар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Кто съест – похвал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11640" y="198900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Как во поле на кург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Стоит курица с серь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92360" y="350028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речневая ка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00720" y="350028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в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4221000"/>
            <a:ext cx="36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В поле метелк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В мешке жемч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79640" y="537372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ше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4941720"/>
            <a:ext cx="40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Весь из золота отл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На солнышке сто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04000" y="59500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олос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7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900000" y="404640"/>
            <a:ext cx="662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ывод.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40360" y="1844640"/>
            <a:ext cx="5003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Каша – самое подходящее блюдо для завтрака. Оно содержит наибольшее количество питательных веществ, которые легко усваиваются организмом. Каша – это полезная еда, которая поможет вам стать здоровыми и сильными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367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Подготовительный этап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73000"/>
            <a:ext cx="8001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бор направления «О чем я хочу узна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деление на групп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ставление матриц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omic Sans MS"/>
              </a:rPr>
              <a:t>Группа  «Полезная каша»  </a:t>
            </a:r>
            <a:r>
              <a:rPr b="0" lang="ru-RU" sz="23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00"/>
                </a:solidFill>
                <a:latin typeface="Comic Sans MS"/>
              </a:rPr>
              <a:t>(капитан  Камаева Кристина)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6600"/>
                </a:solidFill>
                <a:latin typeface="Comic Sans MS"/>
              </a:rPr>
              <a:t>Группа «Овощи и фрукты – витаминные продукты»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ru-RU" sz="2300" spc="-1" strike="noStrike">
                <a:solidFill>
                  <a:srgbClr val="ff6600"/>
                </a:solidFill>
                <a:latin typeface="Comic Sans MS"/>
              </a:rPr>
              <a:t>(капитан Светова Елизавета)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00"/>
                </a:solidFill>
                <a:latin typeface="Comic Sans MS"/>
              </a:rPr>
              <a:t>Группа «Как утолить жажду»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8000"/>
                </a:solidFill>
                <a:latin typeface="Comic Sans MS"/>
              </a:rPr>
              <a:t>(капитан Каталевич Анатолий)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26920" y="333360"/>
            <a:ext cx="698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лезная каша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76360" y="2852640"/>
            <a:ext cx="65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1700280"/>
            <a:ext cx="813600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 рабо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роведение анкеты в 1 – 4 классах «Ваш завтра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роведение интервью с работниками школьной столовой «Зачем на завтрак варят каш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беседа со школьным врачом «В чем польза каш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интервью с мамой «Зачем надо кушать кашу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бор информации о пользе каш, из чего их вар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бор пословиц, поговорок, зага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узнать, какие обряды связаны с каш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На что влияет завтрак?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11280" y="1413000"/>
          <a:ext cx="7920000" cy="511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920000" cy="51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Интервью в столово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Скажите пожалуйста, почему на завтрак дают кашу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ша – натуральный продук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ней нет искусственных красителей и консервантов, которые приносят много вреда организм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ша дает много энерги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58920" y="620640"/>
            <a:ext cx="68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Какая польза от каш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1916280"/>
            <a:ext cx="3889440" cy="1368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56000" y="3860640"/>
            <a:ext cx="3961080" cy="10810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4076640"/>
            <a:ext cx="3024000" cy="1295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12000" y="2060640"/>
            <a:ext cx="2592360" cy="863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5300640"/>
            <a:ext cx="3600360" cy="10810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242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БЕ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32720" y="24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ЖИ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92720" y="43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УГЛЕ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32000" y="45813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ИТАМ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48000" y="55897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МИНЕРАЛЬНЫЕ 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995280" y="1268280"/>
            <a:ext cx="86364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771640" y="1268280"/>
            <a:ext cx="2160720" cy="28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32360" y="1268280"/>
            <a:ext cx="144360" cy="403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1341360"/>
            <a:ext cx="151128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2360" y="1268280"/>
            <a:ext cx="244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ословицы и поговорки о каш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902200" cy="31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Каша – матушка наша, а хлебец ржаной – отец родно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Хороша кашка, да мала чаш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Щи да каша – пища наш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Каши нет – щей больше л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700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Кашу маслом не испортиш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Русского мужика без каши не накормиш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1557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7236000" y="0"/>
            <a:ext cx="1908000" cy="2565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6443640" y="4869000"/>
            <a:ext cx="2160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003640" y="476280"/>
            <a:ext cx="3602160" cy="3024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395280" y="476280"/>
            <a:ext cx="3313080" cy="3097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3059280" cy="3141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717720" y="1413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ПРО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3933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Ш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5661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ПШЕННАЯ К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5580000" y="3933720"/>
            <a:ext cx="3564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700360" cy="3141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27640" cy="3141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971640" y="3429000"/>
            <a:ext cx="2663640" cy="2808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5940360" y="4410000"/>
            <a:ext cx="3203640" cy="244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427640" y="1268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ПШЕ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80000" y="364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ШЕНИЧНАЯ КР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95640" y="52293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АННАЯ К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14:50Z</dcterms:created>
  <dc:creator>1</dc:creator>
  <dc:description/>
  <dc:language>en-US</dc:language>
  <cp:lastModifiedBy>home</cp:lastModifiedBy>
  <dcterms:modified xsi:type="dcterms:W3CDTF">2012-11-05T11:50:02Z</dcterms:modified>
  <cp:revision>21</cp:revision>
  <dc:subject/>
  <dc:title>Слайд 1</dc:title>
</cp:coreProperties>
</file>