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D60-EE8E-47E9-B4A9-0E69EBCE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56A-7880-4D47-981B-A9C21286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E1B-8D22-4B29-9A62-7D809EE0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2B7-933C-4959-BB52-DD41FABA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BF1D-5972-474D-9435-792ED904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C0C8-293C-4676-9EFC-5A2B524F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B248-4994-46E5-AE54-691F95C6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5758-EF16-4CB7-B6E7-44785752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4893-B550-4A74-A56F-4386A661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D6E9-AABC-4C6E-BD2B-BD710E0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BC7C-4B06-4133-B6D0-F588AEB3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64B-7933-4900-B5F0-D410007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2EC2-9FE9-44D3-A37E-1805E27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8489-13FF-4342-953F-3CFCD51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3DA-1E12-4D6A-97BB-0049EB00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76F-2229-48E5-A789-70B34540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19F-8E48-46DA-BA01-824F43FE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2EC-798F-4781-8775-722A9A37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FFF-D07A-4441-9403-24D69FD6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664-6BA3-4DEE-B995-EC3E0EB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CCB-DB89-4179-B0D3-6B02A670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6B7-A167-4FE3-B1DC-A16C0A73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FE1-2861-4F21-BA05-3022443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4C9-E845-4422-B6B2-45E3BEF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AA44-BBAE-4CCD-B58A-94FBC1B1D0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3B58-5D0F-4C39-B15D-FDC7ECCAE6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16560"/>
            <a:ext cx="67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99ff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476360" y="189000"/>
            <a:ext cx="5616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и наши родители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Picture 5" descr="mso25194"/>
          <p:cNvPicPr/>
          <p:nvPr/>
        </p:nvPicPr>
        <p:blipFill>
          <a:blip r:embed="rId1"/>
          <a:stretch/>
        </p:blipFill>
        <p:spPr>
          <a:xfrm>
            <a:off x="539640" y="90792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23640" y="6165720"/>
            <a:ext cx="6257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вый го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msoF3F18"/>
          <p:cNvPicPr/>
          <p:nvPr/>
        </p:nvPicPr>
        <p:blipFill>
          <a:blip r:embed="rId1"/>
          <a:stretch/>
        </p:blipFill>
        <p:spPr>
          <a:xfrm>
            <a:off x="0" y="0"/>
            <a:ext cx="7956720" cy="551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24000" y="5805000"/>
            <a:ext cx="61135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1403280" y="189000"/>
            <a:ext cx="5473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кскурсия в музе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6" name="Picture 5" descr="msoD163E"/>
          <p:cNvPicPr/>
          <p:nvPr/>
        </p:nvPicPr>
        <p:blipFill>
          <a:blip r:embed="rId3"/>
          <a:stretch/>
        </p:blipFill>
        <p:spPr>
          <a:xfrm>
            <a:off x="900000" y="981000"/>
            <a:ext cx="6840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7640" y="6021360"/>
            <a:ext cx="6912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предмета стари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mso25574"/>
          <p:cNvPicPr/>
          <p:nvPr/>
        </p:nvPicPr>
        <p:blipFill>
          <a:blip r:embed="rId1"/>
          <a:stretch/>
        </p:blipFill>
        <p:spPr>
          <a:xfrm>
            <a:off x="250920" y="0"/>
            <a:ext cx="7561080" cy="551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7640" y="5949720"/>
            <a:ext cx="6837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бабушкиной рабо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mso3CA3A"/>
          <p:cNvPicPr/>
          <p:nvPr/>
        </p:nvPicPr>
        <p:blipFill>
          <a:blip r:embed="rId1"/>
          <a:stretch/>
        </p:blipFill>
        <p:spPr>
          <a:xfrm>
            <a:off x="0" y="0"/>
            <a:ext cx="79567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16000" y="6021360"/>
            <a:ext cx="511164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Золотая ос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187280" y="0"/>
            <a:ext cx="5494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скурсия на природ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Picture 5" descr="msoBA610"/>
          <p:cNvPicPr/>
          <p:nvPr/>
        </p:nvPicPr>
        <p:blipFill>
          <a:blip r:embed="rId1"/>
          <a:stretch/>
        </p:blipFill>
        <p:spPr>
          <a:xfrm>
            <a:off x="826920" y="1268280"/>
            <a:ext cx="72741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42920" y="6093000"/>
            <a:ext cx="56149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пим снегов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mso5DE76"/>
          <p:cNvPicPr/>
          <p:nvPr/>
        </p:nvPicPr>
        <p:blipFill>
          <a:blip r:embed="rId1"/>
          <a:stretch/>
        </p:blipFill>
        <p:spPr>
          <a:xfrm>
            <a:off x="611280" y="333360"/>
            <a:ext cx="7416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2195640" y="476280"/>
            <a:ext cx="41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менты занятий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5" descr="msoA815A"/>
          <p:cNvPicPr/>
          <p:nvPr/>
        </p:nvPicPr>
        <p:blipFill>
          <a:blip r:embed="rId3"/>
          <a:stretch/>
        </p:blipFill>
        <p:spPr>
          <a:xfrm>
            <a:off x="755640" y="1197000"/>
            <a:ext cx="7272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5734080"/>
            <a:ext cx="7696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одберем чашки к блюдц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mso6E030"/>
          <p:cNvPicPr/>
          <p:nvPr/>
        </p:nvPicPr>
        <p:blipFill>
          <a:blip r:embed="rId1"/>
          <a:stretch/>
        </p:blipFill>
        <p:spPr>
          <a:xfrm>
            <a:off x="468360" y="0"/>
            <a:ext cx="756108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09264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нятие «Чудо-пуговк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mso4212"/>
          <p:cNvPicPr/>
          <p:nvPr/>
        </p:nvPicPr>
        <p:blipFill>
          <a:blip r:embed="rId1"/>
          <a:stretch/>
        </p:blipFill>
        <p:spPr>
          <a:xfrm>
            <a:off x="0" y="0"/>
            <a:ext cx="8172360" cy="553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24000" y="5805000"/>
            <a:ext cx="6399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что получилось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mso8BC28"/>
          <p:cNvPicPr/>
          <p:nvPr/>
        </p:nvPicPr>
        <p:blipFill>
          <a:blip r:embed="rId1"/>
          <a:stretch/>
        </p:blipFill>
        <p:spPr>
          <a:xfrm>
            <a:off x="250920" y="41400"/>
            <a:ext cx="76341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152280"/>
            <a:ext cx="63691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т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 в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ййа тухар-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msoD18CE"/>
          <p:cNvPicPr/>
          <p:nvPr/>
        </p:nvPicPr>
        <p:blipFill>
          <a:blip r:embed="rId1"/>
          <a:stretch/>
        </p:blipFill>
        <p:spPr>
          <a:xfrm>
            <a:off x="250920" y="765000"/>
            <a:ext cx="7777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7640" y="6021360"/>
            <a:ext cx="6473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янине- паппин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mso523CA"/>
          <p:cNvPicPr/>
          <p:nvPr/>
        </p:nvPicPr>
        <p:blipFill>
          <a:blip r:embed="rId1"/>
          <a:stretch/>
        </p:blipFill>
        <p:spPr>
          <a:xfrm>
            <a:off x="0" y="0"/>
            <a:ext cx="7740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8000" y="5877000"/>
            <a:ext cx="632808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рманте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ĕ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 сар 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хи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msoB1F06"/>
          <p:cNvPicPr/>
          <p:nvPr/>
        </p:nvPicPr>
        <p:blipFill>
          <a:blip r:embed="rId1"/>
          <a:stretch/>
        </p:blipFill>
        <p:spPr>
          <a:xfrm>
            <a:off x="0" y="61920"/>
            <a:ext cx="77407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6021000"/>
            <a:ext cx="72705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кий стрел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mso60682"/>
          <p:cNvPicPr/>
          <p:nvPr/>
        </p:nvPicPr>
        <p:blipFill>
          <a:blip r:embed="rId1"/>
          <a:stretch/>
        </p:blipFill>
        <p:spPr>
          <a:xfrm>
            <a:off x="179280" y="138240"/>
            <a:ext cx="75614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10:59Z</dcterms:created>
  <dc:creator>Олег</dc:creator>
  <dc:description/>
  <dc:language>en-US</dc:language>
  <cp:lastModifiedBy>alex</cp:lastModifiedBy>
  <dcterms:modified xsi:type="dcterms:W3CDTF">2012-11-05T09:23:15Z</dcterms:modified>
  <cp:revision>11</cp:revision>
  <dc:subject/>
  <dc:title>Слайд 1</dc:title>
</cp:coreProperties>
</file>