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215-FE99-4454-AB3A-BBBCCCB2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E01-8628-4FBE-93D7-8C15392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3EA-078B-4CD0-9605-ACEEB92D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B22-58D3-48F1-8E0E-BD2111B9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949-FC9A-4D23-A72C-087BD066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BBD-FE07-4B78-B681-039B318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FCDD-D0FC-4D50-82A9-6BE4086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5073-4172-4E8C-8DFF-58A9F00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1A3-8C2C-42F3-82FB-7D4CCE8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646-42F6-439D-92F1-75B40B9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2E20-8C7E-4147-80DE-C1236DE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5C5-DD2B-4BED-B96F-7FD22B2A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B4AD-6AF1-4322-A819-266E132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661E-5E56-45BF-B9DE-E40E2AF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6AC-20E0-4388-A980-FA87251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AB57-E688-46F4-AA56-B3A00D03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2A8F-9527-403A-8439-60AEC88F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1C5-C9B4-4AE4-A90A-CD1ED7E8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20C-A32A-40F1-B5C9-78B98F5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D14-D96F-4640-A17B-C7F5500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D8F-CC54-4C32-A4CB-92CF78B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855-E024-4382-8305-3DA7C64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018-4FE7-4DFE-8BD8-E5362E64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0D3-EAE5-4EDF-81B6-4B12330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F4F-E065-4BC6-976B-AAA4D2A6445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2B68-B07F-437E-817E-DBDA9DF0F46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Чужих детей не бывает»</a:t>
            </a:r>
            <a:br>
              <a:rPr sz="4000"/>
            </a:b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идеопрезентаци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843280" y="5373360"/>
            <a:ext cx="5896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втор: Кондрашова В.В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7164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65320" y="219708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611280" y="1916280"/>
            <a:ext cx="7920000" cy="3457080"/>
            <a:chOff x="611280" y="1916280"/>
            <a:chExt cx="7920000" cy="3457080"/>
          </a:xfrm>
        </p:grpSpPr>
        <p:pic>
          <p:nvPicPr>
            <p:cNvPr id="114" name="Picture 18" descr="Ilya"/>
            <p:cNvPicPr/>
            <p:nvPr/>
          </p:nvPicPr>
          <p:blipFill>
            <a:blip r:embed="rId1"/>
            <a:stretch/>
          </p:blipFill>
          <p:spPr>
            <a:xfrm>
              <a:off x="611280" y="2765520"/>
              <a:ext cx="1590480" cy="19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9" descr="Nastya1"/>
            <p:cNvPicPr/>
            <p:nvPr/>
          </p:nvPicPr>
          <p:blipFill>
            <a:blip r:embed="rId2"/>
            <a:stretch/>
          </p:blipFill>
          <p:spPr>
            <a:xfrm>
              <a:off x="2050920" y="2071080"/>
              <a:ext cx="1582920" cy="15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0" descr="Pavel_Igor"/>
            <p:cNvPicPr/>
            <p:nvPr/>
          </p:nvPicPr>
          <p:blipFill>
            <a:blip r:embed="rId3"/>
            <a:stretch/>
          </p:blipFill>
          <p:spPr>
            <a:xfrm>
              <a:off x="6370560" y="1916280"/>
              <a:ext cx="2160720" cy="19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1" descr="Vika"/>
            <p:cNvPicPr/>
            <p:nvPr/>
          </p:nvPicPr>
          <p:blipFill>
            <a:blip r:embed="rId4"/>
            <a:stretch/>
          </p:blipFill>
          <p:spPr>
            <a:xfrm>
              <a:off x="4211640" y="2302560"/>
              <a:ext cx="1873080" cy="14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2" descr="Ivan(1)"/>
            <p:cNvPicPr/>
            <p:nvPr/>
          </p:nvPicPr>
          <p:blipFill>
            <a:blip r:embed="rId5"/>
            <a:stretch/>
          </p:blipFill>
          <p:spPr>
            <a:xfrm>
              <a:off x="5219640" y="3615120"/>
              <a:ext cx="2089080" cy="17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3" descr="Владик"/>
            <p:cNvPicPr/>
            <p:nvPr/>
          </p:nvPicPr>
          <p:blipFill>
            <a:blip r:embed="rId6"/>
            <a:stretch/>
          </p:blipFill>
          <p:spPr>
            <a:xfrm>
              <a:off x="2554200" y="3383280"/>
              <a:ext cx="2149560" cy="153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333680" cy="3311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3933720"/>
            <a:ext cx="784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ahoma"/>
              </a:rPr>
              <a:t>В России издавна было принято брать детей-сирот на воспитание в семьи!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Счастлив тот ребенок, который родился в хорошей, доброй, умной семье. Но как быть детям, не по своей воле лишенным семейного очага, любви матери и заботы отца? У любого нормального человека слова «дети-сироты» не могут не вызывать сердечную боль. Человек, который хоть раз в жизни побывал в детском доме или в доме ребенка, никогда не забудет глаза брошенных детей. Их взгляд неестественно взрослый, настороженный, он совсем не похож на открытый взгляд «домашнего ребенка». Он как будто пронизывает тебя насквозь. У этих детей есть очень веские причины не доверять взрослым. Кто-то после посещения детского дома задумается и, возможно, в следующий раз придет за своим ребенком. Но принять в приемную семью или усыновить малыша – очень серьезный и обдуманный шаг, и не все из нас на него способны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Что же делать людям, которые реально хотят помочь детям-сиротам, но еще не готовы принять их в свою семью? У них тоже есть возможность помочь покинутому ребенку обрести свое счастье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96584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Для этого необходимо в управлении опеки и попечительства получить разрешение на пребывание воспитанника детского дома в выходные или праздничные дни в вашей семье, то есть вы можете брать ребенка в гости на выходные или каникулы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Собрав все необходимые документы, вы можете взять на несколько дней ребенка, обделенного родительской заботой. Возможно, кто-то после такого общения с детьми почувствует в себе силы и желание сделать покинутого ребенка новым членом своей семьи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15717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devo4ka1"/>
          <p:cNvPicPr/>
          <p:nvPr/>
        </p:nvPicPr>
        <p:blipFill>
          <a:blip r:embed="rId2"/>
          <a:stretch/>
        </p:blipFill>
        <p:spPr>
          <a:xfrm>
            <a:off x="6659640" y="3429000"/>
            <a:ext cx="2033640" cy="23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Владик в БД"/>
          <p:cNvPicPr/>
          <p:nvPr/>
        </p:nvPicPr>
        <p:blipFill>
          <a:blip r:embed="rId3"/>
          <a:stretch/>
        </p:blipFill>
        <p:spPr>
          <a:xfrm>
            <a:off x="5435640" y="4221000"/>
            <a:ext cx="115236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devo4ka"/>
          <p:cNvPicPr/>
          <p:nvPr/>
        </p:nvPicPr>
        <p:blipFill>
          <a:blip r:embed="rId4"/>
          <a:stretch/>
        </p:blipFill>
        <p:spPr>
          <a:xfrm>
            <a:off x="7236000" y="1484280"/>
            <a:ext cx="1511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9362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Усыновление (удочерение)</a:t>
            </a:r>
            <a:br>
              <a:rPr sz="1800"/>
            </a:b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Принятие в семью ребенка на правах кровного со всеми вытекающими отсюда правами и обязанностями. Является приоритетной формой устройства детей. Для родителей это- высшая степень ответственности за судьбу ребен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380988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1" i="1" lang="en-US" sz="1600" spc="-1" strike="noStrike">
                <a:solidFill>
                  <a:srgbClr val="333399"/>
                </a:solidFill>
                <a:latin typeface="Tahoma"/>
              </a:rPr>
              <a:t>Плюсы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Позволяет ребенку чувствовать себя полноценным членом семьи;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Законом закрепляется родственные отношения и право наследования;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Возможно присвоить ребенку фамилию усыновителя, поменять имя, число и дату рождения на 3 месяца в одну или другую сторону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38102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i="1" lang="ru-RU" sz="1600" spc="-1" strike="noStrike">
                <a:solidFill>
                  <a:srgbClr val="333399"/>
                </a:solidFill>
                <a:latin typeface="Tahoma"/>
              </a:rPr>
              <a:t>Минусы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олее жесткие требования (по сравнению с опекой) по материальному положению, жилью. Устанавливается гражданским судом, поэтому оформляется дольше, чем опека;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Государство не оказывает помощи после усыновления (исключение предоставление послеродового отпуска и выплат в связи с рождением ребенка, если усынавливается младенец;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 каждый ребенок может быть усыновлен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Опека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Ребенок принимается на правах воспитуемого до исполнения ему 18 лет (до 14-летнего возраста – опека, с 14 до 18 лет -  попечительство). Опекун имеет практически все права родителя в вопросах воспитания, обучения, содержания ребенка и ответственности за него. Органы опеки осуществляют контроль за условиями содержания, воспитания и образования ребенка. Высокий, но не полный уровень ответственности. Опека устанавливается решением главы местного самоуправл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2209320"/>
            <a:ext cx="380988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ahoma"/>
              </a:rPr>
              <a:t>Плюсы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енее жесткие по сравнению с усыновлением требования к доходу и жилищным условиям;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а опекаемого ребенка ежемесячно выплачиваются средства: на содержание, органы опеки оказывают содействие опекуну в организации обучения, отдыха и лечения ребенка;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По достижении совершеннолетия ребенку выделяется жилью, если его у него нет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3280" y="2133360"/>
            <a:ext cx="3810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                     </a:t>
            </a:r>
            <a:r>
              <a:rPr b="1" i="1" lang="en-US" sz="1400" spc="-1" strike="noStrike">
                <a:solidFill>
                  <a:srgbClr val="333399"/>
                </a:solidFill>
                <a:latin typeface="Tahoma"/>
              </a:rPr>
              <a:t>Минусы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Ребенок имеет статус воспитуемого и в подростковом возрасте может ощущать свою неполную принадлежность к семье опекуна;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ет тайны переедания ребенка под опеку и контакты с кровными родственниками ребенка возможны;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Смена фамилии ребенку затруднена, изменение места и даты рождения невозможно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Опекунам (попечителям) несовершеннолетних выплачиваются денежные средства на содержание приемного ребенка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опрос об усыновлении решается судом. Желающие усыновить ребенка подают в орган опеки и попечительства по месту своего жительства заявление с просьбой дать заключение о возможности быть усыновителями. Необходимые документы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699920"/>
            <a:ext cx="38098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краткая биография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справка с места работы с указанием должности и заработной платы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копия финансового лицевого счета, выписка из домовой книги с места жительства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справка органов внутренних дел об отсутствии судимости за умышленное преступление против жизни или здоровья граждан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медицинское заключение о состоянии здоровья, в том числе и психического, людей, желающих усыновить ребенка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копия свидетельства о браке (если вы в нем состоите);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паспорт.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Picture 5" descr="Kons1"/>
          <p:cNvPicPr/>
          <p:nvPr/>
        </p:nvPicPr>
        <p:blipFill>
          <a:blip r:embed="rId1"/>
          <a:stretch/>
        </p:blipFill>
        <p:spPr>
          <a:xfrm>
            <a:off x="826920" y="1989000"/>
            <a:ext cx="3600720" cy="374508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ак правило, супруги усыновляют ребенка, чтобы наполнить свою жизнь смыслом. Но очень часто взрослые не представляют, как поведет себя кроха в новых для него условиях, как будет проходить адаптация, какие наконец изменения может претерпеть их быт. Отсюда и непредвиденные трудности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Хочется заметить, что каждый возраст имеет свои преимущества и проблемы. В своей книге "Усыновление" психолог Галина Красницкая отмечает некоторые особенности: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5761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От рождения до года</a:t>
            </a:r>
            <a:r>
              <a:rPr b="0" i="1" lang="ru-RU" sz="1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Приемные родители начинают формировать личность практически с нуля. Но неизвестно, как протекала беременность биологической матери, как проходили роды, какие болезни и отклонения в развитии могут проявиться позже.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От года до 3 лет.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Видны особенности внешности, отчасти ясна картина состояния здоровья ребенка. Но в этом возрасте дети, как никогда, подвержены различным простудным и инфекционным заболеваниям.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От 3 до 7 лет</a:t>
            </a:r>
            <a:r>
              <a:rPr b="0" i="1" lang="ru-RU" sz="1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Ребенок более самостоятелен. Проявляются способности и интересы малыша. Но он помнит отдельные эпизоды из прошлой жизни, и, возможно, эти впечателения наложат негативный отпечаток на его сознание и поведение.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От 7 до 10 лет.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Уход за ребенком не требует много времени. Но если ему что-то не нравится, он "проявляет характер". В этот период у детей обостряется потребность иметь семью. Отношения могут складываться удачно, если есть психологическая совместимость. Взрослым трудно приспособиться к особенностям поведения, привычкам, чертам характера "чужого" малыша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04000" y="4221000"/>
            <a:ext cx="1513080" cy="223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04000" y="2133720"/>
            <a:ext cx="151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856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Если вы усыновили ребенка, попробуйте завоевать его доверие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2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      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принимайте его таким, какой он есть;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уделяйте малышу как можно больше внимания;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не сравнивайте его с другими детьми;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постарайтесь выявить способности ребенка;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не отождествляйте его личность с поступками;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держите данное вами слово. Если вы не можете выполнить данное обещание, лучше не давайте его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376360" cy="114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55640" y="3860640"/>
            <a:ext cx="7753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Редко кто отказывается от усыновленного ребенка, но иногда происходит и такое.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сли усыновители отказываются от ребенка, то они навсегда лишаются этого права. При этом они обязаны платить алименты и выделить приемным сыну или дочери жилплощадь.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Учитывая вышесказанное, принимая решение об усыновлении ребенка, следует запастись терпением. Это во-первых. Во-вторых, очень часто родители стараются "слепить" характер ребенка таким, как им хочется. Но нужно помнить, что еще только что родившийся малыш личность. Помните, ребенок может "взять" от кровных родителей предрасположенность к болезням (но не сами болезни), внешние черты, характер. Но он не унаследует ни воровство, ни хулиганство. Человека формирует окружающая среда, а значит, очень многое зависит от его новых воспитателей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376360" cy="208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404640"/>
            <a:ext cx="5832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Ребенок - самое близкое и дорогое в жизни каждого взрослого человека. Его первый крик, плач, его первая улыбка. Вот он уже подрос, делает первые шаги, с интересом изучает окружающий мир. Его первые слова "мама", "папа" - и Ваша жизнь наполняется новым содержанием. Потому что ребенок - то единственное существо, которое независимо от Ваших поступков и Вашего отношения к нему будет Вас любить и идеализировать.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Постепенно он станет совсем взрослым, но для Вас, родителей, он так и останется самым родным и близким человеком. Радость общения и любовь родителей, что может быть лучше для ребенка?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Но есть дети, которые растут без родителей, не зная ласки материнских рук, заботливой опеки отца. Ненужные никому дети, что может быть ужаснее? Разве может быть такое в цивилизованной стране? Разве не хочется им, чтобы был рядом родной человек, взял на ручки или поцеловал? Дети, оставшиеся без попечения родителей. Раньше их называли беспризорниками, сегодня - социальными сиротами.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Лишаясь семейного очага, ребенок автоматически теряет возможность реализовать свое право на свободное развитие личности, на проявление лучших своих качеств. Но самое печальное, воспитанники детских домов выходят в самостоятельную жизнь беззащитными, неподготовленными.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Если Вы хотите ребенка, но не можете иметь (например, из-за больших рисков здоровью), то оглянитесь вокруг, посмотрите, сколько есть детей, которые хотят иметь маму или папу, но не могут. Приезжайте в детский дом, пообщайтесь с теми детьми, для которых материнская ласка - предел мечтаний. 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Ребенок никогда не предаст. 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0:12:02Z</dcterms:created>
  <dc:creator>Admin</dc:creator>
  <dc:description/>
  <dc:language>en-US</dc:language>
  <cp:lastModifiedBy>COMPUTER</cp:lastModifiedBy>
  <dcterms:modified xsi:type="dcterms:W3CDTF">2012-11-05T12:41:59Z</dcterms:modified>
  <cp:revision>8</cp:revision>
  <dc:subject/>
  <dc:title>Слайд 1</dc:title>
</cp:coreProperties>
</file>