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715-C65E-41DB-AFB6-B2171E6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CCD-D814-4A23-ACD7-D07EA24C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A68-A719-409C-909D-F6D62718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82E-F57C-49A0-8B7E-CB2AE430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8A8-16AD-4BA8-A311-D5C47279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3CF6-ADA7-4EDC-AA99-6C5F4C9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01BB-6CD4-4D72-9FDF-1C03F68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1245-A5DB-4F82-8B90-9AAA31D7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F8F-797D-4C88-9BAB-40A896C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AD4-1A6C-46D8-AE74-0E2A4A6D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C149-30BB-4442-8578-B10FC9F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175-83EA-4A0D-9EDA-63EA45E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396-9324-4C77-8BCE-606F4E1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2479-DD3E-49E5-9215-B87427B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6BA4-E1C3-4ADB-A0FE-CF1D01A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0F16-730E-43D2-AD61-65FEE5D0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E95-CB6E-46A4-BDA2-9A9D801D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70CC-455C-4091-B1D0-E7F695AC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F375-3800-48B6-8969-1DF5DCF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46FD-E377-4AF0-8160-BBD6B12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0E94-6BD8-4A3C-9BF1-1F064C10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B976-C1B3-4B7B-A715-06F86F2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666-87FE-4AB7-8488-C19D4F1F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E6A2-55CB-41C3-96B7-F7C25EB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D6A1-055D-4779-B778-BD41B61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4E1A-D9AF-4D18-9DA8-F2FBD56D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8393-A5D1-49AF-AD7A-622169C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032E-F233-427C-A50A-D2F0118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7C49-78C8-4823-A328-11CCB66B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B0AE1-BEA2-4C3E-8A37-FF271676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272D-9106-427D-AA3C-A7D594F2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C73F-D19F-4AB5-B803-6ADEF39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1C60-B229-46BC-B63A-D38786B7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2E9-57D5-47FF-B4F3-AC6927E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D9A5-035E-46D5-9F47-012EC82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221B-271D-46D6-B113-21BEC21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3F1A-85C2-4450-A14F-1BAF5560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E8A7-527C-4896-A2F8-68DB5F6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FC76-B18C-4D8D-8E62-4EA5E8B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9155-EB44-4CF4-8C6F-6551336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3A62-1254-4F9F-9E52-96588ECC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D91B-BAFB-4048-BD0F-723CFF39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D0CB-4D4C-407A-BA6A-F224244E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58F8-0D3C-4968-999F-100323B9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5CB-17A4-4111-A041-51BD386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4AE5-2EA8-494E-91A9-83FB41A9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627D-B5F9-48D6-BF05-92C7DEEC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2D23-CC95-4119-98BC-7CAAB16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030D-3C87-4ED2-A07B-2679DE4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F4AE-EE59-4351-9EAA-EE54450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785B-B65B-4A9E-A185-6437597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2294-8EC1-4809-9CDB-FB564BF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6E784-9A0D-471B-8FC7-864AAA9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3FB0-A424-42F1-AF7C-985B1E97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616E-0E17-403B-8A2D-AE8FA752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FFE-0A6E-45B6-8406-B004DBB8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77C2-274A-40E8-B86D-37B6DDE0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579-7B9B-4F35-8821-2172A08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66B-518F-4F3C-B53B-B45C8F5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084-BD6D-4D5B-AFC5-EF89731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0ED-8557-40D5-81F9-72FB7F426AFF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6388-B52E-4A9D-AC0C-C90FB9F9D6D4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975-6E6D-4C63-9F7B-B217FDC26911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94C-DBE7-4CAE-B13D-C179DDA086F2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698-BA64-4885-BC0A-85A157EB964E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4995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4995"/>
                </a:solidFill>
                <a:latin typeface="Verdana"/>
              </a:rPr>
              <a:t>ПРЕЗЕНТАЦИЯ «РАЗНООБРАЗИЕ ПОТРЕБНОСТЕЙ»</a:t>
            </a:r>
            <a:endParaRPr b="1" lang="en-US" sz="41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Verdana"/>
              </a:rPr>
              <a:t>УРОК ЭКОНОМИКИ В 1 КЛАССЕ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втор: Горяева Т.В.  - учитель математики и эконом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требность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что хочет иметь человек в соответствии с культурным уровнем и личностью индиви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ужда 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щущаемое человеком чувство нехватки чего-либо для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ыбор 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ействия по отбор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ределению необходим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ИЗИОЛОГИЧЕСКИЕ ПОТРЕБНОСТИ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ищ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вод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тепл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возду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 не будут удовлетворены физиологические потребно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ругие потребности не возникают. Для удовлетворения потребностей используются благ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уществующие в природе и созданные тру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5071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Verdana"/>
              </a:rPr>
              <a:t>ПОТРЕБНОСТЬ В БЕЗОПАСНОСТИ И СОХРАНЕНИИ ЗДОРОВЬ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Verdana"/>
              </a:rPr>
              <a:t>Безопасность -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то состояние окружающей среды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при котором исключено причинение вреда существованию человек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Verdana"/>
              </a:rPr>
              <a:t>Стихийные бедствия –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есчастья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связанные с критическим состоянием природы(ураган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наводнени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землетрясение и пр.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Verdana"/>
              </a:rPr>
              <a:t>Здоровье –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авильная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нормальная деятельность организма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его физическое и психическое благополучие. Здоровый человек успевает работать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учиться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путешествовать и заниматься другими интересными дел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Verdana"/>
              </a:rPr>
              <a:t>Гигиена -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ука о чистоте и здоровье человек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Verdana"/>
              </a:rPr>
              <a:t>Безопасность и здоровье человека находятся в его собственных рука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судить смысл следующих пословиц и поговорок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b050"/>
                </a:solidFill>
                <a:latin typeface="Verdana"/>
              </a:rPr>
              <a:t>Здоровье дороже денег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b050"/>
                </a:solidFill>
                <a:latin typeface="Verdana"/>
              </a:rPr>
              <a:t>Здоров буду – и денег добуду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b050"/>
                </a:solidFill>
                <a:latin typeface="Verdana"/>
              </a:rPr>
              <a:t>Здоровому и горе не гор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b050"/>
                </a:solidFill>
                <a:latin typeface="Verdana"/>
              </a:rPr>
              <a:t>Спасение утопающих – дело рук самих утопающи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         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ТРЕБНОСТЬ В ОБРАЗОВ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бразование 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ение систематизированных знан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авык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буч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освещ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нания 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зн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0042"/>
                </a:solidFill>
                <a:latin typeface="Verdana"/>
              </a:rPr>
              <a:t>ОБРАЗОВ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ияет на экономику лич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емь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прият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государства и даже на мировую экономику. Все люди должны сначала получить общее образование в школ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 потом уже профессиональное образование. Профессиональное образование помогает людям правильно пользоваться оборудование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нструмента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вышать результаты тру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0042"/>
                </a:solidFill>
                <a:latin typeface="Verdana"/>
              </a:rPr>
              <a:t>Объясните почему говорят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Ученье – свет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«Знание – сил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ТРЕБНОСТЬ В ОБЩЕНИИ И УВАЖЕ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Verdana"/>
              </a:rPr>
              <a:t>Общение -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тно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еловые и дружеские связ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Verdana"/>
              </a:rPr>
              <a:t>Уважение -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тительное отнош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Verdana"/>
              </a:rPr>
              <a:t>Уважение между людьми возникает при культурном общении друг к другу. Успех дела зависит от совместной работы коллект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ПОТРЕБНОСТЬ В ПРОЯВЛЕНИИ ИНТЕРЕ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c0042"/>
                </a:solidFill>
                <a:latin typeface="Verdana"/>
              </a:rPr>
              <a:t>Интерес 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ое внимание к чему-нибуд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желание вникнуть в сут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узнат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ня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c0042"/>
                </a:solidFill>
                <a:latin typeface="Verdana"/>
              </a:rPr>
              <a:t>Самовыражение 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жение своих интересов и склонносте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воей индивидуаль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c0042"/>
                </a:solidFill>
                <a:latin typeface="Verdana"/>
              </a:rPr>
              <a:t>Все люди разные</a:t>
            </a:r>
            <a:r>
              <a:rPr b="1" lang="en-US" sz="2600" spc="-1" strike="noStrike">
                <a:solidFill>
                  <a:srgbClr val="9c0042"/>
                </a:solidFill>
                <a:latin typeface="Verdana"/>
              </a:rPr>
              <a:t>,</a:t>
            </a:r>
            <a:r>
              <a:rPr b="1" lang="ru-RU" sz="2600" spc="-1" strike="noStrike">
                <a:solidFill>
                  <a:srgbClr val="9c0042"/>
                </a:solidFill>
                <a:latin typeface="Verdana"/>
              </a:rPr>
              <a:t> и интересы у них разные</a:t>
            </a:r>
            <a:r>
              <a:rPr b="1" lang="en-US" sz="2600" spc="-1" strike="noStrike">
                <a:solidFill>
                  <a:srgbClr val="9c0042"/>
                </a:solidFill>
                <a:latin typeface="Verdana"/>
              </a:rPr>
              <a:t>,</a:t>
            </a:r>
            <a:r>
              <a:rPr b="1" lang="ru-RU" sz="2600" spc="-1" strike="noStrike">
                <a:solidFill>
                  <a:srgbClr val="9c0042"/>
                </a:solidFill>
                <a:latin typeface="Verdana"/>
              </a:rPr>
              <a:t> но у всех людей есть общая потребность – в проявлении своих интере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    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bd3"/>
                </a:solidFill>
                <a:latin typeface="Verdana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9:31:35Z</dcterms:created>
  <dc:creator>Admin</dc:creator>
  <dc:description/>
  <dc:language>en-US</dc:language>
  <cp:lastModifiedBy>Admin</cp:lastModifiedBy>
  <dcterms:modified xsi:type="dcterms:W3CDTF">2012-11-05T11:35:45Z</dcterms:modified>
  <cp:revision>13</cp:revision>
  <dc:subject/>
  <dc:title>Слайд 1</dc:title>
</cp:coreProperties>
</file>